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 algn="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74AA3107-37F1-4AD1-AE09-E28CD2593E4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57C489C-0D4C-45A0-B820-85077AFC275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F68-A315-4A5B-A9DC-E77A4A33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E36-E5E1-461F-BB3E-1F4816DF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77A-5EBE-47FC-B2BF-52D02DD8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FBD-A9AD-4312-AD97-D8DAFB46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5DA-E8B6-433A-8161-1D88B859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D2C-17AD-44AE-B3F6-66F27839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AD3-6856-47F9-A80F-2F52A66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B9C-0319-4BE1-86BB-07BD14F4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639-E0BE-4455-80ED-3BB3C6AA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7A2-1411-4714-B80B-5337930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B87-BBBF-4832-A7AD-D54B513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3C5-49F8-4A4C-B686-6A465503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2638-9224-4C65-83AB-9ED252CEC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31600" y="1252440"/>
            <a:ext cx="5900760" cy="23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132000" y="3645000"/>
            <a:ext cx="540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дратенко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ем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мячики подброс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 широко. Вытягивать язык вверх, забрасывая его на верхнюю губ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2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в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звонко бараба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ржать рот широко открытым. Стучать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внутренней поверхности верхних резцов, произно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-д-д-д-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untitled1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тихо отдых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закрыть. Язык спокойно лежит во 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992c17d522ecd28c5c780e27c96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8920" y="981000"/>
            <a:ext cx="5257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скорее улыбн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 улыбаться, растягивая г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294066214_motivator-6062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язык опустим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. Тянуться высунутым языком к подборо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d58eafd27cfa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язык наверх потя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. Тянуться высунутым языком к н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BABY_002018"/>
          <p:cNvPicPr/>
          <p:nvPr/>
        </p:nvPicPr>
        <p:blipFill>
          <a:blip r:embed="rId1"/>
          <a:stretch/>
        </p:blipFill>
        <p:spPr>
          <a:xfrm>
            <a:off x="3132000" y="1647720"/>
            <a:ext cx="51850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позев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 открывать рот и закры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eam-a-little-dream-of-me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варенье облиз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 и улыбнуться. Широким языком облизывать верхнюю губу. При этом стараться «обнять» языком сразу всю губу и облизать ее, втягивая язык вглубь рта. Рот не закр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depositphotos_25616237-Kid-eating-strawberry-jam (1)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ес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по нёбу постучать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ржать рот широко открытым. Стучать языком по небу (верхним резцам), произнося «д-д-д-д-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child_drums"/>
          <p:cNvPicPr/>
          <p:nvPr/>
        </p:nvPicPr>
        <p:blipFill>
          <a:blip r:embed="rId1"/>
          <a:stretch/>
        </p:blipFill>
        <p:spPr>
          <a:xfrm>
            <a:off x="3851280" y="1641600"/>
            <a:ext cx="337968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лошадка скачет звон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держать широко открытым. Улыбнуться. Медленно щелкать языком, присасывая его к небу и отрывая от него. Тянуть подъязычную с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1316543199_adele_enersen43_www_nevsepic_com_ua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Ваш ребенок еще не произносит трудные звуки, предложите ему выполнить эти несложные игровые комплексы артикуляционной гимна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мнастику целесообразно выполнять перед зеркалом, повторяя каждое упражнение 5-6 раз. Для взрослого имеется описание выполнения упражнений. Рекомендуется проводить один комплекс артикуляционных упражнений за один подход. Общая продолжительность занятия с детьми 4-5 лет не должна превышать семи минут, с детьми 6-7 лет — десяти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пражнения сопровождаются стихотворным текстом, который сначала читает взрослый, а затем (по мере запоминания) проговаривает ребе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ем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гриб на ножке то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 открыть рот и улыбнуться. Присосать язык к небу и не отрывать его. Тянуть нижнюю челюсть вниз, растягивая подъязычную с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307867086_20100827_411332_1282907645_irpr"/>
          <p:cNvPicPr/>
          <p:nvPr/>
        </p:nvPicPr>
        <p:blipFill>
          <a:blip r:embed="rId1"/>
          <a:stretch/>
        </p:blipFill>
        <p:spPr>
          <a:xfrm>
            <a:off x="3995640" y="1582560"/>
            <a:ext cx="33116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в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можно побол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 открыть рот. «Болтать» языком, проводя им вперед-назад по верхней губе: «бл-бл-бл-бл-бл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Spyaschiy_rebenok_11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нужно отдых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закрыть. Язык спокойно лежит во 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412953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зеваем шир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крывать широко рот и закры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funny-animals-part290-38"/>
          <p:cNvPicPr/>
          <p:nvPr/>
        </p:nvPicPr>
        <p:blipFill>
          <a:blip r:embed="rId1"/>
          <a:stretch/>
        </p:blipFill>
        <p:spPr>
          <a:xfrm>
            <a:off x="3132000" y="1628640"/>
            <a:ext cx="514368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131640" y="112536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лакаем мо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. Высунуть широкий язык. Выполнять лакательные движения язы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img_15033934_1951_0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язык до носа тя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. Тянуться высунутым языком к н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_3625_funny-animals-034"/>
          <p:cNvPicPr/>
          <p:nvPr/>
        </p:nvPicPr>
        <p:blipFill>
          <a:blip r:embed="rId1"/>
          <a:stretch/>
        </p:blipFill>
        <p:spPr>
          <a:xfrm>
            <a:off x="4067280" y="1627200"/>
            <a:ext cx="3325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тыр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опуск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. Тянуться высунутым языком к подборо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tiger-2010-14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как горка, язы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. Спрятать кончик языка за нижние зубы. Выгнуть спинку я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axdXKZ2_460s_v1"/>
          <p:cNvPicPr/>
          <p:nvPr/>
        </p:nvPicPr>
        <p:blipFill>
          <a:blip r:embed="rId1"/>
          <a:stretch/>
        </p:blipFill>
        <p:spPr>
          <a:xfrm>
            <a:off x="4067280" y="1628640"/>
            <a:ext cx="3395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он скачет: скок-скок-ск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держать широко открытым. Улыбнуться. Медленно щелкать языком, присасывая его к небу и отрывая от него. Тянуть подъязычную с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89673286"/>
          <p:cNvPicPr/>
          <p:nvPr/>
        </p:nvPicPr>
        <p:blipFill>
          <a:blip r:embed="rId1"/>
          <a:stretch/>
        </p:blipFill>
        <p:spPr>
          <a:xfrm>
            <a:off x="3564000" y="1628640"/>
            <a:ext cx="4370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грибок на длинной н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 открыть рот и улыбнуться. Присосать язык к небу и не отрывать его. Тянуть нижнюю челюсть вниз, растягивая подъязычную с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belka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зевнул в лесу мыш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крывать широко рот и закры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86956ead933d39c06e8a81391dac58f_b"/>
          <p:cNvPicPr/>
          <p:nvPr/>
        </p:nvPicPr>
        <p:blipFill>
          <a:blip r:embed="rId1"/>
          <a:stretch/>
        </p:blipFill>
        <p:spPr>
          <a:xfrm>
            <a:off x="3132000" y="1622520"/>
            <a:ext cx="51850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ем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стал язык «гармошк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крыть рот и улыбнуться. Присосать язык к небу, как в упражнении «Грибок». Язык от нёба не отрывать. Опускать и поднимать нижнюю челюсть, растягивать подъязычную с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382029678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в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в трубочку свер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приоткрыть. Высунуть широкий язык. Завернуть края языка внут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1328289336"/>
          <p:cNvPicPr/>
          <p:nvPr/>
        </p:nvPicPr>
        <p:blipFill>
          <a:blip r:embed="rId1"/>
          <a:stretch/>
        </p:blipFill>
        <p:spPr>
          <a:xfrm>
            <a:off x="4067280" y="1622520"/>
            <a:ext cx="345600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в домик свой вер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закрыть. Язык спокойно лежит во 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1312873121_041-rzhachnye-kartinki-za-09_08_2011-minimozg_ru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131640" y="1628640"/>
            <a:ext cx="5185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132000" y="2852640"/>
            <a:ext cx="51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уликовская Т.А. «Артикуляционная гимнастика в считалк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131640" y="112536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лакает суп кот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. Высунуть широкий язык. Выполнять лакательные движения язы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кошка_picture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лошадка поска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держать широко открытым. Улыбнуться. Медленно щелкать языком, присасывая его к небу и отрывая от него. Тянуть подъязычную с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350255420-0127152-www_nevsepic_com_ua"/>
          <p:cNvPicPr/>
          <p:nvPr/>
        </p:nvPicPr>
        <p:blipFill>
          <a:blip r:embed="rId1"/>
          <a:stretch/>
        </p:blipFill>
        <p:spPr>
          <a:xfrm>
            <a:off x="3132000" y="1614600"/>
            <a:ext cx="518508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постоя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 открыть рот и улыбнуться. Присосать язык к небу и не отрывать его. Тянуть нижнюю челюсть вниз, растягивая подъязычную с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4e690c59c1ef"/>
          <p:cNvPicPr/>
          <p:nvPr/>
        </p:nvPicPr>
        <p:blipFill>
          <a:blip r:embed="rId1"/>
          <a:stretch/>
        </p:blipFill>
        <p:spPr>
          <a:xfrm>
            <a:off x="3132000" y="1619280"/>
            <a:ext cx="51850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болтают индю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роко открыть рот. «Болтать» языком, проводя им вперед-назад по верхней губе: «бл-бл-бл-бл-бл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b7ofzv1e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ес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качели у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крыть рот. Тянуться языком то к носу, то к подбородку. Рот не закр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1791149"/>
          <p:cNvPicPr/>
          <p:nvPr/>
        </p:nvPicPr>
        <p:blipFill>
          <a:blip r:embed="rId1"/>
          <a:stretch/>
        </p:blipFill>
        <p:spPr>
          <a:xfrm>
            <a:off x="3132000" y="1628640"/>
            <a:ext cx="5185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в считалках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131640" y="981000"/>
            <a:ext cx="518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варенье мы попрос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68360" y="51577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т открыть и улыбнуться. Широким языком облизывать верхнюю губу. При этом стараться «обнять» языком сразу всю губу и облизать ее, втягивая язык вглубь рта. Рот не закр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04054963_varenieizkrasnoismorodini01"/>
          <p:cNvPicPr/>
          <p:nvPr/>
        </p:nvPicPr>
        <p:blipFill>
          <a:blip r:embed="rId1"/>
          <a:stretch/>
        </p:blipFill>
        <p:spPr>
          <a:xfrm>
            <a:off x="3067200" y="1882800"/>
            <a:ext cx="52498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09:26:24Z</dcterms:created>
  <dc:creator>Admin</dc:creator>
  <dc:description/>
  <dc:language>en-US</dc:language>
  <cp:lastModifiedBy>Пользователь Windows</cp:lastModifiedBy>
  <dcterms:modified xsi:type="dcterms:W3CDTF">2018-01-29T15:32:05Z</dcterms:modified>
  <cp:revision>36</cp:revision>
  <dc:subject/>
  <dc:title>Артикуляционная гимнастика в считалках</dc:title>
</cp:coreProperties>
</file>