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EFB-2A58-47B9-B157-0FAD69DB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5AD-51A9-49ED-9C09-BF48C8D6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1B5-555D-44C8-9793-52565AC2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9ED-F088-4020-A634-B13424D9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7E8F-2D9D-4E4D-9C1D-7906108F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0154-C373-4944-AE0B-9DFE2701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F846-07B9-40F5-B344-9FE305B8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D430-F71D-4A67-BCDB-B40C7104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D602-5EA6-499E-B171-4F12B4DE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A2E3-9817-4C09-A4CB-3AEB50DB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B910-C25A-4368-9B76-E60C02B5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0C7-5C47-4108-9D01-6745EA9E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67CE-ABBA-4969-9CE5-E9A1F43F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8B65-68F6-499F-BCC8-00FD3238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1141-670D-409B-B585-432C9382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870A-6D21-4475-95C6-1D25391A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40F0-7B63-45C5-AE0E-91259204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A21-ED15-49BF-A6B2-AEA4E943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999-210D-4CBC-ACC6-74118E15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95B-46AD-4948-ABBC-6BBE8EC8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E18-C382-47A6-80F9-5CF048A5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E38-1EED-47ED-BF5F-FFAB4B17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340-653A-49BB-889B-CC5B57C8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0BF-D2EB-4294-B3D2-0A340751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E1D7-AA4F-44D5-9EC6-621683E6E5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9988-B1B4-4B56-85AF-D0ADB11A874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69660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da65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4eda65"/>
                </a:solidFill>
                <a:latin typeface="Arial"/>
              </a:rPr>
              <a:t>Родителям в копилку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Артикуляционная гимнастика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Делаем вместе с нами!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5" descr="010"/>
          <p:cNvPicPr/>
          <p:nvPr/>
        </p:nvPicPr>
        <p:blipFill>
          <a:blip r:embed="rId1"/>
          <a:stretch/>
        </p:blipFill>
        <p:spPr>
          <a:xfrm>
            <a:off x="380880" y="457200"/>
            <a:ext cx="2374920" cy="13892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6"/>
          <p:cNvSpPr/>
          <p:nvPr/>
        </p:nvSpPr>
        <p:spPr>
          <a:xfrm>
            <a:off x="1828800" y="5548680"/>
            <a:ext cx="50626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da65"/>
                </a:solidFill>
                <a:latin typeface="Arial"/>
              </a:rPr>
              <a:t>МАДОУ ЦРР д/с № 11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da65"/>
                </a:solidFill>
                <a:latin typeface="Arial"/>
              </a:rPr>
              <a:t>г. Калинингра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1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«Вкусное варенье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4eda65"/>
                </a:solidFill>
                <a:latin typeface="Arial"/>
              </a:rPr>
              <a:t>Губы растянуты в улыбке, зубы разомкнуты. Широким языком облизать верхнюю губу сверху вниз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8" name="Picture 6" descr="P1020271"/>
          <p:cNvPicPr/>
          <p:nvPr/>
        </p:nvPicPr>
        <p:blipFill>
          <a:blip r:embed="rId1"/>
          <a:stretch/>
        </p:blipFill>
        <p:spPr>
          <a:xfrm>
            <a:off x="1905120" y="2743200"/>
            <a:ext cx="4559040" cy="33526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«Грибок»</a:t>
            </a:r>
            <a:br>
              <a:rPr sz="2800"/>
            </a:br>
            <a:r>
              <a:rPr b="1" lang="ru-RU" sz="2800" spc="-1" strike="noStrike">
                <a:solidFill>
                  <a:srgbClr val="4eda65"/>
                </a:solidFill>
                <a:latin typeface="Arial"/>
              </a:rPr>
              <a:t>Широкий язык присосать к твердому нёбу, улыбнуться и постепенно открывать рот. Удерживать позу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05320" y="2438280"/>
            <a:ext cx="8380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5" descr="P1020272"/>
          <p:cNvPicPr/>
          <p:nvPr/>
        </p:nvPicPr>
        <p:blipFill>
          <a:blip r:embed="rId1"/>
          <a:stretch/>
        </p:blipFill>
        <p:spPr>
          <a:xfrm>
            <a:off x="1447920" y="2209680"/>
            <a:ext cx="5016240" cy="3530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«Чашечка»</a:t>
            </a:r>
            <a:br>
              <a:rPr sz="2800"/>
            </a:br>
            <a:r>
              <a:rPr b="1" lang="ru-RU" sz="2800" spc="-1" strike="noStrike">
                <a:solidFill>
                  <a:srgbClr val="4eda65"/>
                </a:solidFill>
                <a:latin typeface="Arial"/>
              </a:rPr>
              <a:t>Рот широко открыть, сделать «блинчик», завернуть края широкого языка вверх. Удерживать позу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9520" y="3657600"/>
            <a:ext cx="83844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P1020273"/>
          <p:cNvPicPr/>
          <p:nvPr/>
        </p:nvPicPr>
        <p:blipFill>
          <a:blip r:embed="rId1"/>
          <a:stretch/>
        </p:blipFill>
        <p:spPr>
          <a:xfrm>
            <a:off x="1447920" y="2438280"/>
            <a:ext cx="5016240" cy="36831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«Лошадка»</a:t>
            </a:r>
            <a:br>
              <a:rPr sz="2800"/>
            </a:br>
            <a:r>
              <a:rPr b="1" lang="ru-RU" sz="2800" spc="-1" strike="noStrike">
                <a:solidFill>
                  <a:srgbClr val="4eda65"/>
                </a:solidFill>
                <a:latin typeface="Arial"/>
              </a:rPr>
              <a:t>цокать, широко открывая рот. Если ребенок не может сделать, то делаем сначала «грибок» и с силой щёлкаем. Цокаем медленно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429000" y="3047760"/>
            <a:ext cx="1828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5" descr="P1020272"/>
          <p:cNvPicPr/>
          <p:nvPr/>
        </p:nvPicPr>
        <p:blipFill>
          <a:blip r:embed="rId1"/>
          <a:stretch/>
        </p:blipFill>
        <p:spPr>
          <a:xfrm>
            <a:off x="1905120" y="2666880"/>
            <a:ext cx="4635360" cy="3454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Успехов Вам и Вашему малышу 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желают дети логопедической группы и учитель-логопед Захарова Оксана Юрьевна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9" name="Рисунок 1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5291280" cy="35049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Если Вы обеспокоены речью Вашего малыша, то эта презентация для Вас!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da65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4eda65"/>
                </a:solidFill>
                <a:latin typeface="Arial"/>
              </a:rPr>
              <a:t>Очень часто, играя с ребенком в песочнице, гуляя с ним, мы замечаем, что говорит наш ребенок хуже своих сверстник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da65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4eda65"/>
                </a:solidFill>
                <a:latin typeface="Arial"/>
              </a:rPr>
              <a:t>Мамы огорчаются, не знают, что делать, ищут совета… А ведь каждая мама в силах помочь своему малышу! Нужно просто захотеть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da65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4eda65"/>
                </a:solidFill>
                <a:latin typeface="Arial"/>
              </a:rPr>
              <a:t>Бывает, что без логопеда не справиться. А бывает, стоит только показать, как правильно поставить язычок во рту и…..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da65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4eda65"/>
                </a:solidFill>
                <a:latin typeface="Arial"/>
              </a:rPr>
              <a:t>В этом Вам поможет артикуляционная гимнастик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4" descr="010"/>
          <p:cNvPicPr/>
          <p:nvPr/>
        </p:nvPicPr>
        <p:blipFill>
          <a:blip r:embed="rId1"/>
          <a:stretch/>
        </p:blipFill>
        <p:spPr>
          <a:xfrm>
            <a:off x="5334120" y="5468760"/>
            <a:ext cx="2374920" cy="13892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Артикуляционная гимнастика – это комплекс специальных упражнений, которые помогают тренировать мышцы языка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752120"/>
            <a:ext cx="7386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da65"/>
                </a:solidFill>
                <a:latin typeface="Arial"/>
              </a:rPr>
              <a:t>Правила выполнени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da65"/>
                </a:solidFill>
                <a:latin typeface="Arial"/>
              </a:rPr>
              <a:t>артикуляционной гимнастики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упражнения выполнять перед зеркалом</a:t>
            </a: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лучше до ед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упражнения выполнять ежедневн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на первых этапах лучше со взрослы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da65"/>
                </a:solidFill>
                <a:latin typeface="Arial"/>
              </a:rPr>
              <a:t>Итак, делаем вместе с нами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1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«Блинчик»</a:t>
            </a:r>
            <a:br>
              <a:rPr sz="2800"/>
            </a:br>
            <a:r>
              <a:rPr b="1" lang="ru-RU" sz="2800" spc="-1" strike="noStrike">
                <a:solidFill>
                  <a:srgbClr val="4eda65"/>
                </a:solidFill>
                <a:latin typeface="Arial"/>
              </a:rPr>
              <a:t>рот широко открыть, широкий язык распластать на нижней губе. Удерживаем позу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Picture 9" descr="P1020266"/>
          <p:cNvPicPr/>
          <p:nvPr/>
        </p:nvPicPr>
        <p:blipFill>
          <a:blip r:embed="rId1"/>
          <a:stretch/>
        </p:blipFill>
        <p:spPr>
          <a:xfrm>
            <a:off x="1523880" y="2895480"/>
            <a:ext cx="4559400" cy="3454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«Трубочка»</a:t>
            </a:r>
            <a:br>
              <a:rPr sz="2400"/>
            </a:br>
            <a:r>
              <a:rPr b="1" lang="ru-RU" sz="2800" spc="-1" strike="noStrike">
                <a:solidFill>
                  <a:srgbClr val="4eda65"/>
                </a:solidFill>
                <a:latin typeface="Arial"/>
              </a:rPr>
              <a:t>вытянуть губы вперед, как при звуке «У». Удерживаем позу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Picture 6" descr="P1020265"/>
          <p:cNvPicPr/>
          <p:nvPr/>
        </p:nvPicPr>
        <p:blipFill>
          <a:blip r:embed="rId1"/>
          <a:stretch/>
        </p:blipFill>
        <p:spPr>
          <a:xfrm>
            <a:off x="1523880" y="1981080"/>
            <a:ext cx="4953240" cy="3581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«Заборчик»</a:t>
            </a:r>
            <a:br>
              <a:rPr sz="2800"/>
            </a:br>
            <a:r>
              <a:rPr b="1" lang="ru-RU" sz="2800" spc="-1" strike="noStrike">
                <a:solidFill>
                  <a:srgbClr val="4eda65"/>
                </a:solidFill>
                <a:latin typeface="Arial"/>
              </a:rPr>
              <a:t>Зубы сомкнуть, улыбнуться так, чтобы были видны и нижние и верхние зубки. Удерживаем позу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14600" y="3276720"/>
            <a:ext cx="2286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5" descr="P1020264"/>
          <p:cNvPicPr/>
          <p:nvPr/>
        </p:nvPicPr>
        <p:blipFill>
          <a:blip r:embed="rId1"/>
          <a:stretch/>
        </p:blipFill>
        <p:spPr>
          <a:xfrm>
            <a:off x="2057400" y="2286000"/>
            <a:ext cx="4178160" cy="3149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«Горка»</a:t>
            </a:r>
            <a:br>
              <a:rPr sz="2800"/>
            </a:br>
            <a:r>
              <a:rPr b="1" lang="ru-RU" sz="2800" spc="-1" strike="noStrike">
                <a:solidFill>
                  <a:srgbClr val="4eda65"/>
                </a:solidFill>
                <a:latin typeface="Arial"/>
              </a:rPr>
              <a:t>Рот широко открыть, зубы разомкнуть. Кончик языка упирается за нижние зубки. Спинку языка выгнуть. Удерживаем позу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76720" y="3352680"/>
            <a:ext cx="1676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5" descr="P1020267"/>
          <p:cNvPicPr/>
          <p:nvPr/>
        </p:nvPicPr>
        <p:blipFill>
          <a:blip r:embed="rId1"/>
          <a:stretch/>
        </p:blipFill>
        <p:spPr>
          <a:xfrm>
            <a:off x="1600200" y="2590920"/>
            <a:ext cx="5105520" cy="35049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«Качели»</a:t>
            </a:r>
            <a:br>
              <a:rPr sz="2800"/>
            </a:br>
            <a:r>
              <a:rPr b="1" lang="ru-RU" sz="2800" spc="-1" strike="noStrike">
                <a:solidFill>
                  <a:srgbClr val="4eda65"/>
                </a:solidFill>
                <a:latin typeface="Arial"/>
              </a:rPr>
              <a:t>Рот широко открыть, кончик языка упирается то за верхние зубки, то за нижние. Движения медленные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6" descr="P1020267"/>
          <p:cNvPicPr/>
          <p:nvPr/>
        </p:nvPicPr>
        <p:blipFill>
          <a:blip r:embed="rId1"/>
          <a:stretch/>
        </p:blipFill>
        <p:spPr>
          <a:xfrm>
            <a:off x="228600" y="2666880"/>
            <a:ext cx="3429000" cy="2667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P1020268"/>
          <p:cNvPicPr/>
          <p:nvPr/>
        </p:nvPicPr>
        <p:blipFill>
          <a:blip r:embed="rId2"/>
          <a:stretch/>
        </p:blipFill>
        <p:spPr>
          <a:xfrm>
            <a:off x="3962520" y="2666880"/>
            <a:ext cx="3568680" cy="26672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«Часики»</a:t>
            </a:r>
            <a:br>
              <a:rPr sz="2800"/>
            </a:br>
            <a:r>
              <a:rPr b="1" lang="ru-RU" sz="2800" spc="-1" strike="noStrike">
                <a:solidFill>
                  <a:srgbClr val="4eda65"/>
                </a:solidFill>
                <a:latin typeface="Arial"/>
              </a:rPr>
              <a:t>Губы растянуты в улыбки, зубы разомкнуты. Прямой язык двигается то к правому уголку рта, то к левому. Делаем медленно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5" name="Picture 6" descr="P1020269"/>
          <p:cNvPicPr/>
          <p:nvPr/>
        </p:nvPicPr>
        <p:blipFill>
          <a:blip r:embed="rId1"/>
          <a:stretch/>
        </p:blipFill>
        <p:spPr>
          <a:xfrm>
            <a:off x="228600" y="2819520"/>
            <a:ext cx="3581280" cy="2971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P1020270"/>
          <p:cNvPicPr/>
          <p:nvPr/>
        </p:nvPicPr>
        <p:blipFill>
          <a:blip r:embed="rId2"/>
          <a:stretch/>
        </p:blipFill>
        <p:spPr>
          <a:xfrm>
            <a:off x="4114800" y="2819520"/>
            <a:ext cx="3492360" cy="2997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1:13:52Z</dcterms:created>
  <dc:creator>admin</dc:creator>
  <dc:description/>
  <dc:language>en-US</dc:language>
  <cp:lastModifiedBy>NOT</cp:lastModifiedBy>
  <dcterms:modified xsi:type="dcterms:W3CDTF">2018-01-29T19:21:4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