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16E-1445-4FC8-A152-6090E669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997-2C35-4F8B-B469-61E4276A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6C3-6F9B-47CB-AAFF-0D4DF882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529-A0C6-41C0-B648-DDDA92F5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373-D7BC-43F5-A57E-C4780CB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D51-F664-44F0-95FD-FA1E78D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51A-25B6-44F1-9FD4-2F4C118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58A-FCD3-48E7-A43F-7861CD67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8A1-F684-4BBC-AE2A-C2A1CE59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CDD-DBA9-4412-ADAE-23FEBDD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B95-F4A0-4277-8282-302EE17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E13-E977-4A71-89EB-73AF31B4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7341-93C9-4666-B4C4-0129F29D4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6.png"/><Relationship Id="rId13" Type="http://schemas.openxmlformats.org/officeDocument/2006/relationships/image" Target="../media/image1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7"/>
          <p:cNvSpPr/>
          <p:nvPr/>
        </p:nvSpPr>
        <p:spPr>
          <a:xfrm rot="1261200">
            <a:off x="5363640" y="3357360"/>
            <a:ext cx="1059120" cy="1253880"/>
          </a:xfrm>
          <a:custGeom>
            <a:avLst/>
            <a:gdLst>
              <a:gd name="textAreaLeft" fmla="*/ 0 w 1059120"/>
              <a:gd name="textAreaRight" fmla="*/ 878400 w 1059120"/>
              <a:gd name="textAreaTop" fmla="*/ 969480 h 1253880"/>
              <a:gd name="textAreaBottom" fmla="*/ 1040040 h 125388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custGeom>
            <a:avLst/>
            <a:gdLst>
              <a:gd name="textAreaLeft" fmla="*/ 0 w 1173240"/>
              <a:gd name="textAreaRight" fmla="*/ 973080 w 1173240"/>
              <a:gd name="textAreaTop" fmla="*/ 1034640 h 1338120"/>
              <a:gd name="textAreaBottom" fmla="*/ 1109880 h 1338120"/>
            </a:gdLst>
            <a:ahLst/>
            <a:rect l="textAreaLeft" t="textAreaTop" r="textAreaRight" b="textAreaBottom"/>
            <a:pathLst>
              <a:path w="21600" h="21600">
                <a:moveTo>
                  <a:pt x="17306" y="0"/>
                </a:moveTo>
                <a:lnTo>
                  <a:pt x="13012" y="0"/>
                </a:lnTo>
                <a:lnTo>
                  <a:pt x="16700" y="0"/>
                </a:lnTo>
                <a:lnTo>
                  <a:pt x="16700" y="16700"/>
                </a:lnTo>
                <a:lnTo>
                  <a:pt x="0" y="16700"/>
                </a:lnTo>
                <a:lnTo>
                  <a:pt x="0" y="13012"/>
                </a:lnTo>
                <a:lnTo>
                  <a:pt x="0" y="17306"/>
                </a:lnTo>
                <a:lnTo>
                  <a:pt x="0" y="21600"/>
                </a:lnTo>
                <a:lnTo>
                  <a:pt x="0" y="17912"/>
                </a:lnTo>
                <a:lnTo>
                  <a:pt x="17912" y="17912"/>
                </a:lnTo>
                <a:lnTo>
                  <a:pt x="17912" y="0"/>
                </a:lnTo>
                <a:lnTo>
                  <a:pt x="21600" y="0"/>
                </a:lnTo>
                <a:lnTo>
                  <a:pt x="17306" y="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пор1051.wav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138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5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0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2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5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2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2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262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265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2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268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271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27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277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27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280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Zverdvd.org</cp:lastModifiedBy>
  <dcterms:modified xsi:type="dcterms:W3CDTF">2017-12-04T08:34:57Z</dcterms:modified>
  <cp:revision>48</cp:revision>
  <dc:subject/>
  <dc:title>Слайд 1</dc:title>
</cp:coreProperties>
</file>