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1C8E-AA16-4EC5-986E-AC45E196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499-358F-46B3-9C6C-CF63CDF3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CEC-43BD-44DD-B587-AE638798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BAC3-81C2-47C5-B109-D1E3AFDA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69AF-91C0-4BCA-A93B-12E7E553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DD6A-9BA2-4371-9FE2-265FE498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439E-C017-412C-9C06-CD524549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9186-371C-4E07-94A6-8C4060C7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E113-E4ED-42F7-858C-0736ACBF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1BE8-0B57-48A2-9F01-9E4F1A85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D208-82B4-40D2-BCA4-119C056E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BF4-CB12-484D-A58C-0F375FBA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B376-F732-4932-8B65-6DB58799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0151-8068-4A3F-A2C1-835FF50A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2B92-A72D-4E72-9ACE-581A7697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5724-BF15-4866-97B8-C3C3C45A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E4C6-CD47-4AFD-9A2A-53EF005E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1DAA-375B-47CC-A4BB-898CFB3F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D154-9203-440F-854C-F595DB2C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DC4-FCF6-43AE-B856-0CF04C04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BB8B-451F-4DF0-BF9E-B5CE0729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B49-8585-4C5C-9035-F43F22A7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862-5670-4CBB-8E45-B80AEEC7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8CB1-682D-4124-BC8F-FE05F34F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4B7B-9B67-498E-B96A-36114943D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8F63-B21F-4F1D-9F04-795E74D6CD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Доброта        смелость злость           зависть честность      трусость  уважение       юмор хвастовство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Ан, Ал, Та, Ол, Ксе, Се, Ро, Д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Arial"/>
              </a:rPr>
              <a:t>Как хорошо уметь читать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Читалоч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10480" cy="4395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656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С книгой поведёшься,          а знания - из книг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Сама молчит,                        тот много зна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Золото добывают                ума наберёшьс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з земли,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то много читает,                      а сто друзей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аучить мож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181480" cy="4956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715000" y="32767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23880" y="-7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Увлекательнее чтен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ичего на свете нет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9T16:01:36Z</dcterms:created>
  <dc:creator>Борис</dc:creator>
  <dc:description/>
  <dc:language>en-US</dc:language>
  <cp:lastModifiedBy>Борис</cp:lastModifiedBy>
  <dcterms:modified xsi:type="dcterms:W3CDTF">2018-01-29T17:01:2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