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applause.wav" ContentType="audio/x-wav"/>
  <Override PartName="/ppt/media/image2.jpeg" ContentType="image/jpeg"/>
  <Override PartName="/ppt/media/chimes.wav" ContentType="audio/x-wav"/>
  <Override PartName="/ppt/media/image3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6AA3-2D6B-4BC5-9F60-12F0B6E6AF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FB87-5AD8-4892-B1A4-A2388B7AEE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6AB-63FD-477A-9234-28B3131C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B683-8080-4309-A460-DD45BA09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7B4-D04B-48AF-AFA4-D75501A9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E951-4F14-4517-9179-7891574B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93A5-BBCB-4078-B616-E8EF967F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0271-3442-4DB5-946E-D2C75128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6C54-BC06-4A94-B7F2-79A2D70C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E122-D20F-44C5-8A0E-26D7D26C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72C7-D0C6-4902-858F-E0F79448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DDFE-AEFE-422C-8B9F-82328B64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A147-E7D3-4338-BEB5-6E684C17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BE9-26E8-44F4-919B-CD2B6480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BA9D-9ADD-4BD3-A152-D87B1A56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41C6-CFE9-4313-AD50-25959452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E5DF-CEDA-4387-B487-32634C95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8856-FAFE-4758-BEF7-BB7DDD62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CFC5-E13A-4F23-9E57-837D3C79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E6B-ED25-4ED5-AAE5-5015E494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18FB-ADE9-458F-BB68-016B1AB1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DFE-6458-4C3C-A340-96332F1F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88B-402B-4FA9-B8D7-A778FC24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3BA-8727-4CE7-A801-D4FD0AAE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7F69-C919-4073-B42E-59D335F5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58F9-8E2B-44B9-8DF6-02D2B43C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ACC7-905C-4ED2-8813-20399B400F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5f7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4e5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d6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eb88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eb88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d6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d6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ea1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ea1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ea1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ea1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ea1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ea1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ea1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ea1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ea1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ea1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ea1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ea1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ea1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ea1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ea1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ea1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ea1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ea1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ea1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ea15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4e5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d6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d6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5f77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4e5b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3CD3-1FBE-4DC8-9C80-9D9E8F5413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d6ec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105c"/>
                </a:solidFill>
                <a:latin typeface="Verdana"/>
              </a:rPr>
              <a:t>Классный час.</a:t>
            </a:r>
            <a:br>
              <a:rPr sz="4400"/>
            </a:br>
            <a:r>
              <a:rPr b="1" lang="ru-RU" sz="4400" spc="-1" strike="noStrike">
                <a:solidFill>
                  <a:srgbClr val="b0105c"/>
                </a:solidFill>
                <a:latin typeface="Verdana"/>
              </a:rPr>
              <a:t>2 класс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187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Verdana"/>
              </a:rPr>
              <a:t>«Школьный дневник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аровози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Рисунок 28" descr="http://tbn0.google.com/images?q=tbn:EC_QlnBIeaDIUM:http://www.wteam.info/uploads/posts/2008-04/1207587152_pic_id3269.jpeg"/>
          <p:cNvPicPr/>
          <p:nvPr/>
        </p:nvPicPr>
        <p:blipFill>
          <a:blip r:embed="rId1"/>
          <a:srcRect l="0" t="12200" r="0" b="1220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12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«Второклассник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5880" y="2785680"/>
            <a:ext cx="77724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О- ШО- ШО- ЖИВЁМ…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ЛЫ- ЛЫ-ЛЫ-ВСЕ СЕГОДНЯ…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К- ИК- ИК—ОЖИВАЙ СКОРЕЙ….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85880" y="64260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Verdana"/>
              </a:rPr>
              <a:t>Угадай к кому в гости мы поедем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440" y="4143240"/>
            <a:ext cx="548640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танция «Дневник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440" y="5072040"/>
            <a:ext cx="5486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рать портф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спланировать ден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оценивать зн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Рисунок 22" descr="http://tbn0.google.com/images?q=tbn:E8BhEb6d_MYxiM:http://www.valtersunrapa.lv/poligrafija/foto/prv/calendars_7853_95.jpg"/>
          <p:cNvPicPr/>
          <p:nvPr/>
        </p:nvPicPr>
        <p:blipFill>
          <a:blip r:embed="rId1"/>
          <a:srcRect l="0" t="9157" r="0" b="9157"/>
          <a:stretch/>
        </p:blipFill>
        <p:spPr>
          <a:xfrm>
            <a:off x="1792440" y="857160"/>
            <a:ext cx="342252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440" y="3642840"/>
            <a:ext cx="5486400" cy="17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0105c"/>
                </a:solidFill>
                <a:latin typeface="Verdana"/>
              </a:rPr>
              <a:t>Станция «Школьная жизнь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440" y="536688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Verdana"/>
              </a:rPr>
              <a:t>О чём может рассказать ваш дневник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rcRect l="0" t="23034" r="0" b="23034"/>
          <a:stretch/>
        </p:blipFill>
        <p:spPr>
          <a:xfrm>
            <a:off x="1792440" y="214200"/>
            <a:ext cx="4994280" cy="3357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15160" y="5357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22702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1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4240" y="4429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Verdana"/>
              </a:rPr>
              <a:t>УЧИСЬ АККУРАТНО ВЕСТИ ЗАПИСИ В ДНЕВНИКЕ 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22160" y="928440"/>
            <a:ext cx="7772400" cy="34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Verdana"/>
              </a:rPr>
              <a:t>Отгадай запись!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Т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ГЛ.Яз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.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7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7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7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7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7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7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292896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ЕЖДЕ ЧЕМ ПОЙДЁШЬ ТЫ В ШКОЛУ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ЗАГЛЯНИ-КА В СВОЙ ПОРТФЕЛЬ: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СЕ К УРОКАМ ТАМ ГОТОВО?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СЁ НА МЕСТЕ? ТЫ ПРОВЕРЬ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С УВАЖЕНЬЕМ ,ВАШ ПОРТФ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71388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35faa"/>
                </a:solidFill>
                <a:latin typeface="Verdana"/>
              </a:rPr>
              <a:t>Письмо от портфеля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j0214098.wav" descr=""/>
          <p:cNvPicPr/>
          <p:nvPr/>
        </p:nvPicPr>
        <p:blipFill>
          <a:blip r:embed="rId1"/>
          <a:stretch/>
        </p:blipFill>
        <p:spPr>
          <a:xfrm>
            <a:off x="771516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440" y="2928600"/>
            <a:ext cx="548640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35faa"/>
                </a:solidFill>
                <a:latin typeface="Verdana"/>
              </a:rPr>
              <a:t>Родительская станция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0304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ставить подпись за неделю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2" descr="C:\Program Files\Microsoft Office\MEDIA\CAGCAT10\j0297551.wmf"/>
          <p:cNvPicPr/>
          <p:nvPr/>
        </p:nvPicPr>
        <p:blipFill>
          <a:blip r:embed="rId2"/>
          <a:stretch/>
        </p:blipFill>
        <p:spPr>
          <a:xfrm>
            <a:off x="3286080" y="642960"/>
            <a:ext cx="30718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Лучшие дневники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0:11:14Z</dcterms:created>
  <dc:creator>1</dc:creator>
  <dc:description/>
  <dc:language>en-US</dc:language>
  <cp:lastModifiedBy>1</cp:lastModifiedBy>
  <dcterms:modified xsi:type="dcterms:W3CDTF">2008-10-26T10:59:35Z</dcterms:modified>
  <cp:revision>5</cp:revision>
  <dc:subject/>
  <dc:title>Классный час. 2 класс</dc:title>
</cp:coreProperties>
</file>