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8CD-9AC8-40AE-A53F-CD1C966B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02B-E1FA-4CDD-A6DF-12A7BAA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5A6-5B64-4D93-BCE8-92A21864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AFA-90C0-4B63-97CF-A4C966B2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779-A169-4EC9-B6BB-A3E4867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518-645D-4997-B8BB-368585A4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98F-6F82-4853-BB6E-7C66AD6F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C58-A5F1-4A6A-B020-276CACB0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8B5-824A-467E-9C57-D70B01F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B93-2179-4F6F-ABCD-C979823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DFA-3FA1-4C7D-8361-E0E4599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F27-F38E-4F27-8FC2-A94D30C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B5648-BDBC-45C4-AE19-C7628498D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239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Методические рекомендации</a:t>
            </a:r>
            <a:br>
              <a:rPr sz="3600"/>
            </a:b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по оформлению письменных работ учащихся школы первой ступен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творчески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русскому язы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егося 2 класса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Ка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анова Нико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милию и полное имя следует писать в форме родительного падежа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Фамилию пишем на первом месте, а затем пишем полное им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формление письменных работ по русскому язы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классной и домашней работы следует отступать две строчки ( пишем на треть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красной строки делается отступ вправо не менее 2 см(два пальц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работы строчки не пропуск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формление письменных работ по русскому язы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страница начинается с самой верхней строки, дописывается до конца страницы, включая последнюю ст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ва при оформлении каждой строки отступается от края не более 0,5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а строка дописывается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правил переноса обяз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опускается необоснованное наличие пустых мест на ст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сь даты написания работы по русскому языку (и математике) ведется по центру рабочей стр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сь названия работы проводится на следующей рабочей строке (без пропуска) по центру и оформляется как предложение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я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над ошиб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упражнение пишется полностью со 2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ускается краткая и полная форма записи (по центру строк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зец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пражнение 23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.23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, требующей записи в столбик, первое слово пишется с большой буквы. Знаки препинания (запятые) не ставя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выполнении подобного вида работы в строчку первое слово пишется с красной строки, с большой буквы, через запят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тер, восток,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значения над словами выполняются ручкой, а также простым 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острозаточенным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андаш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подчеркивания делаются п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нейке только карандаш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еся 1-2 классов пишут в тетрадях в узкую ли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на широкую линейку учителем определяется со 2 класса  четвертой четверти с учетом наличия у учащихся успешно сформированного навыка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81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оспитание культуры оформления письменных работ и формирование соответствующего навыка являются необходимыми, так как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являются частью воспитания внутренней культуры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воспитывают уважение у учащихся к тем, кто смотрит и проверяет их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формируют навык са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организуют учащихся для более внимательного выполнени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формление письменных работ по матема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 классной и домашней работами следует отступать 4 клетки (на пятой клетке начинается следующая работ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 видами упражнений в классной и домашней работах отступаются две клетки вни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формление письменных работ по матема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ует отметить, что для заглавных букв клетка не отводится, т. е. для них считается одна из двух (четырех) кл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 столбиками выражений, уравнений, равенств и прочими отступаются четыре клетки вправо (пишем на пят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Оформление письменных работ по матема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любой работе отступается одна клетка слева от края тетради (5 мм) Традиционно в тетрадях отмечаются виды зад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«Задача» пишется посередине строки, отмечается но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формл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кая запись условия задач оформляется в соответствии их 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лавные» слова пишутся с большой буквы. На первых этапах обучения допускается их неполная запись (по начальным буква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енькие- 7 м.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е-3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96000" y="4365720"/>
            <a:ext cx="3348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.-7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.-3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формл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ует несколько форм записи решения задач: по действиям, по действиям с письменными пояснениями, по действиям с записью вопроса, выражением, уравн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 «Ответ» пишется с заглавной буквы под решением. Со 2 класса учащиеся должны писать пол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твет: всего купили 10 мяч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едение дневников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евник является официальным школьным доку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пределенные требования к его 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Дневники ведутся при помощи родителей и учител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и выполняются аккуратно, разборчиво, грамотно, чернилами синего цв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уется заполнение всех имеющихся разделов (пунктов) данного дневника (начиная с титульного лист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дения о расписании уроков, звонков, названий предметов, фамилий преподавателей заполняются под руководством родителей,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Дневники ведутся при помощи родителей и учител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вания месяца и предметов следует писать с маленькой буквы.Допускается сокращенная запись (матем., лит. чт., окр.мир, физ-ра, изо 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сь домашнего задания производится в отведенной граф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Дневники ведутся при помощи родителей и учител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графе «оценка» и «роспись» учителем выставляются оценки в соответствии с оценкой в журнале. Ученик подает дневник учителю по первому его треб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еженедельно проверяет ведение днев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Дневники ведутся при помощи родителей и учител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и регулярно просматривают дневники и ставят свою росп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министрация школы проводит контроль за соблюдением правил ведения дневников учащимися и системой работы классного руководителя по осуществлению связи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029240"/>
            <a:ext cx="822960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Порядок ведения и оформления тетраде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писи в тетрадях следует оформлять каллиграфическим аккуратным почер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ься шариковой ручкой с чернилами фиолетового (синего)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подчеркивания, начертания геометрических фигур выполняются простым карандаш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Оформление дне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100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звание предм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 1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 2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у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11280" y="1196640"/>
            <a:ext cx="475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на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на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мнящая Н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йналович Ольг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на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на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ександрова Елен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кова Татья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тина Наталь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ева Маргарита Андр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раксина Ирин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тракова Татьяна Владимировна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шкович Ольг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нчарова Наталь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мцева Еле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конников Алексей Юрь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оперова Олеся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ошко Дарья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476360" y="1159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Расписание уро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6000" y="981000"/>
          <a:ext cx="8496360" cy="4044960"/>
        </p:xfrm>
        <a:graphic>
          <a:graphicData uri="http://schemas.openxmlformats.org/drawingml/2006/table">
            <a:tbl>
              <a:tblPr/>
              <a:tblGrid>
                <a:gridCol w="468360"/>
                <a:gridCol w="1150920"/>
                <a:gridCol w="1224000"/>
                <a:gridCol w="1225440"/>
                <a:gridCol w="1511280"/>
                <a:gridCol w="1297080"/>
                <a:gridCol w="1619280"/>
              </a:tblGrid>
              <a:tr h="342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7816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0-13.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476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0-14.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16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5-15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мир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476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0-16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чтение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мир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 чтение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4760"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5-1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 чтение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е  чтение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16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ценивание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и учащимся 2 класса выставляются с первого полугодия в соответствии с Методическим письмом Министерства общего и профессиональ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 от 19.11.1998 г. № 1561/14-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нтроль и оценка результатов обучения в начальной школе (нормы оценок)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оки и продолжительность каникул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ние: 29.10 – 06.11.2017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ние :  29.12 -  09.01.20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.02 -  25.02.20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ие:25.03 -  01.04.20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е :   26.05 -  31.08.201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476360" y="260280"/>
            <a:ext cx="417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684360" y="260280"/>
            <a:ext cx="79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П И Т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.Обед для детей ОВЗ -12. 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.Обед для всех – 13.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Бесплатное питание только для тех ребят, чьи родители сдали все спра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Платное-46руб один обед, 230руб на нед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еньги на платный обед на следующую неделю надо сдавать в четверг-пятницу(заран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ребенок заболел, учителя надо предупредить заранее, сколько дней примерно будете на больничном ребенок, чтобы учитель предупредил столовую. Без предупреждения деньги за обед не возвращаются, т.к. обед будет приготов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50920" y="336600"/>
            <a:ext cx="7777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1.Учебный центр. Мкр. 4Центральный, д.19, п.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л.8-983-296-75-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8-913-186-29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едлагают курсы для 1-4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Англий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Пишу грамо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Читаю быст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Калли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Путешествие в мир Математи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руппа до 8 человек 150 руб/1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руппа до 4 человек 250 руб/1 зан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2.Кружок  «Художественное конструирование» каб.3-11(понедельни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9.00-10.30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Тел. 8-913-811-45-94 Булавская Людмила Валенти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10 человек (200 руб на канц.товары на 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3.Доп.ораз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Занятия по ритмике (танц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Понедельник 11.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Четверг          11.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4d"/>
                </a:solidFill>
                <a:latin typeface="Arial"/>
              </a:rPr>
              <a:t>Шатрюк Наталья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Порядок ведения и оформления тетраде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Тетради №1 и №2 - для текущи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Тетрадь  -  для контроль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Порядок ведения и оформления тетра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Тетради №1 и №2 - для текущи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Тетрадь  -  для контрольны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ложение и сочинение относятся к работам творческого характера и подписываются как тетради для творчески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Порядок ведения и оформления тетра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тради на печатной осно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итературному чт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усскому язы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атемат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роков окружающего ми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узы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ностранному язы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061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Тетради учащихся для 2– 4-х классов подписывают сами учащие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280" y="2195640"/>
            <a:ext cx="788508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58920" y="1835280"/>
            <a:ext cx="64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аб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математи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егося 2 класса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Ка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ванова Серг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Тетради учащихся для 2– 4-х классов подписывают сами учащие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русскому язы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егося 2 класса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Ка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ой М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контрольных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матема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егося 2 класса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СОШ №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Ка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ова Е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7:58:16Z</dcterms:created>
  <dc:creator>User</dc:creator>
  <dc:description/>
  <dc:language>en-US</dc:language>
  <cp:lastModifiedBy>школа</cp:lastModifiedBy>
  <cp:lastPrinted>2011-09-19T07:01:55Z</cp:lastPrinted>
  <dcterms:modified xsi:type="dcterms:W3CDTF">2017-09-14T09:40:15Z</dcterms:modified>
  <cp:revision>29</cp:revision>
  <dc:subject/>
  <dc:title>Тетради учащихся для 2– 4-х классов подписывают сами учащиеся.</dc:title>
</cp:coreProperties>
</file>