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BBA-1BA9-4C4F-B3BA-DFB260A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AFB-5D15-434F-B57E-B969B40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8AA-2E38-4AFF-979B-537C6B8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D23-8839-4B03-A368-20075A75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FDC-6E80-427B-B551-3686898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06E-E775-43D2-9326-C7706AA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C52-3045-479F-AB00-D9BC61B2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CB2-C63E-4E75-BCCC-E2EC9F4E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3E7-4CA8-4BB9-87D1-81164A5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690F-4E9E-4942-8B42-F9D545EA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8B61-CD2B-4331-9B70-1B2A670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E46-B6AE-4D39-B9AF-CD904058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C04D-2B22-445D-8EA7-75DF1D2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EEB3-DACE-4D56-9D65-E240ED8A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E2B-4445-473F-93E4-3779936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1118-2D3E-41FD-B4B6-6D34591F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DB7E-499C-4DAF-9D5A-25174A43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021-37EA-44D5-9ECB-BD34E6C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1A1-0342-44F3-AF23-8098AB2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28B-A94B-4E1A-A896-59323AE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962-21BE-44AF-8F3E-6257E12C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F08-EEDB-4854-A89B-9E559AD4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8DB-3540-4C7A-8165-D25BCDC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636-E694-4790-8728-BDAA051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27B92-02D4-4F88-9A4A-A86CD7830E6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B1F2E7-3F36-42F6-AC1A-560FBE879C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back_titl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428920" y="642960"/>
            <a:ext cx="653544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17375e"/>
                </a:solidFill>
                <a:latin typeface="Times New Roman"/>
              </a:rPr>
              <a:t>СИСТЕМА РАБОТЫ С ОДАРЁННЫМИ ДЕТЬМИ В НАЧАЛЬНОЙ ШКО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4" descr="back_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5"/>
          <p:cNvSpPr/>
          <p:nvPr/>
        </p:nvSpPr>
        <p:spPr>
          <a:xfrm>
            <a:off x="1857240" y="214200"/>
            <a:ext cx="7056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</a:rPr>
              <a:t>«В душе каждого ребенка есть невидимые струны.  Если их тронуть умелой рукой, они красиво зазвуча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</a:rPr>
              <a:t>В.А. Сухом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4" descr="green.gif"/>
          <p:cNvPicPr/>
          <p:nvPr/>
        </p:nvPicPr>
        <p:blipFill>
          <a:blip r:embed="rId2"/>
          <a:stretch/>
        </p:blipFill>
        <p:spPr>
          <a:xfrm>
            <a:off x="2123640" y="148464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yellow.gif"/>
          <p:cNvPicPr/>
          <p:nvPr/>
        </p:nvPicPr>
        <p:blipFill>
          <a:blip r:embed="rId3"/>
          <a:stretch/>
        </p:blipFill>
        <p:spPr>
          <a:xfrm>
            <a:off x="2123640" y="321300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6" descr="pink.gif"/>
          <p:cNvPicPr/>
          <p:nvPr/>
        </p:nvPicPr>
        <p:blipFill>
          <a:blip r:embed="rId4"/>
          <a:stretch/>
        </p:blipFill>
        <p:spPr>
          <a:xfrm>
            <a:off x="2123640" y="5067000"/>
            <a:ext cx="1485720" cy="1314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3643200" y="357120"/>
            <a:ext cx="5285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аренность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 – уровень развития общих способностей, определяющий диапазон деятельности, в которых человек может достичь больших успехов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аренный ребенок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4" descr="green.gif"/>
          <p:cNvPicPr/>
          <p:nvPr/>
        </p:nvPicPr>
        <p:blipFill>
          <a:blip r:embed="rId2"/>
          <a:stretch/>
        </p:blipFill>
        <p:spPr>
          <a:xfrm>
            <a:off x="1643040" y="135720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5" descr="yellow.gif"/>
          <p:cNvPicPr/>
          <p:nvPr/>
        </p:nvPicPr>
        <p:blipFill>
          <a:blip r:embed="rId3"/>
          <a:stretch/>
        </p:blipFill>
        <p:spPr>
          <a:xfrm>
            <a:off x="1571760" y="314316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6" descr="pink.gif"/>
          <p:cNvPicPr/>
          <p:nvPr/>
        </p:nvPicPr>
        <p:blipFill>
          <a:blip r:embed="rId4"/>
          <a:stretch/>
        </p:blipFill>
        <p:spPr>
          <a:xfrm>
            <a:off x="1571760" y="4786200"/>
            <a:ext cx="1485720" cy="1314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2"/>
          <p:cNvSpPr/>
          <p:nvPr/>
        </p:nvSpPr>
        <p:spPr>
          <a:xfrm>
            <a:off x="2857320" y="214200"/>
            <a:ext cx="60717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Times New Roman"/>
              </a:rPr>
              <a:t>Методы и формы работы с одарёнными детьми в начальной школе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 algn="ctr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Урочная деятельность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Times New Roman"/>
              </a:rPr>
              <a:t>К ней  относятся следующие виды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Times New Roman"/>
              </a:rPr>
              <a:t>-</a:t>
            </a:r>
            <a:r>
              <a:rPr b="1" i="1" lang="ru-RU" sz="2200" spc="-1" strike="noStrike">
                <a:solidFill>
                  <a:srgbClr val="17375e"/>
                </a:solidFill>
                <a:latin typeface="Times New Roman"/>
              </a:rPr>
              <a:t> проблемно-развивающее обучени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Times New Roman"/>
              </a:rPr>
              <a:t>- проектно-исследовательская деятель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Times New Roman"/>
              </a:rPr>
              <a:t>- игровые технологии (деловые игры и путешествия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Times New Roman"/>
              </a:rPr>
              <a:t>- информационно-коммуникативные технологии для удовлетворения познавательной мотивации, развития способностей (разноуровневые тесты, презентации, тренажёры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200" spc="-1" strike="noStrike">
                <a:solidFill>
                  <a:srgbClr val="17375e"/>
                </a:solidFill>
                <a:latin typeface="Times New Roman"/>
              </a:rPr>
              <a:t>- творческие и нестандартные зад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green.gif"/>
          <p:cNvPicPr/>
          <p:nvPr/>
        </p:nvPicPr>
        <p:blipFill>
          <a:blip r:embed="rId2"/>
          <a:stretch/>
        </p:blipFill>
        <p:spPr>
          <a:xfrm>
            <a:off x="1643040" y="135720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yellow.gif"/>
          <p:cNvPicPr/>
          <p:nvPr/>
        </p:nvPicPr>
        <p:blipFill>
          <a:blip r:embed="rId3"/>
          <a:stretch/>
        </p:blipFill>
        <p:spPr>
          <a:xfrm>
            <a:off x="1571760" y="3143160"/>
            <a:ext cx="1485720" cy="1314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pink.gif"/>
          <p:cNvPicPr/>
          <p:nvPr/>
        </p:nvPicPr>
        <p:blipFill>
          <a:blip r:embed="rId4"/>
          <a:stretch/>
        </p:blipFill>
        <p:spPr>
          <a:xfrm>
            <a:off x="1571760" y="4786200"/>
            <a:ext cx="1485720" cy="1314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2"/>
          <p:cNvSpPr/>
          <p:nvPr/>
        </p:nvSpPr>
        <p:spPr>
          <a:xfrm>
            <a:off x="2857320" y="214200"/>
            <a:ext cx="60717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Times New Roman"/>
              </a:rPr>
              <a:t>Методы и формы работы с одарёнными детьми в начальной школе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 algn="ctr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неурочная деятельность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6840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Times New Roman"/>
              </a:rPr>
              <a:t>К ней  относятся следующие виды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 факультати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- предметные нед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- театрализованные праздн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649"/>
              </a:spcBef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- олимпиады и конкурсы по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4" descr="back_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5"/>
          <p:cNvSpPr/>
          <p:nvPr/>
        </p:nvSpPr>
        <p:spPr>
          <a:xfrm>
            <a:off x="1071360" y="214200"/>
            <a:ext cx="7842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</a:rPr>
              <a:t>«Учитель, подготовь себе учени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</a:rPr>
              <a:t>у которого сам сможешь учитьс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17375e"/>
                </a:solidFill>
                <a:latin typeface="Times New Roman"/>
              </a:rPr>
              <a:t>Сок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  <Words>69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32:36Z</dcterms:created>
  <dc:creator>1</dc:creator>
  <dc:description/>
  <dc:language>en-US</dc:language>
  <cp:lastModifiedBy>user</cp:lastModifiedBy>
  <dcterms:modified xsi:type="dcterms:W3CDTF">2018-01-29T18:03:22Z</dcterms:modified>
  <cp:revision>1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