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97E-FC6D-489A-B28D-4B2220D1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9E9-692F-4DC0-9C44-4840966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346-92D5-4138-A3E4-9C7D0D82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B35-328D-45A2-945E-37BB44BD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177-870D-4137-AD39-B43875C7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838-7A3B-4C95-96FC-109F0C59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80A-EDE1-4EE0-B49F-3FD54C4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AF5-CD02-4E3E-AAFD-449A25F6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265-7FDC-4DEA-8619-F277A197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972-8495-4303-837A-C55BCAAE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43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288-543C-4E79-A7C6-10EEBBE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280"/>
            <a:ext cx="401580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240" cy="20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65A-22DF-4AF7-81C1-4F7F9EF9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0CC379-B880-4193-B07F-65F005993ED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22924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оль педагога в судьбе ребёнка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 ограниченными возможностями здоровья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" name="Picture 2" descr="http://nevinsk.ru/images/stories/invalid2.jpeg"/>
          <p:cNvPicPr/>
          <p:nvPr/>
        </p:nvPicPr>
        <p:blipFill>
          <a:blip r:embed="rId1"/>
          <a:stretch/>
        </p:blipFill>
        <p:spPr>
          <a:xfrm>
            <a:off x="3429000" y="3214800"/>
            <a:ext cx="416664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2924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Нет случайно родившихся детей. Ни один Путник Вечности случайно не рождается.    Каждый ребёнок есть явление в земной жизни. Он родился потому, что должен был родиться. Родился потому, что именно его не хватало миру.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Ш. Амонашвили 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7640" y="1052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Реакция родителей на появление ребенка с патологией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стояние шока, растерянности, иногда страх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егативизм, отрицание поставленного диагноз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ятие диагноза и связанная с этим депрессия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амостоятельное, сознательное обращение к специалистам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240" cy="44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Только вместе с родителями, общими усилиями, учителя могут дать детям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ольшое человеческое счастье.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. А. Сухомлинский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4200" y="928800"/>
            <a:ext cx="8715240" cy="56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новные  принципы организации работы учителя с родителями детей с ОВЗ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имать учеников с  ОВЗ  "как любых других детей в классе";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ключать их в одинаковые виды деятельности, хотя ставить разные задачи;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влекать учеников в коллективные формы обучения и групповое решение задач;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ть и другие формы коллективного участия - игры, совместные проекты, конкурсы, викторины, смотры и т.д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4200" y="928800"/>
            <a:ext cx="8715240" cy="56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327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сновные направления сотрудничества  педагогов  с родителями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7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) Психолого-педагогическое просвещение родителей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родительские университеты, конференции и др.)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) Вовлечение родителей в учебно- воспитательный процесс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дни открытых дверей, открытые уроки и внеклассные мероприятия и др.)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) Участие родителей  в управлении  учебно-воспитательным процессом 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участие родителей класса в работе родительского комитета и др. )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7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4200" y="928800"/>
            <a:ext cx="8715240" cy="56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дивидуальная работа педагога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родителями детей с ОВЗ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нкетирование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сещение семьи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сультации, беседы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реписка с родителями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ведение совместных занятий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емонстрация родителям  фото и видео фрагментов занятий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машнее видео, как отчет родителей  о работе с ребенком в домашних условиях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14200" y="928800"/>
            <a:ext cx="8715240" cy="56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рупповые и коллективные формы работы педагога с родителями детей с ОВЗ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дительские лектории, практикумы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мен опытом родителей по семейному  воспитанию и обучению детей с ОВЗ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одительское собрание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вместные досуговые мероприятия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ематические консультации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вместное участие родителей и детей   в различных интеллектуальных, спортивных, творческих конкурсах и турнирах, совместных проектах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62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4200" y="928800"/>
            <a:ext cx="8715240" cy="56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08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осемь принципов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08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нклюзивного образования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08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    Ценность человека не зависит от его способностей и достижени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    Каждый человек способен чувствовать и думат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    Каждый человек имеет право на общение и на то, чтобы быть услышанны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    Все люди нуждаются друг в друг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    Подлинное образование может осуществляться только в контексте реальных взаимоотношени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    Все люди нуждаются в поддержке и дружбе ровесников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    Для всех обучающихся достижение прогресса скорее может быть в том, что они могут делать, чем в том, что не могу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    Разнообразие усиливает все стороны жизни человек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52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08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44</TotalTime>
  <Application>LibreOffice/7.4.7.2$Linux_X86_64 LibreOffice_project/40$Build-2</Application>
  <AppVersion>15.0000</AppVersion>
  <Words>299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1:44:44Z</dcterms:created>
  <dc:creator>Андрей</dc:creator>
  <dc:description/>
  <dc:language>en-US</dc:language>
  <cp:lastModifiedBy>user</cp:lastModifiedBy>
  <dcterms:modified xsi:type="dcterms:W3CDTF">2016-12-26T17:33:10Z</dcterms:modified>
  <cp:revision>28</cp:revision>
  <dc:subject/>
  <dc:title>Организация работы с родителями детей с ограниченными возможностями как участниками учебно-воспитательного процес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