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804-1245-4663-8B69-719B340D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27C-5AF6-4A8D-B909-176B219E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C5D-44DD-4818-92AA-1AB43662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064-9737-4216-8D35-606B707D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80A4-CA52-4A50-8501-7A615243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6AA5-4E35-416C-B0E9-C9344E59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E4BF-7D1E-4A7E-8009-BCE2D381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797B-E4CF-4F04-A06B-D699DDDE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F15D-AB5D-47E7-B680-2E2080B9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5985-F962-47E8-B772-FF4778AB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6213-C4BF-402D-99DB-C290B7A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BD2-4049-4F40-83E7-927C02C9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A8DA-1B51-40CA-A478-8603D48B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8D07-3A80-459F-A799-D0FF1FDF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26D2-3B4C-492B-884B-F43EC15F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EE0D-6CA7-4530-8FE6-C1354A45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DD86-09BB-40FD-B451-143DDFD6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B34-0819-40B1-AE2D-611FB0A4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732-AF95-4BD0-A18E-72FCAC1F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236-2215-4356-895B-1E06A47B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2AC-37D2-4316-9C22-7A3834D2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C45-4EE1-4354-B563-AEB0231F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77C-5BBB-4728-90EC-4FA8330F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7B3-6238-4477-A1D0-0D69BECD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80CB-74E5-4870-AED5-DC59AC9C22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1641-3C3C-4B37-83D2-9D2724CFAE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0f79b"/>
                </a:solidFill>
                <a:latin typeface="Times New Roman"/>
              </a:rPr>
              <a:t>Памяти М.И.Цветаевой посвящается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Моим стиха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написанным так рано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Настанет свой черёд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М.Цвета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3" descr="Pim0009"/>
          <p:cNvPicPr/>
          <p:nvPr/>
        </p:nvPicPr>
        <p:blipFill>
          <a:blip r:embed="rId1"/>
          <a:stretch/>
        </p:blipFill>
        <p:spPr>
          <a:xfrm>
            <a:off x="5435640" y="1628640"/>
            <a:ext cx="35179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000160" y="0"/>
            <a:ext cx="500544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530028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.Цветаева с дочерью Ариадн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721400" y="-49320"/>
            <a:ext cx="4422600" cy="69073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.Цвета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сыном Георг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4319280" cy="6583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.Цветаева в Елабуг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41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27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72360" y="0"/>
            <a:ext cx="346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ябин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уби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Зорько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ябина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Судьб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Горьк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яб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Седы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Спус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ябина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Судьб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усск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-1116000" y="0"/>
            <a:ext cx="6764400" cy="71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539640" y="620640"/>
            <a:ext cx="8029800" cy="42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 за  внимание !</a:t>
            </a:r>
            <a:endParaRPr b="1" i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250920" y="0"/>
            <a:ext cx="8707320" cy="5364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ария Александровна и Иван Владимирович Цветаев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арина Цветаева в детств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3059280" y="549360"/>
            <a:ext cx="33462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расною кистью рябина зажглась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16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594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арина и Анастасия Цветаев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7684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1055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трет Мар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укиничны Бернац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бушки поэтесс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796000" y="1844280"/>
            <a:ext cx="334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рина Цвета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Сергей Эфро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783400" cy="77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.Цветаева с родными на дач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071720" y="0"/>
            <a:ext cx="694512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.Цветаева с друзьям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66247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0:10:14Z</dcterms:created>
  <dc:creator>ученик</dc:creator>
  <dc:description/>
  <dc:language>en-US</dc:language>
  <cp:lastModifiedBy>русский</cp:lastModifiedBy>
  <dcterms:modified xsi:type="dcterms:W3CDTF">2018-01-29T07:53:55Z</dcterms:modified>
  <cp:revision>8</cp:revision>
  <dc:subject/>
  <dc:title>Слайд 1</dc:title>
</cp:coreProperties>
</file>