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9C9-C5E7-4429-96BD-3B8E6CFA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5F8-D049-4A95-A045-A3FE24AF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4E9-1C89-4191-9FF3-A6E26245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A50-7EA1-4D40-B471-D5598E74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533-7FCD-4470-8ED1-9DB1F916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090-64CA-4EC8-8C6D-D157FE57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463-70EC-4E16-8EFA-1164258A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99B-A911-4618-9658-28585C42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BC9-C6A5-46E0-9D21-128A5DF8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5E2-834B-4B4B-817E-9CD3D9A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619-CFF4-4950-BBEE-9B57DA3E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F80-2A65-49E5-9342-4B9CA93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61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06E7-B0EA-4F19-97FF-3BB90E90F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eva.ru/eva-life/anothers/read-neizvestnaya-istoriya-laj-ki-pervoj-sobaki-kosmonavta-27844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41054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radley Hand ITC"/>
              </a:rPr>
              <a:t>Первые полеты в космос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земля"/>
          <p:cNvPicPr/>
          <p:nvPr/>
        </p:nvPicPr>
        <p:blipFill>
          <a:blip r:embed="rId1"/>
          <a:stretch/>
        </p:blipFill>
        <p:spPr>
          <a:xfrm>
            <a:off x="4572000" y="1700280"/>
            <a:ext cx="4170240" cy="4465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174600" y="630864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р-составитель: Колобова Г.Ф., 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cc"/>
                </a:solidFill>
                <a:latin typeface="Arial"/>
              </a:rPr>
              <a:t>Наша планета –</a:t>
            </a:r>
            <a:br>
              <a:rPr sz="4800"/>
            </a:br>
            <a:r>
              <a:rPr b="0" lang="ru-RU" sz="4800" spc="-1" strike="noStrike">
                <a:solidFill>
                  <a:srgbClr val="ffcccc"/>
                </a:solidFill>
                <a:latin typeface="Arial"/>
              </a:rPr>
              <a:t>Зем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discountoff.ru/thumbs/47992/0/Poster-Kosmos-raznye-postery-Planeta-Zemlya-pokazyvaya-Evropy-i-Afriki.jpeg"/>
          <p:cNvPicPr/>
          <p:nvPr/>
        </p:nvPicPr>
        <p:blipFill>
          <a:blip r:embed="rId1"/>
          <a:stretch/>
        </p:blipFill>
        <p:spPr>
          <a:xfrm>
            <a:off x="2303640" y="1773360"/>
            <a:ext cx="4536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инк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animalsfoto.com/3-kita-foto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s://yandex.ru/images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fantastic-energy.ru/pervyj-sputnik-zemli-nachalo-kosmicheskoj-gonk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va.ru/eva-life/anothers/read-neizvestnaya-istoriya-laj-ki-pervoj-sobaki-kosmonavta-27844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ugranow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s://porosenka.net/2013/10/22/art33797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s://yandex.ru/images/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igslide.ru/obschestvoznaniya/26203-poletu-cheloveka-v-kosmos-posvyaschaetsy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s://cyplyata-volok-dou9.edumsko.ru/folders/post/12_aprelya_-_detyam_o_dne_kosmonavt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s://www.artwall.ru/products/35274482?from=ym&amp;size=20&amp;admitad_uid=60477fb3c74b2fdf294d5a05fec331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Bodoni MT Black"/>
              </a:rPr>
              <a:t>Цель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99"/>
                </a:solidFill>
                <a:latin typeface="Times New Roman"/>
              </a:rPr>
              <a:t>познакомить детей с древними представлениями о земл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99"/>
                </a:solidFill>
                <a:latin typeface="Times New Roman"/>
              </a:rPr>
              <a:t>дать простейшие представления о том, как человек покорил космос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66ff99"/>
                </a:solidFill>
                <a:latin typeface="Times New Roman"/>
              </a:rPr>
              <a:t>развивать  познавательную активность, любознатель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киты держат землю"/>
          <p:cNvPicPr/>
          <p:nvPr/>
        </p:nvPicPr>
        <p:blipFill>
          <a:blip r:embed="rId1"/>
          <a:stretch/>
        </p:blipFill>
        <p:spPr>
          <a:xfrm>
            <a:off x="684360" y="3633840"/>
            <a:ext cx="3671640" cy="30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тар"/>
          <p:cNvPicPr/>
          <p:nvPr/>
        </p:nvPicPr>
        <p:blipFill>
          <a:blip r:embed="rId2"/>
          <a:stretch/>
        </p:blipFill>
        <p:spPr>
          <a:xfrm>
            <a:off x="3132000" y="476280"/>
            <a:ext cx="2978280" cy="293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s://images.fineartamerica.com/images-medium-large/hindu-cosmogram-granger.jpg"/>
          <p:cNvPicPr/>
          <p:nvPr/>
        </p:nvPicPr>
        <p:blipFill>
          <a:blip r:embed="rId3"/>
          <a:stretch/>
        </p:blipFill>
        <p:spPr>
          <a:xfrm>
            <a:off x="4964040" y="3633840"/>
            <a:ext cx="38480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Первый космический спу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fantastic-energy.ru/wp-content/uploads/2015/05/sputnik-PS_1.jpg"/>
          <p:cNvPicPr/>
          <p:nvPr/>
        </p:nvPicPr>
        <p:blipFill>
          <a:blip r:embed="rId1"/>
          <a:stretch/>
        </p:blipFill>
        <p:spPr>
          <a:xfrm>
            <a:off x="1692360" y="1844640"/>
            <a:ext cx="57592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Лай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лайка"/>
          <p:cNvPicPr/>
          <p:nvPr/>
        </p:nvPicPr>
        <p:blipFill>
          <a:blip r:embed="rId1"/>
          <a:stretch/>
        </p:blipFill>
        <p:spPr>
          <a:xfrm>
            <a:off x="1116000" y="1584360"/>
            <a:ext cx="6985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елка и Стре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белка и стрелка"/>
          <p:cNvPicPr/>
          <p:nvPr/>
        </p:nvPicPr>
        <p:blipFill>
          <a:blip r:embed="rId1"/>
          <a:stretch/>
        </p:blipFill>
        <p:spPr>
          <a:xfrm>
            <a:off x="2124000" y="1628640"/>
            <a:ext cx="4762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ервые животные в космо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попугай"/>
          <p:cNvPicPr/>
          <p:nvPr/>
        </p:nvPicPr>
        <p:blipFill>
          <a:blip r:embed="rId1"/>
          <a:stretch/>
        </p:blipFill>
        <p:spPr>
          <a:xfrm>
            <a:off x="3841920" y="1406520"/>
            <a:ext cx="144756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s://porosenka.net/uploads/9/3/93aeac9ef664b33235aa7ae03418b1b8_small.jpg"/>
          <p:cNvPicPr/>
          <p:nvPr/>
        </p:nvPicPr>
        <p:blipFill>
          <a:blip r:embed="rId2"/>
          <a:srcRect l="0" t="0" r="49474" b="0"/>
          <a:stretch/>
        </p:blipFill>
        <p:spPr>
          <a:xfrm>
            <a:off x="6454800" y="3268800"/>
            <a:ext cx="2214360" cy="332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s://porosenka.net/uploads/6/7/674e6c30d6542fd66c5542da59f98b7f_small.jpg"/>
          <p:cNvPicPr/>
          <p:nvPr/>
        </p:nvPicPr>
        <p:blipFill>
          <a:blip r:embed="rId3"/>
          <a:stretch/>
        </p:blipFill>
        <p:spPr>
          <a:xfrm>
            <a:off x="430200" y="3268800"/>
            <a:ext cx="2279520" cy="341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vremenynet.ru/images/time/14622606642620.jpg"/>
          <p:cNvPicPr/>
          <p:nvPr/>
        </p:nvPicPr>
        <p:blipFill>
          <a:blip r:embed="rId4"/>
          <a:stretch/>
        </p:blipFill>
        <p:spPr>
          <a:xfrm>
            <a:off x="3110040" y="4221000"/>
            <a:ext cx="30034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к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ракета"/>
          <p:cNvPicPr/>
          <p:nvPr/>
        </p:nvPicPr>
        <p:blipFill>
          <a:blip r:embed="rId1"/>
          <a:stretch/>
        </p:blipFill>
        <p:spPr>
          <a:xfrm>
            <a:off x="1258920" y="836640"/>
            <a:ext cx="64800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cc00"/>
                </a:solidFill>
                <a:latin typeface="Arial"/>
              </a:rPr>
              <a:t>Ю.А.Гагар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timix.nios.ru/sites/timix.nios.ru/files/field/image/1_2.jpg"/>
          <p:cNvPicPr/>
          <p:nvPr/>
        </p:nvPicPr>
        <p:blipFill>
          <a:blip r:embed="rId1"/>
          <a:stretch/>
        </p:blipFill>
        <p:spPr>
          <a:xfrm>
            <a:off x="1403280" y="1557360"/>
            <a:ext cx="69786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1:42:01Z</dcterms:created>
  <dc:creator>class17-9</dc:creator>
  <dc:description/>
  <dc:language>en-US</dc:language>
  <cp:lastModifiedBy>Admin</cp:lastModifiedBy>
  <dcterms:modified xsi:type="dcterms:W3CDTF">2018-01-29T14:00:51Z</dcterms:modified>
  <cp:revision>13</cp:revision>
  <dc:subject/>
  <dc:title>Первые полеты в космос</dc:title>
</cp:coreProperties>
</file>