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90B-CF03-4F4D-A113-81A3530D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86D-A00B-49E8-A0FA-2B27BC9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647-02C4-4922-A406-4FB16CD7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A22-276B-454D-8924-B1C84F8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8C41-88DD-4811-9EC9-77062017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DE3A-D916-4347-8832-A3E70FB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63B3-F59B-480E-B91A-1FE7D81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93E3-51E6-4E06-B190-A5E6647E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F81-834D-44B9-A7A4-741F0219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D84-8CA2-4F80-AD7E-C6168CC2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B61A-618C-41A5-BA2C-CDEB1B3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1FE-66FD-415E-B636-FD4B95C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D75-0CB7-480A-9F22-EFCBCEB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4FF-12AB-4D27-8E0E-0B9E243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5B0-08EC-46F9-9C4E-2536653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09F1-9110-4A4A-8E4B-A6FB0595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DBD-0A0B-41AA-9ADB-C48CC38A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E36-2E06-405E-8713-FB4F655A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E07-BCA9-46A1-BABA-BD2D07E4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757-3BEA-48F5-B891-9CA492C0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3A2-4B4D-4B94-ACC0-B1DC2DC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801-13F6-4F18-A188-DFDA36D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5B5-2DBD-4CC6-95AE-DE08F4D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595-72D1-45DC-9075-7C2590F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445-5AF4-4ADE-8D8E-195779458E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0B2-7696-4FD5-BA54-544F4CF84AD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http://www.strumishka.narod.ru/foto13.htm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trumishka.narod.ru/foto9.htm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95680" y="2133360"/>
            <a:ext cx="4114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«Сказка от доброго сердц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539640" y="1052640"/>
            <a:ext cx="327672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0.1 вступление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838080" y="3661200"/>
            <a:ext cx="7391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       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реди повседневной суеты найдите несколько тихих минут, чтобы неспешно прочитать, понять, почувствовать всю чистоту, нежность и силу, которую дарят вам сказки Натальи Абрамцево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Не мешайте памяти возвращаться к этим сказкам, и они, не тускнея, раз за разом будут дарить вам даже в самые трудные для вас времена свет, доброту, жизнерадостность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3" descr="Наталья Абрамцева"/>
          <p:cNvPicPr/>
          <p:nvPr/>
        </p:nvPicPr>
        <p:blipFill>
          <a:blip r:embed="rId1"/>
          <a:stretch/>
        </p:blipFill>
        <p:spPr>
          <a:xfrm>
            <a:off x="3200400" y="304920"/>
            <a:ext cx="2298600" cy="31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0" name="Picture 4" descr="Наталья Абрамцева"/>
          <p:cNvPicPr/>
          <p:nvPr/>
        </p:nvPicPr>
        <p:blipFill>
          <a:blip r:embed="rId2"/>
          <a:stretch/>
        </p:blipFill>
        <p:spPr>
          <a:xfrm>
            <a:off x="420840" y="304920"/>
            <a:ext cx="2241360" cy="30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Picture 5" descr="Наталья Абрамцева"/>
          <p:cNvPicPr/>
          <p:nvPr/>
        </p:nvPicPr>
        <p:blipFill>
          <a:blip r:embed="rId3"/>
          <a:stretch/>
        </p:blipFill>
        <p:spPr>
          <a:xfrm>
            <a:off x="5943600" y="304920"/>
            <a:ext cx="2408400" cy="3124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Наталья Абрамцев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304920"/>
            <a:ext cx="2209680" cy="320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62160" y="456840"/>
            <a:ext cx="47242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«ЗОЛОТОЙ ЗАПАС РОССИИ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некотором царстве, в некотором государстве жила-была сказочница по имени Наташа. Рядом с нами и одна из нас. Под одним небом так сказать, под одним солнцем. На те же звезды смотрела, что и другие, только видела их по своему. Та же реальность окружала её, только жизнь рисовала ей свои картины. Жила - была сказочница..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380880" y="533520"/>
            <a:ext cx="3619800" cy="5257800"/>
          </a:xfrm>
          <a:prstGeom prst="rect">
            <a:avLst/>
          </a:prstGeom>
          <a:ln w="57240">
            <a:solidFill>
              <a:srgbClr val="0066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038480" y="827640"/>
            <a:ext cx="4496040" cy="54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таль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брамце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«Пожалуйста, никогда не выбрасывайте старых сахарниц...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А теперь, давайте подумаем: кому и зачем нужны сказки. Этот жанр я считаю необходимым. Сказка-это эпиграф жизни. Это молитва на сон грядущий, на грустное настроение, на плохую погоду. И для ребят и для взрослых. Дети мудреют, взрослые возвращаются к чистому роднику детства. Сказка-связь поколений в этом их главное волшебство. Сказки надо читать и наедине и всей семьёй…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3" descr="Наталья Абрамцева"/>
          <p:cNvPicPr/>
          <p:nvPr/>
        </p:nvPicPr>
        <p:blipFill>
          <a:blip r:embed="rId1"/>
          <a:stretch/>
        </p:blipFill>
        <p:spPr>
          <a:xfrm>
            <a:off x="533520" y="838080"/>
            <a:ext cx="3251160" cy="4876920"/>
          </a:xfrm>
          <a:prstGeom prst="rect">
            <a:avLst/>
          </a:prstGeom>
          <a:ln w="57240">
            <a:solidFill>
              <a:srgbClr val="0066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495680" y="503280"/>
            <a:ext cx="43434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       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Сказки Натальи Абрамцевой необычны, как и судьба Наташи. Она писала их лежа - была тяжело больна с детства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3" descr="Наталья Абрамцева"/>
          <p:cNvPicPr/>
          <p:nvPr/>
        </p:nvPicPr>
        <p:blipFill>
          <a:blip r:embed="rId1"/>
          <a:srcRect l="2210" t="0" r="0" b="0"/>
          <a:stretch/>
        </p:blipFill>
        <p:spPr>
          <a:xfrm>
            <a:off x="6934320" y="3886200"/>
            <a:ext cx="189216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Наталья Абрамцева">
            <a:hlinkClick r:id="rId2"/>
          </p:cNvPr>
          <p:cNvPicPr/>
          <p:nvPr/>
        </p:nvPicPr>
        <p:blipFill>
          <a:blip r:embed="rId3"/>
          <a:stretch/>
        </p:blipFill>
        <p:spPr>
          <a:xfrm rot="21029400">
            <a:off x="456840" y="380880"/>
            <a:ext cx="161280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зки Натальи Абрамцевой"/>
          <p:cNvPicPr/>
          <p:nvPr/>
        </p:nvPicPr>
        <p:blipFill>
          <a:blip r:embed="rId4"/>
          <a:stretch/>
        </p:blipFill>
        <p:spPr>
          <a:xfrm rot="888600">
            <a:off x="2008080" y="379080"/>
            <a:ext cx="1738440" cy="2457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Сказки Натальи Абрамцевой"/>
          <p:cNvPicPr/>
          <p:nvPr/>
        </p:nvPicPr>
        <p:blipFill>
          <a:blip r:embed="rId5"/>
          <a:stretch/>
        </p:blipFill>
        <p:spPr>
          <a:xfrm rot="20936400">
            <a:off x="5211720" y="3520800"/>
            <a:ext cx="18572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152280" y="2968920"/>
            <a:ext cx="4343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    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" Я работаю,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как вельможа.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Я работаю только лежа "-, писал поэт Анциферов о труде шахтера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Вот так работала и Наташа.</a:t>
            </a:r>
            <a:r>
              <a:rPr b="0" lang="ru-RU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6699"/>
                </a:solidFill>
                <a:latin typeface="Verdana"/>
              </a:rPr>
              <a:t> Но она очень любила жизнь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343400" y="1059840"/>
            <a:ext cx="4191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       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амые любимые свои сказки собрала Наташа в книге </a:t>
            </a: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"СКАЗКИ ДЛЯ ДОБРЫХ СЕРДЕЦ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, над которой работала до последнего дня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       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сего Наталья Абрамцева написала около 120 сказок и рассказов для детей и взрослых; 12 театральных пьес ; по сценариям Натальи Абрацевой созданы диафильмы, мультфильмы и анимационные работ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 это не все!!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228600" y="762120"/>
            <a:ext cx="3941640" cy="518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191120" y="753480"/>
            <a:ext cx="464796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НИГА КАК ИТОГ КАК РЕЗУЛЬТАТ ТВОРЧЕСТВА. ПЕРВАЯ КНИГА - ВСЕГДА СОБЫТИЕ! ДЛЯ АВТОРА ОБЯЗАТЕЛЬНО! НО ЧАСТО И ДЛЯ ЧИТАТЕЛЯ.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1985 год. В самом большом книжном магазине на Кировской продавался весь тираж книги </a:t>
            </a: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"СКАЗКА 0 ВЕСЕЛОЙ ПЧЕЛЕ"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Весь тираж 100000 экз. разошелся за два часа. Хорошо, что автору полагались 10 экземпляров, а то бы как мы сейчас ее увидели? Но в наши дни появились спонсоры и меценаты? Появилась и надежда, что кто-то поможет переиздать эти трогательные и добрые сказки!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457200" y="457200"/>
            <a:ext cx="3618000" cy="4724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Text Box 4"/>
          <p:cNvSpPr/>
          <p:nvPr/>
        </p:nvSpPr>
        <p:spPr>
          <a:xfrm>
            <a:off x="652680" y="541008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ОТ ЭТА ПЕРВАЯ КНИЖК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НАТАЛЬИ АБРАМЦЕВ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780000" y="533160"/>
            <a:ext cx="52876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Verdana"/>
              </a:rPr>
              <a:t>А Я КТО ?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Её тираж уже 300000 тысяч экземпляров! Но купить ее в книжном магазине не удалось. "Достали" в типографии. На Новом Арбате в "Книжном Мире" она разошлась за двадцать минут! Книжечка тоненькая, дешевая, а сказок в ней 4.</a:t>
            </a:r>
            <a:br>
              <a:rPr sz="2000"/>
            </a:b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лучилось так, что известный литератор и режиссер МАГИТОН И.С. спустя 25 лет прочитал книжку и сказал, что все сказки в ней готовые мультфильмы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304920" y="685800"/>
            <a:ext cx="3443040" cy="4495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8" name="Text Box 4"/>
          <p:cNvSpPr/>
          <p:nvPr/>
        </p:nvSpPr>
        <p:spPr>
          <a:xfrm>
            <a:off x="5248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А это вторая книжк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Натальи Абрамцев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86200" y="304920"/>
            <a:ext cx="5029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ЧАРОВАННАЯ ИЗБУШ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на тоже ждет спонсоров, что бы ее переиздать. Особенность этой книжки в том, что в ней впервые напечатана сказка </a:t>
            </a: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"Чудеса, да и только"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Сказка, в которой создан, в которой родился своеобразный новый литературный образ существа, персонажа. На свет появились </a:t>
            </a: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Струмышки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! Это новые волшебные существа! Которые живут только в старых сахарницах и доставляют многим только приятные неожиданности!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304920" y="685800"/>
            <a:ext cx="3510000" cy="45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1" name="Text Box 4"/>
          <p:cNvSpPr/>
          <p:nvPr/>
        </p:nvSpPr>
        <p:spPr>
          <a:xfrm>
            <a:off x="304920" y="5410080"/>
            <a:ext cx="35049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Это третья книжк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тальи Абрамцев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Сказки Натальи Абрамцевой"/>
          <p:cNvPicPr/>
          <p:nvPr/>
        </p:nvPicPr>
        <p:blipFill>
          <a:blip r:embed="rId1"/>
          <a:stretch/>
        </p:blipFill>
        <p:spPr>
          <a:xfrm>
            <a:off x="5796000" y="380880"/>
            <a:ext cx="2638440" cy="290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Picture 4" descr="Сказки Натальи Абрамцевой"/>
          <p:cNvPicPr/>
          <p:nvPr/>
        </p:nvPicPr>
        <p:blipFill>
          <a:blip r:embed="rId2"/>
          <a:stretch/>
        </p:blipFill>
        <p:spPr>
          <a:xfrm>
            <a:off x="2906640" y="747720"/>
            <a:ext cx="2201760" cy="2538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Picture 5" descr="Сказки Натальи Абрамцевой"/>
          <p:cNvPicPr/>
          <p:nvPr/>
        </p:nvPicPr>
        <p:blipFill>
          <a:blip r:embed="rId3"/>
          <a:stretch/>
        </p:blipFill>
        <p:spPr>
          <a:xfrm>
            <a:off x="5872320" y="3916440"/>
            <a:ext cx="2562120" cy="261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5" name="Picture 6" descr="Сказки Натальи Абрамцевой"/>
          <p:cNvPicPr/>
          <p:nvPr/>
        </p:nvPicPr>
        <p:blipFill>
          <a:blip r:embed="rId4"/>
          <a:stretch/>
        </p:blipFill>
        <p:spPr>
          <a:xfrm>
            <a:off x="2747880" y="3916440"/>
            <a:ext cx="2517840" cy="231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6" name="Picture 7" descr="Сказки Натальи Абрамцевой"/>
          <p:cNvPicPr/>
          <p:nvPr/>
        </p:nvPicPr>
        <p:blipFill>
          <a:blip r:embed="rId5"/>
          <a:stretch/>
        </p:blipFill>
        <p:spPr>
          <a:xfrm>
            <a:off x="192240" y="3670200"/>
            <a:ext cx="1954080" cy="2354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Picture 8" descr="Сказки Натальи Абрамцевой"/>
          <p:cNvPicPr/>
          <p:nvPr/>
        </p:nvPicPr>
        <p:blipFill>
          <a:blip r:embed="rId6"/>
          <a:stretch/>
        </p:blipFill>
        <p:spPr>
          <a:xfrm>
            <a:off x="192240" y="380880"/>
            <a:ext cx="2219040" cy="276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7:32:19Z</dcterms:created>
  <dc:creator/>
  <dc:description/>
  <dc:language>en-US</dc:language>
  <cp:lastModifiedBy>Лизончик</cp:lastModifiedBy>
  <dcterms:modified xsi:type="dcterms:W3CDTF">2016-11-15T07:39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