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C199-8E01-41CA-96A1-BC7C5B7F8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6B46-6474-46A6-83D8-330222079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4A24-4ADE-4CFB-8DCF-B25F55F66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538A-B690-4DDE-8B7C-F8449468D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B941-D472-41C2-B742-3FC6B4A55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6145-C2F2-4715-9061-35E14FCF8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8272-7AAC-4A6C-9C6D-6DA5E1103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EDAC-4BB3-4F61-A7C7-547E08B8B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5764-8F47-4F62-B739-90C86D2B0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7CDD-7BC6-45AE-9DA6-17AF51707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9602-D587-4541-93AE-C12F1817D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B6B1-E7E9-4A4E-A10F-19E9936F5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7C226B-E296-4E9B-BF13-33E99C10354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052640"/>
            <a:ext cx="8496000" cy="45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клоним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еликим тем годам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71600" y="95400"/>
            <a:ext cx="4600800" cy="66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ёня Гол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643280" cy="432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4643280"/>
            <a:ext cx="8287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0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ля Ко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71840" y="1571760"/>
            <a:ext cx="4572000" cy="4244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4572000"/>
            <a:ext cx="332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ат Ка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714920" cy="450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0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на Порт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71880" y="1857240"/>
            <a:ext cx="3224160" cy="3915000"/>
            <a:chOff x="3071880" y="1857240"/>
            <a:chExt cx="3224160" cy="39150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071880" y="1857240"/>
              <a:ext cx="3224160" cy="39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071880" y="1857240"/>
              <a:ext cx="3224160" cy="39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0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511344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0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57160" y="843120"/>
            <a:ext cx="7429680" cy="51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0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57160" y="620640"/>
            <a:ext cx="7429680" cy="54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ВАЙТЕ ПОЧТИМ ПАМЯТЬ ВСЕХ ПОГИБШИХ ЗА РОДИНУ 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fill="hold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0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2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сква. Александровский са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1125360"/>
            <a:ext cx="7921440" cy="5399280"/>
            <a:chOff x="611280" y="1125360"/>
            <a:chExt cx="7921440" cy="5399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611280" y="1125360"/>
              <a:ext cx="792144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11280" y="1125360"/>
              <a:ext cx="792144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619280" y="476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ила Неизвестного сол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0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1197000"/>
            <a:ext cx="8820000" cy="44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1941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1916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мориал на Мамаевом кургане в городе Волгог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95640" y="1125360"/>
            <a:ext cx="4751280" cy="5472360"/>
            <a:chOff x="2195640" y="1125360"/>
            <a:chExt cx="4751280" cy="54723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195640" y="1125360"/>
              <a:ext cx="475128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95640" y="1125360"/>
              <a:ext cx="4751280" cy="54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0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рлин. Памятник Воину-освободи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17672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0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32000" y="1484280"/>
            <a:ext cx="6696000" cy="374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19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0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5280" y="333360"/>
            <a:ext cx="8209080" cy="5975280"/>
            <a:chOff x="395280" y="333360"/>
            <a:chExt cx="8209080" cy="59752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8209080" cy="59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95280" y="333360"/>
              <a:ext cx="8209080" cy="59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3" dur="indefinite" restart="never" fill="hold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0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0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00" y="620640"/>
            <a:ext cx="8496000" cy="5759640"/>
            <a:chOff x="324000" y="620640"/>
            <a:chExt cx="8496000" cy="57596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24000" y="620640"/>
              <a:ext cx="8496000" cy="57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24000" y="620640"/>
              <a:ext cx="8496000" cy="57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7" dur="indefinite" restart="never" fill="hold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0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-185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5545080"/>
          <a:ext cx="3570120" cy="1339920"/>
        </p:xfrm>
        <a:graphic>
          <a:graphicData uri="http://schemas.openxmlformats.org/drawingml/2006/table">
            <a:tbl>
              <a:tblPr/>
              <a:tblGrid>
                <a:gridCol w="3570120"/>
              </a:tblGrid>
              <a:tr h="133992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481640" y="2101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5300640"/>
          <a:ext cx="3962520" cy="18622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86228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481640" y="640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6324480" cy="5545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19560" y="620640"/>
            <a:ext cx="40244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0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усть будет мир на всей Земл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11110"/>
          <a:stretch/>
        </p:blipFill>
        <p:spPr>
          <a:xfrm>
            <a:off x="684360" y="333360"/>
            <a:ext cx="770400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dur="indefinite" fill="hold">
                      <p:stCondLst>
                        <p:cond delay="0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95400"/>
            <a:ext cx="4267440" cy="66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fill="hold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0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68000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fill="hold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11280" y="333360"/>
            <a:ext cx="4896000" cy="6524640"/>
            <a:chOff x="2411280" y="333360"/>
            <a:chExt cx="4896000" cy="652464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411280" y="333360"/>
              <a:ext cx="4896000" cy="65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411280" y="333360"/>
              <a:ext cx="4896000" cy="65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57160" y="885960"/>
            <a:ext cx="7429680" cy="50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42968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0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33480" y="1033560"/>
            <a:ext cx="7277040" cy="47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0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05:11Z</dcterms:created>
  <dc:creator>ТолькоДляТестов</dc:creator>
  <dc:description/>
  <dc:language>en-US</dc:language>
  <cp:lastModifiedBy>Admin</cp:lastModifiedBy>
  <dcterms:modified xsi:type="dcterms:W3CDTF">2005-05-04T14:27:28Z</dcterms:modified>
  <cp:revision>23</cp:revision>
  <dc:subject/>
  <dc:title>Никто не забыт, ничто не забыто!</dc:title>
</cp:coreProperties>
</file>