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13B9-342C-4F69-A374-1F8F8D25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3A0B-45CA-4542-8B6B-E597D85A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4345-1594-481B-9EDF-B8BD8695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5529-7034-4FA6-BEAD-E94ADD9E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5CA3-FE54-46E6-943C-B90E6998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1D46-33A5-4BF0-9BEA-89878A43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338D-7E28-473A-82D6-D0AC3B00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C994-B14E-40BB-808C-90B426CB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CBB7-044D-4B62-8CBF-5192014C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E00B-9DB8-4ED1-A790-2138A9BC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F28E-BCAD-4406-A7F3-1CE61ACB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629D-3A78-4137-AA47-72727E39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0F74-21B1-4B7F-BF7E-99163F35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9ADF-5DFC-4C64-9411-0F18A34C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A317-2B15-4711-9580-B95A3E27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0535-CF2C-4104-878C-4B365D11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A11E-1E11-4322-84E5-EA946C82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9D7036-A97F-43E0-84A1-4CDB191C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9A835E-3D77-4D27-976B-4BCDE008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C40729-9A35-4112-8113-058EF80D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6A6F7-1D85-477C-887B-DD9AE091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7B1EAE-57A3-41FB-A7EB-CE8C10FE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A3E0-E99B-4E3A-B96C-F296D2FE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47F04E-ACBB-4B3E-A64F-948C7018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262E9-AB1E-4807-A90C-01B8A2CC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57A4D9-F92F-4F85-BB3B-36492FB6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0D1550-2694-4C27-970F-CB02D217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8D4909-C6B5-42A6-95B8-ED73DA4C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9786E6-4587-48EC-A820-0DC488CE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ADFDDF-42F6-49AF-9EF1-8261D19A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AA3E1C-3A15-403C-B5BC-3559D287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9C1F71-1F81-428B-8906-5892A4F4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A9928F-8232-4465-845A-B7C6231F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0CEA-1B23-4F6F-9A1D-3E37CAA1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85868C-CEDE-4927-B51F-2D3FDF2D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53ADCB-56E0-4890-8DDC-DC4E2610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A5CE81-350C-482F-99F1-8E3A630A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B5A84A-AF4B-4AA9-825A-BF471C98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F538CF-EEA2-4612-97CB-D2B258F1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1DCDD0-C24C-4B6D-985B-6C07FA50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1939A5-DA36-438F-B4AB-8653B27D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2BCE2B-E717-4A8C-B2E9-64096DBB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698D33-FC77-4542-81EC-94FD20CB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57DFDA-9E52-4E10-9815-648AC58B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BB1C-2850-49DE-A431-8F5EE3F8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4FD340-7B8D-45FD-8C6B-A415FD58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CFE30C-44FE-4B81-9B18-A356A1A1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C60A9F-2B14-4F84-B519-AD5F1732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5CF3F4-D976-4B63-B939-87BF6933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DC89CF-4030-4C87-AE81-A1F6278D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96C6AF-1F2E-46EA-A9A9-46D7BD38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BD7532-F334-4297-98C7-65A3663E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3290C7-1E8C-405A-8D5B-741623EA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0008B2-99DB-454F-8E2C-8E9E1FA9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FC4307-0978-4DAF-995B-B9D0E14F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3AF8-794D-4D5F-9A5B-11B3CEDB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1EB730-5708-43A8-9AA9-6B12B12F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3A782-FC31-441D-9E85-F3AFD0E4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2D0DB-C7F0-48FC-90D1-994AC65D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56BDA-EE40-420E-B136-D3DF4E7F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8BB15-F64C-4E82-8DDE-59BEAF4B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63484-C054-4DAE-AF14-D04FCAFC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AE030-A26A-4717-82E5-CCA7CBB9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4F087-1182-44AC-A91C-E5F8984A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9471C-6887-4B4F-B521-17913CCB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0218F-D7CB-4731-AC5A-A6FE66D2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D952-C4B8-46A9-9F04-98540054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995FA-6527-4D57-A091-074D218E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DDCDA-3242-4E58-994F-235D8225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6B9DE-8240-4274-BDF1-E14AC76F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6E3EEB-F027-491C-B9FE-008B3C1C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4683D4-2715-49F6-88CE-5268A8AD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304E72-1A5B-4DBE-990A-56A7635F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B1B2BD-9317-4397-8ACC-CE803730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836487-C986-455A-8625-EAC71AF5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B1E7AE-808E-4086-8BE5-4BFF6CB6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87411F-9638-4998-8330-DA0EBDE6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7161-0F8A-47BC-9D06-1E37C1AB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083E13-60DF-4E8E-98E9-7E1C6376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DE1BA8-6DAC-4EBD-80C8-40A7FDBA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FFC46C-3967-4501-8C56-1DE135C9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190359-17D7-46AD-941C-70327B06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84E47A-B30F-46A5-9489-E6E5E357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4F68F-954F-48F9-9E27-40C742DE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61EE7-E674-48F9-A190-90C83DB9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9898F-B753-4754-B9C9-C1FC3814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B4E46-4CE4-4CB9-9D20-87E98D42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DC32A-C5F4-4C6D-8AD6-733958A9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D899-EB2F-4384-88D5-0FC0432D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3A7B2-3ECB-4A1B-8FAD-A9D54FDF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2A721-D03C-4405-B9EF-C3350115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02D54-A43E-4836-BA7F-8A568FE2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F32A3-8112-4A30-B264-4E6B124E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78305-BBF8-49CD-8856-B960EB50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662BB-3E82-4DA9-9072-CEA2B1B8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3538A-5002-4540-AC2A-95F2E182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3ed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5057-DB54-498B-A457-73CA0E993B90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3ed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ABAE-2C31-4118-9469-83878C1F8741}" type="slidenum">
              <a:rPr b="1" lang="ru-RU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3ed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996E-C5A1-4AE7-9F80-A19BBAA80554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3ed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4FF5-1F38-4A11-9BB5-2AFB5A330B2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3ed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CC29-0523-42EA-A53E-B8C946A4502A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3ed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17C8-3878-4ED7-B0CB-2DC0F328CD08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3ed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B360-B29E-43A9-B8DD-0032C1076B75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3ed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9142-D524-4151-AAA6-EAD0AA64A2BD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Содержимое 5" descr="13-05-16-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detskaja-film-film-film-(best-muzon.cc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1544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Содержимое 4" descr="19ae2674d711d8dc724117f496a8c3ca3ddff8be.jpg"/>
          <p:cNvPicPr/>
          <p:nvPr/>
        </p:nvPicPr>
        <p:blipFill>
          <a:blip r:embed="rId1"/>
          <a:stretch/>
        </p:blipFill>
        <p:spPr>
          <a:xfrm>
            <a:off x="4067280" y="3141720"/>
            <a:ext cx="2801880" cy="21002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5f55"/>
                </a:solidFill>
                <a:latin typeface="Calibri"/>
              </a:rPr>
              <a:t>Подготовительная группа 6-7 лет</a:t>
            </a:r>
            <a:br>
              <a:rPr sz="4000"/>
            </a:b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Мультфильмы для возраста 6 лет – еще более сложные: научно-популярные («Коля, Оля и Архимед»), с «навороченным» сюжетом («Тайна третьей планеты»), со взрослым юмором («Фильм! Фильм! Фильм!»), о смерти («Верните Рекса»), о школьной жизни («В стране невыученных уроков»). </a:t>
            </a:r>
            <a:br>
              <a:rPr sz="1600"/>
            </a:br>
            <a:endParaRPr b="0" lang="en-US" sz="1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Алло! Вас слышу! (об изобретении радио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Арменфильм (серия – 4 м/ф)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) Ишь ты, масленица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) Кто расскажет небылицу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) Ух ты, говорящая рыба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) В синем море, в белой пене… («Оставайся, мальчик, с нами… »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 Верните Рекс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В стране невыученных уроко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 Гномы и горный король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 Детский альбом (на музыку П.И.Чайковского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9. Журавлиные перья (японская народная сказка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0. Здравствуй, Атом! (об атомах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1. Коля, Оля и Архимед (об Архимеде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2. Лоскутик и облако (серия – 3 м/ф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3. Премудрый пескарь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4. Робинзон Куз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5. Тайна третьей планеты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6. Фильм! Фильм! Фильм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7. Шёлковая кисточк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8.Главный звездный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9.Человек, который сажал деревь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0.. Гора самоцветов. 50 сер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Содержимое 4" descr="19ae2674d711d8dc724117f496a8c3ca3ddff8be.jpg"/>
          <p:cNvPicPr/>
          <p:nvPr/>
        </p:nvPicPr>
        <p:blipFill>
          <a:blip r:embed="rId2"/>
          <a:stretch/>
        </p:blipFill>
        <p:spPr>
          <a:xfrm>
            <a:off x="6324480" y="1413000"/>
            <a:ext cx="2819520" cy="2114280"/>
          </a:xfrm>
          <a:prstGeom prst="rect">
            <a:avLst/>
          </a:prstGeom>
          <a:ln w="0">
            <a:noFill/>
          </a:ln>
        </p:spPr>
      </p:pic>
      <p:pic>
        <p:nvPicPr>
          <p:cNvPr id="402" name="Содержимое 4" descr="19ae2674d711d8dc724117f496a8c3ca3ddff8be.jpg"/>
          <p:cNvPicPr/>
          <p:nvPr/>
        </p:nvPicPr>
        <p:blipFill>
          <a:blip r:embed="rId3"/>
          <a:stretch/>
        </p:blipFill>
        <p:spPr>
          <a:xfrm>
            <a:off x="6300720" y="4724280"/>
            <a:ext cx="2843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050920" y="3212640"/>
            <a:ext cx="678816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СОВЕТСКИЕ М/Ф ВОСПИТЫВАЛИ.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ТАМ В ОТВЕТ НА ПЛОХОЕ  ПОВЕДЕНИЕ ВСЕГДА ПРИХОДИТ НАКАЗАНИЕ – УШЕЛ БЕЗ СПРОСУ ГУЛЯТЬ В ЛЕС – ИСПУГАЛСЯ, ЗАБЛУДИЛСЯ (“НЕПОСЛУШНЫЙ КОТЕНОК”,СССР, 1953); НЕ НАКОРМИЛ КОТЕНКА, ПОЗАБОТИЛСЯ ТОЛЬКО О СЕБЕ – ОН НАШЕЛ ДРУГОГО ХОЗЯИНА; УБРАЛ ЗА СОБОЙ ИГРУШКИ – СРАЗУ СТАЛ БОЛЬШИМ (“КАК СТАТЬ БОЛЬШИМ”,СОЮЗМУЛЬТФИЛЬМ, 1967 Г.) И Т.Д.</a:t>
            </a:r>
            <a:br>
              <a:rPr sz="4000"/>
            </a:br>
            <a:endParaRPr b="0" lang="en-US" sz="2400" spc="-1" strike="noStrike">
              <a:solidFill>
                <a:srgbClr val="ebddc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Волшебная птица 1953год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05" name="Волшебная птица. 1953 (online-video-cutter.com).mp4" descr=""/>
          <p:cNvPicPr/>
          <p:nvPr/>
        </p:nvPicPr>
        <p:blipFill>
          <a:blip r:embed="rId1"/>
          <a:stretch/>
        </p:blipFill>
        <p:spPr>
          <a:xfrm>
            <a:off x="0" y="1546200"/>
            <a:ext cx="914400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4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Русские потешки 1969 г.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07" name="russkie_poteshki (online-video-cutter.com).mp4" descr=""/>
          <p:cNvPicPr/>
          <p:nvPr/>
        </p:nvPicPr>
        <p:blipFill>
          <a:blip r:embed="rId1"/>
          <a:stretch/>
        </p:blipFill>
        <p:spPr>
          <a:xfrm>
            <a:off x="0" y="1546200"/>
            <a:ext cx="91440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пасибо за внимание!!!!!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87280" y="299736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МУЛЬТФИЛЬМЫ ПО РУСКИМ НАРОДНЫМ СКАЗКАМ ПО РАЗНЫМ ВОЗРАСТНЫМ ГРУППАМ</a:t>
            </a:r>
            <a:br>
              <a:rPr sz="4000"/>
            </a:b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2484360" y="6137280"/>
            <a:ext cx="6367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ГБДОУ д/с№32 Калининского района г. Санкт-Петербурга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Педагог высшей категории Бондаренко Н.В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5f55"/>
                </a:solidFill>
                <a:latin typeface="Calibri"/>
              </a:rPr>
              <a:t>Зачем нужны мультфильмы ребенку? За что именно они так их любят? 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0" name="Rectangle 1"/>
          <p:cNvSpPr/>
          <p:nvPr/>
        </p:nvSpPr>
        <p:spPr>
          <a:xfrm>
            <a:off x="250920" y="2185200"/>
            <a:ext cx="7561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·        Первое - герои мультиков и сказок разговаривают с детьми на одном языке. Ничто и даже никто не сумеет так быстро и очень надежно донести до малыша информацию, как это может сделать мультфильм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·        Второе - дети просто обожают цветное и яркое, и мультики как раз эту потребность удовлетворяют спол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·        Третье, не нужно забывать о том, что дети воспринимают всю информацию абсолютно по-другому. На экран они не просто так смотрят, они целиком погружаются в сказку, как бы попадая внутрь и переживая все события вместе с любимыми геро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75f55"/>
                </a:solidFill>
                <a:latin typeface="Calibri"/>
              </a:rPr>
              <a:t>Хороший мультфильм для детей — это…</a:t>
            </a:r>
            <a:br>
              <a:rPr sz="4000"/>
            </a:b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Rectangle 1"/>
          <p:cNvSpPr/>
          <p:nvPr/>
        </p:nvSpPr>
        <p:spPr>
          <a:xfrm>
            <a:off x="250920" y="2096280"/>
            <a:ext cx="8424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Мультфильмы — это не только развлечение и отдых, но и хороший материал для развития фантазии детей. В них ребенок может найти героев, с которыми хочется ассоциироваться, и сюжеты, которые интересно развивать в воображении и игре. А воображение, в свою очередь, необходимо для успешной учебы, усвоения информации о том, с чем дети не сталкивались в реальности, а также для выстраивания перспективы на будущее. Воображение помогает справляться со стрессом и играет немаловажную роль в развитии эмоционального интелле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мимо того, что хорошие мультфильмы развивают воображение, они могут также помочь в безопасности пережить негативные эмоции и страхи, показать, как правильно поступать в той или иной ситуа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МУЛЬТФИЛЬМЫ ПО ВОЗРАСТНЫМ КАТЕГОРИЯМ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ПЕРВАЯ МЛАДШАЯ ОТ 2 ДО 3</a:t>
            </a:r>
            <a:br>
              <a:rPr sz="4000"/>
            </a:b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В 2-3 года ребенок, в основном, слушает и воспринимает сказки о животных. </a:t>
            </a:r>
            <a:endParaRPr b="0" lang="en-US" sz="2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Вершки и кореш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Волк и семеро козля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Девочка и медвед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Жил у бабушки козё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Колобо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Крылатый, мохнатый да маслены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Лиса Патрикеевна (по мотивам сказки «Лисичка со скалочкой»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 Машенька и медвед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 Петушок-Золотой гребешо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 Про деда, бабу и курочку Рябу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1. Сказка про Колобо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2. Соломенный бычо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3. Терем-теремо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. Три медвед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Содержимое 4" descr="81664861.jpg"/>
          <p:cNvPicPr/>
          <p:nvPr/>
        </p:nvPicPr>
        <p:blipFill>
          <a:blip r:embed="rId1"/>
          <a:stretch/>
        </p:blipFill>
        <p:spPr>
          <a:xfrm>
            <a:off x="6875640" y="1197000"/>
            <a:ext cx="1955520" cy="1820880"/>
          </a:xfrm>
          <a:prstGeom prst="rect">
            <a:avLst/>
          </a:prstGeom>
          <a:ln w="0">
            <a:noFill/>
          </a:ln>
        </p:spPr>
      </p:pic>
      <p:pic>
        <p:nvPicPr>
          <p:cNvPr id="377" name="Содержимое 4" descr="81664861.jpg"/>
          <p:cNvPicPr/>
          <p:nvPr/>
        </p:nvPicPr>
        <p:blipFill>
          <a:blip r:embed="rId2"/>
          <a:stretch/>
        </p:blipFill>
        <p:spPr>
          <a:xfrm>
            <a:off x="4211640" y="1773360"/>
            <a:ext cx="2205000" cy="1800000"/>
          </a:xfrm>
          <a:prstGeom prst="rect">
            <a:avLst/>
          </a:prstGeom>
          <a:ln w="0">
            <a:noFill/>
          </a:ln>
        </p:spPr>
      </p:pic>
      <p:pic>
        <p:nvPicPr>
          <p:cNvPr id="378" name="Содержимое 4" descr="81664861.jpg"/>
          <p:cNvPicPr/>
          <p:nvPr/>
        </p:nvPicPr>
        <p:blipFill>
          <a:blip r:embed="rId3"/>
          <a:stretch/>
        </p:blipFill>
        <p:spPr>
          <a:xfrm>
            <a:off x="4067280" y="4869000"/>
            <a:ext cx="2388960" cy="1804680"/>
          </a:xfrm>
          <a:prstGeom prst="rect">
            <a:avLst/>
          </a:prstGeom>
          <a:ln w="0">
            <a:noFill/>
          </a:ln>
        </p:spPr>
      </p:pic>
      <p:pic>
        <p:nvPicPr>
          <p:cNvPr id="379" name="Содержимое 4" descr="81664861.jpg"/>
          <p:cNvPicPr/>
          <p:nvPr/>
        </p:nvPicPr>
        <p:blipFill>
          <a:blip r:embed="rId4"/>
          <a:stretch/>
        </p:blipFill>
        <p:spPr>
          <a:xfrm>
            <a:off x="6588000" y="3789360"/>
            <a:ext cx="227988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Вторая младшая 3-4 года</a:t>
            </a:r>
            <a:br>
              <a:rPr sz="4000"/>
            </a:b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сказки о животных, с более сложным сюжетом</a:t>
            </a:r>
            <a:br>
              <a:rPr sz="4000"/>
            </a:br>
            <a:endParaRPr b="0" lang="en-US" sz="2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Волк и семеро козлят на новый лад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Волчище – серый хвостище (по сказке «Лиса и волк»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Кот Котофеевич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Лиса и вол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Лиса и дрозд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 Лиса и заяц (Ю.Норштейн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Медведь – липовая ног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. Три мешка хитрос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Содержимое 5" descr="90195747ba9cf43690a2ba028aecc041990155af.jpg"/>
          <p:cNvPicPr/>
          <p:nvPr/>
        </p:nvPicPr>
        <p:blipFill>
          <a:blip r:embed="rId1"/>
          <a:stretch/>
        </p:blipFill>
        <p:spPr>
          <a:xfrm>
            <a:off x="4356000" y="1268280"/>
            <a:ext cx="2592360" cy="1627200"/>
          </a:xfrm>
          <a:prstGeom prst="rect">
            <a:avLst/>
          </a:prstGeom>
          <a:ln w="0">
            <a:noFill/>
          </a:ln>
        </p:spPr>
      </p:pic>
      <p:pic>
        <p:nvPicPr>
          <p:cNvPr id="383" name="Содержимое 5" descr="90195747ba9cf43690a2ba028aecc041990155af.jpg"/>
          <p:cNvPicPr/>
          <p:nvPr/>
        </p:nvPicPr>
        <p:blipFill>
          <a:blip r:embed="rId2"/>
          <a:stretch/>
        </p:blipFill>
        <p:spPr>
          <a:xfrm>
            <a:off x="6443640" y="2565360"/>
            <a:ext cx="2700360" cy="2017800"/>
          </a:xfrm>
          <a:prstGeom prst="rect">
            <a:avLst/>
          </a:prstGeom>
          <a:ln w="0">
            <a:noFill/>
          </a:ln>
        </p:spPr>
      </p:pic>
      <p:pic>
        <p:nvPicPr>
          <p:cNvPr id="384" name="Содержимое 5" descr="90195747ba9cf43690a2ba028aecc041990155af.jpg"/>
          <p:cNvPicPr/>
          <p:nvPr/>
        </p:nvPicPr>
        <p:blipFill>
          <a:blip r:embed="rId3"/>
          <a:stretch/>
        </p:blipFill>
        <p:spPr>
          <a:xfrm>
            <a:off x="4032360" y="3284640"/>
            <a:ext cx="2124000" cy="2016000"/>
          </a:xfrm>
          <a:prstGeom prst="rect">
            <a:avLst/>
          </a:prstGeom>
          <a:ln w="0">
            <a:noFill/>
          </a:ln>
        </p:spPr>
      </p:pic>
      <p:pic>
        <p:nvPicPr>
          <p:cNvPr id="385" name="Содержимое 5" descr="90195747ba9cf43690a2ba028aecc041990155af.jpg"/>
          <p:cNvPicPr/>
          <p:nvPr/>
        </p:nvPicPr>
        <p:blipFill>
          <a:blip r:embed="rId4"/>
          <a:stretch/>
        </p:blipFill>
        <p:spPr>
          <a:xfrm>
            <a:off x="5940360" y="4653000"/>
            <a:ext cx="288612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5f55"/>
                </a:solidFill>
                <a:latin typeface="Calibri"/>
              </a:rPr>
              <a:t>Средняя группа  4-5 лет</a:t>
            </a:r>
            <a:br>
              <a:rPr sz="4000"/>
            </a:br>
            <a:r>
              <a:rPr b="0" lang="ru-RU" sz="1600" spc="-1" strike="noStrike">
                <a:solidFill>
                  <a:srgbClr val="c00000"/>
                </a:solidFill>
                <a:latin typeface="Calibri"/>
              </a:rPr>
              <a:t>В 4 года вводим мультфильмы по русским волшебным сказкам . В этом возрасте ребенок уже начинает воспринимать социальные отношения: дружба, любовь, брак, верность, помощь в беде, борьба добра со злом, жизнь и смерть и т.д. В мультфильмах для 4-леток главные действующие лица уже не только животные, но и люди (как правило, дети). </a:t>
            </a:r>
            <a:br>
              <a:rPr sz="1600"/>
            </a:br>
            <a:endParaRPr b="0" lang="en-US" sz="1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700280"/>
            <a:ext cx="40384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Василиса Прекрасная (по сказке «Царевна-Лягушка»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Гуси-лебед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Зимовье звере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Каша из топор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По щучьему веленью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6. Сестрица Алёнушка и братец Иванушк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7. Хромая уточка (украинская сказка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8. Цапля и журавль (Ю.Норштейн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9. Царевна-Лягушка (1954 г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Содержимое 4" descr="inx960x640.jpg"/>
          <p:cNvPicPr/>
          <p:nvPr/>
        </p:nvPicPr>
        <p:blipFill>
          <a:blip r:embed="rId1"/>
          <a:stretch/>
        </p:blipFill>
        <p:spPr>
          <a:xfrm>
            <a:off x="3995640" y="2565360"/>
            <a:ext cx="2587680" cy="1727280"/>
          </a:xfrm>
          <a:prstGeom prst="rect">
            <a:avLst/>
          </a:prstGeom>
          <a:ln w="0">
            <a:noFill/>
          </a:ln>
        </p:spPr>
      </p:pic>
      <p:pic>
        <p:nvPicPr>
          <p:cNvPr id="389" name="Содержимое 4" descr="inx960x640.jpg"/>
          <p:cNvPicPr/>
          <p:nvPr/>
        </p:nvPicPr>
        <p:blipFill>
          <a:blip r:embed="rId2"/>
          <a:stretch/>
        </p:blipFill>
        <p:spPr>
          <a:xfrm>
            <a:off x="6659640" y="1628640"/>
            <a:ext cx="2233440" cy="2087640"/>
          </a:xfrm>
          <a:prstGeom prst="rect">
            <a:avLst/>
          </a:prstGeom>
          <a:ln w="0">
            <a:noFill/>
          </a:ln>
        </p:spPr>
      </p:pic>
      <p:pic>
        <p:nvPicPr>
          <p:cNvPr id="390" name="Содержимое 4" descr="inx960x640.jpg"/>
          <p:cNvPicPr/>
          <p:nvPr/>
        </p:nvPicPr>
        <p:blipFill>
          <a:blip r:embed="rId3"/>
          <a:stretch/>
        </p:blipFill>
        <p:spPr>
          <a:xfrm>
            <a:off x="6659640" y="4005360"/>
            <a:ext cx="2324160" cy="2322360"/>
          </a:xfrm>
          <a:prstGeom prst="rect">
            <a:avLst/>
          </a:prstGeom>
          <a:ln w="0">
            <a:noFill/>
          </a:ln>
        </p:spPr>
      </p:pic>
      <p:pic>
        <p:nvPicPr>
          <p:cNvPr id="391" name="Содержимое 4" descr="inx960x640.jpg"/>
          <p:cNvPicPr/>
          <p:nvPr/>
        </p:nvPicPr>
        <p:blipFill>
          <a:blip r:embed="rId4"/>
          <a:stretch/>
        </p:blipFill>
        <p:spPr>
          <a:xfrm>
            <a:off x="3924360" y="4581360"/>
            <a:ext cx="266364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Старшая группа 5-6 лет</a:t>
            </a:r>
            <a:br>
              <a:rPr sz="4000"/>
            </a:b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Мультфильмы на 5 лет – со сложным сюжетом, зачастую философские.</a:t>
            </a:r>
            <a:br>
              <a:rPr sz="4000"/>
            </a:br>
            <a:endParaRPr b="0" lang="en-US" sz="2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НОМЕТРАЖНЫЕ МУЛЬТФИЛЬМЫ ПО РУССКИМ НАРОДНЫ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АВТОРСКИМ СКАЗКА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 Аленький цветочек (по С.Аксакову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Двенадцать месяцев (по С.Маршаку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Конёк-Горбунок (по П.Ершову) (1947 г.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Конёк-Горбунок (по П.Ершову) (1975 г.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 Приключения Буратино (по А.Толстому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Синеглазк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 Снегурочка (по А.Островскому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ЛЬТФИЛЬМЫ ПО СКАЗКАМ ПУШКИН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Сказка о золотом петушке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Сказка о мёртвой царевне и семи богатырях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Сказка о попе и о работнике его Балд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Сказка о рыбаке и рыбке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  Сказка о царе Салтане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Содержимое 4" descr="original.jpg"/>
          <p:cNvPicPr/>
          <p:nvPr/>
        </p:nvPicPr>
        <p:blipFill>
          <a:blip r:embed="rId1"/>
          <a:stretch/>
        </p:blipFill>
        <p:spPr>
          <a:xfrm>
            <a:off x="4140360" y="2205000"/>
            <a:ext cx="2808000" cy="2141640"/>
          </a:xfrm>
          <a:prstGeom prst="rect">
            <a:avLst/>
          </a:prstGeom>
          <a:ln w="0">
            <a:noFill/>
          </a:ln>
        </p:spPr>
      </p:pic>
      <p:pic>
        <p:nvPicPr>
          <p:cNvPr id="395" name="Содержимое 4" descr="original.jpg"/>
          <p:cNvPicPr/>
          <p:nvPr/>
        </p:nvPicPr>
        <p:blipFill>
          <a:blip r:embed="rId2"/>
          <a:stretch/>
        </p:blipFill>
        <p:spPr>
          <a:xfrm>
            <a:off x="6391440" y="981000"/>
            <a:ext cx="2752560" cy="2068560"/>
          </a:xfrm>
          <a:prstGeom prst="rect">
            <a:avLst/>
          </a:prstGeom>
          <a:ln w="0">
            <a:noFill/>
          </a:ln>
        </p:spPr>
      </p:pic>
      <p:pic>
        <p:nvPicPr>
          <p:cNvPr id="396" name="Содержимое 4" descr="original.jpg"/>
          <p:cNvPicPr/>
          <p:nvPr/>
        </p:nvPicPr>
        <p:blipFill>
          <a:blip r:embed="rId3"/>
          <a:stretch/>
        </p:blipFill>
        <p:spPr>
          <a:xfrm>
            <a:off x="4167360" y="4869000"/>
            <a:ext cx="2420640" cy="1760400"/>
          </a:xfrm>
          <a:prstGeom prst="rect">
            <a:avLst/>
          </a:prstGeom>
          <a:ln w="0">
            <a:noFill/>
          </a:ln>
        </p:spPr>
      </p:pic>
      <p:pic>
        <p:nvPicPr>
          <p:cNvPr id="397" name="Содержимое 4" descr="original.jpg"/>
          <p:cNvPicPr/>
          <p:nvPr/>
        </p:nvPicPr>
        <p:blipFill>
          <a:blip r:embed="rId4"/>
          <a:stretch/>
        </p:blipFill>
        <p:spPr>
          <a:xfrm>
            <a:off x="6576840" y="3860640"/>
            <a:ext cx="256716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4T10:24:08Z</dcterms:created>
  <dc:creator>Наташа</dc:creator>
  <dc:description/>
  <dc:language>en-US</dc:language>
  <cp:lastModifiedBy>Наташа</cp:lastModifiedBy>
  <dcterms:modified xsi:type="dcterms:W3CDTF">2017-12-04T15:10:18Z</dcterms:modified>
  <cp:revision>1</cp:revision>
  <dc:subject/>
  <dc:title>Слайд 1</dc:title>
</cp:coreProperties>
</file>