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9635-7F40-4BAD-8E3B-55DE1B711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9814-0D43-4E6C-84BA-A674663D7791}" type="slidenum">
              <a:rPr b="0" lang="ru-RU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05C-F54E-4E56-B757-514B486D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BCA-FEB4-457A-8657-C76A076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9AD-0701-4831-88BB-A6C69080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9D5-3BA3-4118-A5A9-705CCC67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6219-5353-4E24-BAFC-3A2C8A26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6471-EC08-410F-AF41-2AABC25B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61D5-1889-40D0-93BE-5FAC904F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6BB9-E02B-46E5-B982-D98FF33A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F16C-2345-403C-806F-6F6F8BD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1C8-9C25-430B-9D59-701ABCE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AA7-170E-4A46-8158-A7B7BB4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14E-1D30-488D-8366-096D54C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4F3B-01BA-4B7E-BA7B-D4688E1D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2454-859F-4566-8C69-4A08D41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AE6-E2E8-47D4-A206-F492DEC5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1DE5-7F9A-49CE-B946-914BD8A9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151-5A5A-4D68-A017-2F71D598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EF4-5804-4A50-A416-148E6F7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F1D-C808-4DF0-BF92-29A87F2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D02-4F8E-4220-99CB-FA452EDB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920-DEF2-47D1-9F2B-52493B75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AD6-E040-443D-A707-4DB6B41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F30-FA67-4400-BE00-66C30FC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E55-287C-41C4-B44D-7B8D00B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8D86-C062-432D-AE53-EDA894FF5C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3FAA-1136-48A4-BDBC-4410EB54A87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ектирование индивидуального маршрута обучения по экономике  в условиях введения ФГО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1032"/>
          <p:cNvSpPr/>
          <p:nvPr/>
        </p:nvSpPr>
        <p:spPr>
          <a:xfrm>
            <a:off x="5239080" y="4097160"/>
            <a:ext cx="38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b74"/>
                </a:solidFill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b74"/>
                </a:solidFill>
                <a:latin typeface="Times New Roman"/>
              </a:rPr>
              <a:t>Учитель МОУ СОШ № 2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b74"/>
                </a:solidFill>
                <a:latin typeface="Times New Roman"/>
              </a:rPr>
              <a:t>г. Дзержинс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b74"/>
                </a:solidFill>
                <a:latin typeface="Times New Roman"/>
              </a:rPr>
              <a:t>Яшина Наталия Петровн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Рисунок 3" descr="http://do.gendocs.ru/pars_docs/tw_refs/359/358059/358059_html_36c735a3.png"/>
          <p:cNvPicPr/>
          <p:nvPr/>
        </p:nvPicPr>
        <p:blipFill>
          <a:blip r:embed="rId1"/>
          <a:stretch/>
        </p:blipFill>
        <p:spPr>
          <a:xfrm>
            <a:off x="642960" y="3357720"/>
            <a:ext cx="307188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701028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мпетенци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9200" y="907560"/>
            <a:ext cx="878544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. учебно-познавательная 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ормируется  через использование проблемного обучения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ейс-метода, самостоятельную работу учащихся, составление логических схем и таблиц, индивидуальные творческие задания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2. социальная 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спользование деятельностного подхода в обучении через проведение уроков – практикумов, деловых игр, семинаров, конференций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3. информационная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работа с различными источниками информации 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4. коммуникативная 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формируется при участии в научно-практических конференциях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349200" y="58053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Формирование ключевых компетентностей – это способность соблюдать установленный стандарт,  применяемый в каком-либо виде деятельност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5600" y="228600"/>
            <a:ext cx="7086600" cy="12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НАЧИМ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1280" y="3068640"/>
            <a:ext cx="4286160" cy="31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разработать индивиду-альные учебные планы (или образовательные маршруты) для каждого ученика исходя из его индивидуальных возможностей и особенносте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Для развития одаренности воспитаннику необходимы индивидуальные формы обучения. Предельно индивидуализировать учебную деятельность ребенка можно только одним способом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1051" descr="100_2145"/>
          <p:cNvPicPr/>
          <p:nvPr/>
        </p:nvPicPr>
        <p:blipFill>
          <a:blip r:embed="rId1"/>
          <a:stretch/>
        </p:blipFill>
        <p:spPr>
          <a:xfrm>
            <a:off x="5076720" y="3141720"/>
            <a:ext cx="3649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4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720" y="12466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46"/>
          <p:cNvSpPr/>
          <p:nvPr/>
        </p:nvSpPr>
        <p:spPr>
          <a:xfrm>
            <a:off x="720" y="19231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720" y="25992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48"/>
          <p:cNvSpPr/>
          <p:nvPr/>
        </p:nvSpPr>
        <p:spPr>
          <a:xfrm>
            <a:off x="1080" y="3275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1080" y="3951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50"/>
          <p:cNvSpPr/>
          <p:nvPr/>
        </p:nvSpPr>
        <p:spPr>
          <a:xfrm>
            <a:off x="1080" y="4628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Rectangle 51"/>
          <p:cNvSpPr/>
          <p:nvPr/>
        </p:nvSpPr>
        <p:spPr>
          <a:xfrm>
            <a:off x="1080" y="53042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1714680" y="26028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АКТУАЛЬНОСТ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468360" y="203184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здание условий для самостоятельной работы учащихся при решении практических ситуаций и выполнении разнообразных творческих и аналитических заданий, способствующих усилению мотивации изучения экономики и стимулированию активной самостоятельной познавательной деятельности учащихся, развитию их интеллектуальных и творческих способност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767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ндивидуальный образовательный маршру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2049"/>
          <p:cNvSpPr/>
          <p:nvPr/>
        </p:nvSpPr>
        <p:spPr>
          <a:xfrm>
            <a:off x="179280" y="2678040"/>
            <a:ext cx="46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то образовательная программа, предназначенная для обучения одного конкретного воспитанника, направленная на развитие его индивидуальных способност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2051" descr="D:\Фотоальбом\Олимпиада2014\Олимпиада_Аня_n.jpg"/>
          <p:cNvPicPr/>
          <p:nvPr/>
        </p:nvPicPr>
        <p:blipFill>
          <a:blip r:embed="rId1"/>
          <a:stretch/>
        </p:blipFill>
        <p:spPr>
          <a:xfrm>
            <a:off x="4670280" y="2714760"/>
            <a:ext cx="447372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44280"/>
            <a:ext cx="708660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Цель исследовани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049"/>
          <p:cNvSpPr/>
          <p:nvPr/>
        </p:nvSpPr>
        <p:spPr>
          <a:xfrm>
            <a:off x="179280" y="3495600"/>
            <a:ext cx="489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одика построения индивидуального образовательного маршрута мало разработана. В многочисленных книгах и статьях о развитии детской одаренности много разных интересных задач, заданий, методик. Но как известно, серьезный педагогический эффект не могут гарантировать отдельные задания и методики, его можно добиться только имея целостную систему - программу, или индивидуальный образовательный маршру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500040" y="135720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недрение методики разработки и использования индивидуальных образовательных маршрутов (ИОМ) в образовательной деятельности с одаренными деть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Рисунок 5" descr="IMG_1273.JPG"/>
          <p:cNvPicPr/>
          <p:nvPr/>
        </p:nvPicPr>
        <p:blipFill>
          <a:blip r:embed="rId1"/>
          <a:stretch/>
        </p:blipFill>
        <p:spPr>
          <a:xfrm>
            <a:off x="5211720" y="3213000"/>
            <a:ext cx="349416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46044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Факторы, определяющие содержание ИО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2198160"/>
            <a:ext cx="821520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собенности, интересы и потребности самого ребенка и его родителей в достижении необходимого образовательного результат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офессионализм педагога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озможности образовательного учреждения удовлетворить образовательные потребности учащихся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•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озможности материально-технической базы учреждени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46044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ффективность разработки ИО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920" y="2198160"/>
            <a:ext cx="878688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Эффективность разработки ИОМ обуславливается рядом условий: 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осознанием всеми участниками педагогического процесса необходимости и значимости ИОМ как одного из способов самоопределения, самореализации школьника; 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осуществлением психолого-педагогического сопровождения и информационной поддержки процесса разработки ИОМ учащегося; 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организацией рефлексии как основы коррекции ИОМ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инципы организации работы по индивидуальному образовательному маршрут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71680" y="2119320"/>
            <a:ext cx="828648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индивидуальный, дифференцированный подход к учебно-воспитательному процессу, продуктивной, творческой деятельности ученика и учителя; 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программы дополнительного образования, факультативов по предметам, научное общество учащихся, позволяющих реализовывать образовательные потребности обучающихся, их родителей; 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качественное обучение, развитие и воспитание учащихся без ущерба для детского здоровья.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инципы организации работы по индивидуальному образовательному маршрут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Рисунок 2" descr="http://do.gendocs.ru/pars_docs/tw_refs/359/358059/358059_html_35404e2a.gif"/>
          <p:cNvPicPr/>
          <p:nvPr/>
        </p:nvPicPr>
        <p:blipFill>
          <a:blip r:embed="rId1"/>
          <a:stretch/>
        </p:blipFill>
        <p:spPr>
          <a:xfrm>
            <a:off x="214200" y="1714680"/>
            <a:ext cx="8826480" cy="50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D:\Фотоальбом\Олимпиада2014\IMG_0261.jpg"/>
          <p:cNvPicPr/>
          <p:nvPr/>
        </p:nvPicPr>
        <p:blipFill>
          <a:blip r:embed="rId2"/>
          <a:stretch/>
        </p:blipFill>
        <p:spPr>
          <a:xfrm>
            <a:off x="3535200" y="2714760"/>
            <a:ext cx="2036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жидаемый результа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2179800"/>
            <a:ext cx="55087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езультатом проектирования индивидуального образовательного маршрута становится выбор линии (пути) движения учащегося к поставленной цели. 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 обучения состоит не в передаче знаний, а в обеспечении условий самореализации личности. Задача школы – предоставить ребенку широкий спектр образовательных услуг, которые могут в полной мере реализовать формулу "хочу-могу-есть-требуют".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5" descr="D:\Фотоальбом\Олимпиада2014\IMG_0240.jpg"/>
          <p:cNvPicPr/>
          <p:nvPr/>
        </p:nvPicPr>
        <p:blipFill>
          <a:blip r:embed="rId1"/>
          <a:stretch/>
        </p:blipFill>
        <p:spPr>
          <a:xfrm>
            <a:off x="5548320" y="285768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62040" y="228240"/>
            <a:ext cx="83296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даренность — это системное, развивающееся 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тапы индивидуального образовательного маршрут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42960" y="2000160"/>
          <a:ext cx="8072280" cy="4764240"/>
        </p:xfrm>
        <a:graphic>
          <a:graphicData uri="http://schemas.openxmlformats.org/drawingml/2006/table">
            <a:tbl>
              <a:tblPr/>
              <a:tblGrid>
                <a:gridCol w="4037040"/>
                <a:gridCol w="4035240"/>
              </a:tblGrid>
              <a:tr h="5367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"Что я должен знать и уметь"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</a:tr>
              <a:tr h="10137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ЕКТИРОВА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"Что я хочу знать и уметь"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</a:tr>
              <a:tr h="10717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СМЫСЛ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"Что я могу"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</a:tr>
              <a:tr h="10713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"Как я буду идт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 поставленной цели"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</a:tr>
              <a:tr h="10706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ЦЕНКА И КОРРЕКТИРОВ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Чему я должен научиться 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мне нужно доработать"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228600"/>
            <a:ext cx="72770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Индивидуальный образовательный маршрут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 </a:t>
            </a:r>
            <a:br>
              <a:rPr sz="2600"/>
            </a:b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люевой Анны на 2014-2015 уч.г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4200" y="1428840"/>
          <a:ext cx="8715600" cy="5086440"/>
        </p:xfrm>
        <a:graphic>
          <a:graphicData uri="http://schemas.openxmlformats.org/drawingml/2006/table">
            <a:tbl>
              <a:tblPr/>
              <a:tblGrid>
                <a:gridCol w="928800"/>
                <a:gridCol w="3857760"/>
                <a:gridCol w="1857240"/>
                <a:gridCol w="1214280"/>
                <a:gridCol w="857520"/>
              </a:tblGrid>
              <a:tr h="26964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 gridSpan="3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о-педагогическая поддержка, кураторств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144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анализ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-умею-достиг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ороший уровень знаний по математике 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обый интерес вызывает проблема экономики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мею писать доклады, эссе, делать презентации, пользоваться сетью Интернет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Мои результаты: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зер всероссийской олимпиады ИФРУ(Москва 2014)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 Всероссийской олимпиады им. Кондратьева (Москва 2014)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 городского конкурса по правам потребителя (Дзержинск 2013, 2014)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городской научно-практической конференции (Дзержинск  2014)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городской олимпиады по экономике (Дзержинск  2014)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 gridSpan="3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о-педагогической службой выявлены виды одаренности обучающегося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, креативная.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куратора: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ить вариативность внеурочной деятельности обучающегося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ставить ИМ с учетом интересов ребенка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вивать навыки исследовательской деятельности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вершенствовать в дальнейшем творческий потенциал и лидерские качества обучающегося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у узнать – научиться-достичь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Заниматься исследовательской деятельностью в области экономики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должить успешное участие в научно-практических конференциях разного уровня. 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  <a:tc gridSpan="3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составления ИОМ выбираются конкретные виды деятельности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учно-исследовательская работа в рамках НОУ школьников «Мудрая сова»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шение экономических задач в рамках элективных курсов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частие в конкурсах и олимпиадах, различных уровней по интересам учащегося. 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rowSpan="2"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и шаги в достижении цел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 дополнительной научной литературы по экономике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нятие в НОУ школьников «Мудрая сова»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частие в различных видах олимпиад (ИФРУ, им. Кондратьева, заочная школа по экономике при МГУ, Каплановские чтения, олимпиада ВШЭ),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частие в предметных неделях, конкурсах различного уровня, научно-практических конференциях 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96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й тур олимпиады ИФРУ,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этап Всероссийской олимпиады школьников,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а онлайн ВШЭ,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этап олимпиады по основам налоговых знан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 НОУ «Старт в науку»,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й тур конкурса по основам потребительских знан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й тур олимпиады ИФРУ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5493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и анализ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л – научился – достиг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47520" marR="4752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по ИОМ способствовала развитию интеллектуальных и творческих способностей обучающегося, позволила ему достичь хороших успехов в учебной деятельност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cd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2060640" y="428760"/>
            <a:ext cx="7083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Список использованной литературы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57120" y="2214720"/>
            <a:ext cx="8480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1.   Селевко, Г.К. Педагогические технологии на основе активизации, интенсификации и эффективного управления УВП. - М.: НИИ школьных технологий, 2005. </a:t>
            </a:r>
            <a:br>
              <a:rPr sz="2400"/>
            </a:b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2.   Хуторской А.В. Методика продуктивного обучения: пособие для учителя. – М.: Гум. изд.центр ВЛАДОС, 200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3. Константинова В.В. Индивидуальный образовательный маршрут в системе работы с одаренными детьми./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http://www.menobr.ru/materials/727/39065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4. Стимулирование познавательной деятельности как средство саморазвития и самореализации личности. // Завуч, 2003,- №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68580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даренность – это сочетание  характеристик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особности, превышающие средний уровен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реативность (творческие способности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сокая мотивация к дея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стойчивость в достижен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360" y="4320"/>
            <a:ext cx="5600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иды одарённост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3276720" y="2133720"/>
            <a:ext cx="266688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63b"/>
                </a:solidFill>
                <a:uFillTx/>
                <a:latin typeface="Times New Roman"/>
              </a:rPr>
              <a:t>ИНТЕЛЛЕКТУАЛЬН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любознательность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динамичность 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оперативность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мыслительных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процессов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шкала Станфорд-Бине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шкала Векслера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тест Слоссо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тест Равена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МЭДИС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685800" y="1371600"/>
            <a:ext cx="2209680" cy="1447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4816"/>
                </a:solidFill>
                <a:uFillTx/>
                <a:latin typeface="Times New Roman"/>
              </a:rPr>
              <a:t>АКАДЕМИЧЕСК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высокая мотивация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при изучени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предметов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тест Равена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685800" y="2971800"/>
            <a:ext cx="2209680" cy="16765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4816"/>
                </a:solidFill>
                <a:uFillTx/>
                <a:latin typeface="Times New Roman"/>
              </a:rPr>
              <a:t>ТВОРЧЕСК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неординарность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изобретательность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импровизация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тест Торренса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тест Роршаха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МИДК Овчаровой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685800" y="5029200"/>
            <a:ext cx="220968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4816"/>
                </a:solidFill>
                <a:uFillTx/>
                <a:latin typeface="Times New Roman"/>
              </a:rPr>
              <a:t>ЛИДЕРСК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организация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ответственность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шкала оценк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веденч. характеристи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ензулл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6248520" y="1600200"/>
            <a:ext cx="2590560" cy="22860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4816"/>
                </a:solidFill>
                <a:uFillTx/>
                <a:latin typeface="Times New Roman"/>
              </a:rPr>
              <a:t>ХУДОЖЕСТВЕНН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увлечённость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различными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видами искусства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тесты Люшера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озенцвейг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6172200" y="4343400"/>
            <a:ext cx="2666880" cy="22860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4816"/>
                </a:solidFill>
                <a:uFillTx/>
                <a:latin typeface="Times New Roman"/>
              </a:rPr>
              <a:t>ПСИХОМОТОРНА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(активность в движениях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00a2"/>
                </a:solidFill>
                <a:latin typeface="Times New Roman"/>
              </a:rPr>
              <a:t>спортивность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тесты Пурдье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методика Гройсман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даренность проявляется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пережающее познавательное развити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Times New Roman"/>
              </a:rPr>
              <a:t>Психосоциальая чувствительност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обенности физического развити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Times New Roman"/>
              </a:rPr>
              <a:t>Опережающее развитие мотивационно-волевой сфер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62040" y="228240"/>
            <a:ext cx="83296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00"/>
                </a:solidFill>
                <a:latin typeface="Times New Roman"/>
              </a:rPr>
              <a:t>Причины актуальности развития одарённости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785960" y="1643040"/>
            <a:ext cx="701028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ейчас необходимы люди, мыслящие не шаблонно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меющие искать новые пути решения предложенных задач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ходить выход из проблемной ситуац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908000" y="4941720"/>
            <a:ext cx="7056720" cy="11512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е условие развития творческих способностей – раннее начало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1400" y="357120"/>
            <a:ext cx="7010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 работе с одаренными детьми учитель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6760" y="2071800"/>
            <a:ext cx="857268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огащает учебные программы, т.е. обновляет и расширяет содержание образования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имулирует познавательные способности учащихся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ботает дифференцированно, осуществляет индивидуальный подход и консультирование учащихся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ализирует свою учебно-воспитательную деятельность и деятельность классов, в которых он преподает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бирает и готовит материалы для выявления и развития одаренности у учащихс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7010280" cy="17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бор форм и методов зависит от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ида одарённости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зраста ребёнка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ровня одарённости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ости самого ребёнка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фессиональной подготов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едагог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ри основных подход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 разработке содержания учебных программ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2133720"/>
            <a:ext cx="79311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Углубление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анный подход эффективен по отношению к детям, которые обнаруживают особый интерес по отношению к той или иной конкретной области знания или области дея­тельност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Обогащение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т подход ориентирован на качественно иное содержание обучения с вы­ходом за рамки изучения традиционных тем за счет установления связей с другими темами, проблемами или дисциплинам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Проблематизация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Этот подход предпо­лагает стимулирование личностного развития учащихся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0:06:24Z</dcterms:created>
  <dc:creator>Яшин</dc:creator>
  <dc:description/>
  <dc:language>en-US</dc:language>
  <cp:lastModifiedBy>ВАЛЕРИЙ БОРИСОВИЧ</cp:lastModifiedBy>
  <dcterms:modified xsi:type="dcterms:W3CDTF">2015-10-17T16:24:56Z</dcterms:modified>
  <cp:revision>68</cp:revision>
  <dc:subject/>
  <dc:title>ПРИМЕНЕНИЕ ВЗРЫВНЫХ ТЕХНОЛОГИЙ В «ФГУП ГОСНИИМАШИНОСТРОЕНИЯ»</dc:title>
</cp:coreProperties>
</file>