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9F8-DA6C-48B3-98D9-1A7384E0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EE4-D9BD-46A5-9DE6-74DFF13A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B037-C9EA-43C2-9CB3-35E6E740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812-8FD8-49B5-9201-EAAF9464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AB5F-C46B-480F-8CB7-24E7C6E1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EA16-BFE0-4CCF-B432-CA2B9CC9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9F8-52A2-4BC6-932E-E528ACFB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6BF-559B-4540-8A8A-32E93F2F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A3C-C24C-4709-862C-256C08A1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48B-9986-4E7E-B727-9E61B8A2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8790-BC24-44B5-A2CD-DC4B07BF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24F-EF05-408E-B086-DEB1C43B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0983-6045-4D07-995C-C31A0AD21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ла ученица 2 А класс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БОУ СОШ № 33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Сызран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кишкина Дари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ководитель проекта: Широких Т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1579323_634872560537350000"/>
          <p:cNvPicPr/>
          <p:nvPr/>
        </p:nvPicPr>
        <p:blipFill>
          <a:blip r:embed="rId1"/>
          <a:stretch/>
        </p:blipFill>
        <p:spPr>
          <a:xfrm>
            <a:off x="0" y="0"/>
            <a:ext cx="91440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img2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Профессия пап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56000" y="1196640"/>
            <a:ext cx="4330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ессия моего папы уже более 10 лет связана с отраслью нефтяной промышленности.  Своей профессии он учился в Самарском государственном техническом университ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4" descr="0-02-05-00d5a6a6b761c6d73aa2bdb7a275aaa48e0251e2668c83dc3e1073c00d28f6fc_full"/>
          <p:cNvPicPr/>
          <p:nvPr/>
        </p:nvPicPr>
        <p:blipFill>
          <a:blip r:embed="rId1"/>
          <a:stretch/>
        </p:blipFill>
        <p:spPr>
          <a:xfrm>
            <a:off x="1187280" y="1268280"/>
            <a:ext cx="266400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img_4926"/>
          <p:cNvPicPr/>
          <p:nvPr/>
        </p:nvPicPr>
        <p:blipFill>
          <a:blip r:embed="rId2"/>
          <a:stretch/>
        </p:blipFill>
        <p:spPr>
          <a:xfrm>
            <a:off x="971640" y="4437000"/>
            <a:ext cx="327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0" y="260280"/>
            <a:ext cx="4248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о работа опасная и ответственная. Он контролирует проведение своевременного технического обслуживания и наладку средств автоматики нефтепровода,ведет техническую документацию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MG_20161122_104746"/>
          <p:cNvPicPr/>
          <p:nvPr/>
        </p:nvPicPr>
        <p:blipFill>
          <a:blip r:embed="rId1"/>
          <a:stretch/>
        </p:blipFill>
        <p:spPr>
          <a:xfrm>
            <a:off x="900000" y="333360"/>
            <a:ext cx="2808360" cy="3095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IMG_20170209_115653"/>
          <p:cNvPicPr/>
          <p:nvPr/>
        </p:nvPicPr>
        <p:blipFill>
          <a:blip r:embed="rId2"/>
          <a:stretch/>
        </p:blipFill>
        <p:spPr>
          <a:xfrm>
            <a:off x="324000" y="364500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292720" y="333000"/>
            <a:ext cx="35272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йчас он работает начальником группы по эксплуатации средств телемеханики    в АО     «Транснефть» и любит свою раб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1411235032_1"/>
          <p:cNvPicPr/>
          <p:nvPr/>
        </p:nvPicPr>
        <p:blipFill>
          <a:blip r:embed="rId1"/>
          <a:stretch/>
        </p:blipFill>
        <p:spPr>
          <a:xfrm>
            <a:off x="324000" y="189000"/>
            <a:ext cx="4825800" cy="27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IMG_20161122_104746"/>
          <p:cNvPicPr/>
          <p:nvPr/>
        </p:nvPicPr>
        <p:blipFill>
          <a:blip r:embed="rId2"/>
          <a:stretch/>
        </p:blipFill>
        <p:spPr>
          <a:xfrm>
            <a:off x="826920" y="3141720"/>
            <a:ext cx="3672000" cy="335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dsc_2370-1"/>
          <p:cNvPicPr/>
          <p:nvPr/>
        </p:nvPicPr>
        <p:blipFill>
          <a:blip r:embed="rId3"/>
          <a:stretch/>
        </p:blipFill>
        <p:spPr>
          <a:xfrm>
            <a:off x="324000" y="3141720"/>
            <a:ext cx="48243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g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1T08:10:05Z</dcterms:created>
  <dc:creator>Хозяин</dc:creator>
  <dc:description/>
  <dc:language>en-US</dc:language>
  <cp:lastModifiedBy>Sergey</cp:lastModifiedBy>
  <dcterms:modified xsi:type="dcterms:W3CDTF">2018-01-29T13:14:27Z</dcterms:modified>
  <cp:revision>4</cp:revision>
  <dc:subject/>
  <dc:title>Тема: Профессии родителей</dc:title>
</cp:coreProperties>
</file>