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657-EB00-467D-AA29-A82C1EA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6E2-52B6-458C-A9FC-50D3815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B06-D043-4D99-8143-7E895F9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0F9-4454-48EC-A81A-037E941A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F35-3A60-4B7B-A4AA-28224FB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35E-86CC-430D-A01F-E65748B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8A51-7A6F-4B52-B5DD-02B3360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56E-3D32-4199-9112-C3637CDE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9DA9-B0A9-469D-AE84-224A90B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9DA7-1E77-4E9E-982E-96855CA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4CC-571B-43CB-94B0-E4AB0ED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5CE-E7A7-477E-80CE-BA6FAE85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7D40-A119-4E12-A68A-A3C5325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59B-0FDA-4565-8CD1-C08C15A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A72-3944-4309-A193-1A1888E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1602-6174-4758-B1AF-F0C34680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4DD9-0330-4E20-9C8E-B8255627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4930-2805-40DB-BDBF-3F6868CB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7E6A-B6CF-428C-9BAC-9025D32A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4C26-B0EE-4956-9AED-9730219E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1592-1BCE-4F64-A78F-0E8F9575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46D8-8ED7-4DA5-9627-1752BC7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12A-6A61-440E-BE9F-4492A6A2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ADC9-8396-4D0C-B2CF-534EBE78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FB57-7D86-4F92-BA1A-74F1D44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3724-AEB5-4452-974C-3D5B48B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977C-9C9A-4735-B827-5A0480C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A398-5EF7-4CF6-A43E-CE26BC36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4D9B-104F-4C39-825E-F0CAFDD7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14D3-8681-491F-B58D-9DEC0915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93B-D333-4F50-80AB-BFE737CA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C7D-AABA-4558-B9A1-63944882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504-A2A3-4CDF-9A5E-C5BE55E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F53-CC29-4734-A033-FB122A23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8E7-AB3D-407C-9ADD-DF35E34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EFE-771C-42F9-B132-05F556F9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1FD-637A-4B79-9907-82BC51C2E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2EA-DE75-46C2-9CBF-E36EFFE26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E45-BA89-4B34-8E44-7BA964B7C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дивидуальная консультация с родителям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тему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ебенок и компьютер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подготовительная групп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859280" y="2877120"/>
            <a:ext cx="217440" cy="47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итор должен стоять на расстоянии не менее 60 см от ок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итор должен располагаться на уровне глаз ребенка или чуть ниж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илучшим для работы с компьютером считается естественный дневной с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бель рабочего места должна быть удобной для ребенка. Стул должен быть со спинкой, а под ноги ребенка дошкольного и младшего школьного возраста всегда должны ставиться подста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Покажите ребенку, что компьютер – это  очень малая часть доступных развлечений, что жизнь гораздо разнообразней, что игра не заменит общ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е пресекайте и по возможности удовлетворяйте любопытство ребен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чите ребенка общаться: знакомиться, мириться, договариваться. Повышайте самооценку ребен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- Обсуждайте игры вместе с ребенком. Отдавайте предпочтение развивающим играм. Крайне важно научить ребенка критически относиться к компьютерным игр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- В случаях, если родители самостоятельно не могут справиться с проблемой, обращаться к психологам, в специализированные цент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 консульт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04000" y="-5219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льше общайтесь с вашим ребенком, обсуждайте свои и его чувства – основной причиной возникновения компьютерной зависимости у детей психологи считают недостаток общени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 u="sng">
                <a:solidFill>
                  <a:srgbClr val="ff0000"/>
                </a:solidFill>
                <a:uFillTx/>
                <a:latin typeface="Calibri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консульт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ить информационное поле родителей о пользе и вреде занятий детей за компьютер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родителей с развивающими функциями персонального компьютера для дошкольников, с влиянием компьютера на здоровье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очь родителям осознать необходимость бесед с ребенком об опасном влиянии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практические рекомендации по организации рабочего места ребёнка, осваивающего компью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: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12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вести до сведения родителей правила, при которых использование сети Интернет становится безопасн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влекать родителей к защите ребёнка от агрессии внешней сре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ывать культуру общения в сети Интер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уктура консульт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 в современном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ные игры: за и прот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раст пользов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 и здоровь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рнет и компьютерная завис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илактика компьютерной зависи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еты для мам и п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кета для родителе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"Мой ребенок и компьютер"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важаемые родители, просим вас принять участие в анкетирован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черкните один из предложенных вариантов ответа или запишите свой вариан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Умеет ли ваш ребенок пользоваться компьютером?         ДА     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Сколько времени ваш ребенок проводит за компьютером в ден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Как ваш ребенок проводит время за компьютер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рианты ответов: играет в игры, смотрит мультфильмы или фильмы, другое (запишите, что именно) 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Вы довольны, что ваш ребенок так увлечен компьютером?         ДА     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У вас есть беспокойство по поводу пользования ребенком компьютер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Что такое информационная безопасность ребенка, по вашему мнению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Какие меры по информационной безопасности вашего ребенка вы предпринимает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Какие черты характера появились у ребенка после начала использования компьютер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Сколько времени вы сами проводите за компьютер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зраст для знакомства ребенка с компьютер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ко с 4—5-ти лет при наличии хорошего монитора и под присмотром взрослого можно знакомить ребенка с компьютером.    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   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ть нужно с 10—15 минут в день, при хорошем освещении и правильной посадке ребенка.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знообразие компьютерных иг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циалисты выделяют следующие их ви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  Игры типа «убей их всех», в которых главный герой должен победить врагов, кем бы они ни бы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  Игры-приключения, в которых герой как бы проходит по страницам повестей и романов. В основном они представляют собой ситуации в виде мультфиль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Игры стратегические, в которых требуется принимать решения по изменению стратегии поведения в ход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Развивающие игры, которые способствуют познавательному развитию дошкольников и побуждают к самостоятельным творчески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Обучающие игры, способствующие усвоению детьми навыков чтения, элементарных математических представлений, 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Диагностические, применяемые специалистами для выявления уровня развития у детей умственных способностей, памяти, внимания 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Графические игры, связанные с рисованием, конструирова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компьютерной зависимости – советы родител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55640" y="1125000"/>
            <a:ext cx="73771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профилактики компьютерной зависимости и работы с зависимыми детьми психологи рекомендуют родителям следующе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вите с ребенком ВМЕС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оказывайте личный положительный пример. Важно, чтобы слова не расходились с делом. И если отец разрешает сыну играть не более часа в день, то сам не должен играть по три-четы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раничьте время игр с компьютером, установив четко определенный временной интервал. Резко запрещать работать на компьютере нельзя: обозначьте для ребенка, что при соблюдении установленных границ времени, после перерыва возможно возобновление зан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ложите другие возможности времяпровождения. Можно составить список дел, которыми можно заняться в свободное время. Желательно, чтобы в списке были совместные занятия. Предложите ребенку альтернативу компьютеру: интерактивные игры со сверстниками, познавательные путешествия, прогулки, чтение книги, рис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сколько советов для мам и пап: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•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черкивайте словом и действием, что эта «умная машина» – рабочий инструмен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Покажите, что вы используете компьютер только для дела. Например, строите с его помощью графики или пишите статьи. Для ребенка важно именно ваше поведение, а не то, что вы говори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Не используйте агрессивные игры, чтобы расслабиться после работы или, хотя бы, не играйте в них при ребе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Не делайте из компьютера тайны за семью печатями, а, наоборот, обеспечьте свободный доступ к обучающим и развивающим программ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User</cp:lastModifiedBy>
  <dcterms:modified xsi:type="dcterms:W3CDTF">2017-04-12T02:59:43Z</dcterms:modified>
  <cp:revision>52</cp:revision>
  <dc:subject/>
  <dc:title>Слайд 1</dc:title>
</cp:coreProperties>
</file>