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283A-C57B-4BF2-B2C3-0D1CF3AF8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6C51-A3D1-4DA6-96AB-83920170BE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3060-2789-4710-8202-B4FCC259E1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09C-0990-489A-AF88-B9B9FA0C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164-3B35-4FA5-8099-ABD214AE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4CD-565D-406B-B37A-EB7492A5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B03-9CAB-493E-972B-C4E26D5F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03E-7CC1-40E3-A338-D58CFAFE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D8B-48FF-42F9-B98A-01A076C7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B87F-4021-42C3-AE8C-0FFE96DC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EF4-748B-4EA7-83D2-6EF4C20D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557-17FF-4DD5-BE39-E3042C0D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62F-24B0-4A7D-BE7D-D5D1B950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B76-56B6-4B7C-83B8-069B6E21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244-4134-4500-AD40-353E638B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6E2E-6884-47A8-8AD9-26220CD5CB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4172040" y="1557360"/>
            <a:ext cx="4929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Учимся общению с деть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8"/>
          <p:cNvSpPr/>
          <p:nvPr/>
        </p:nvSpPr>
        <p:spPr>
          <a:xfrm>
            <a:off x="527040" y="4071960"/>
            <a:ext cx="17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еабили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3"/>
          <p:cNvSpPr/>
          <p:nvPr/>
        </p:nvSpPr>
        <p:spPr>
          <a:xfrm>
            <a:off x="2092320" y="571680"/>
            <a:ext cx="5622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716000" y="1557000"/>
            <a:ext cx="42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ЛАЕМ ТВОРЧЕСКИХ УСПЕХОВ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7" descr=""/>
          <p:cNvPicPr/>
          <p:nvPr/>
        </p:nvPicPr>
        <p:blipFill>
          <a:blip r:embed="rId2"/>
          <a:stretch/>
        </p:blipFill>
        <p:spPr>
          <a:xfrm>
            <a:off x="324000" y="1155600"/>
            <a:ext cx="4292280" cy="402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Содержимое 7"/>
          <p:cNvSpPr/>
          <p:nvPr/>
        </p:nvSpPr>
        <p:spPr>
          <a:xfrm>
            <a:off x="466560" y="1428840"/>
            <a:ext cx="83203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7"/>
          <p:cNvSpPr/>
          <p:nvPr/>
        </p:nvSpPr>
        <p:spPr>
          <a:xfrm>
            <a:off x="395280" y="239400"/>
            <a:ext cx="8309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пособствовать преодолению родителями трудностей в общении и взаимодействии с деть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1"/>
          <p:cNvSpPr/>
          <p:nvPr/>
        </p:nvSpPr>
        <p:spPr>
          <a:xfrm>
            <a:off x="250920" y="564840"/>
            <a:ext cx="8893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ировать существующие проблемы во взаимодействии с деть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овать повышению уверенности в себ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ять родителей в построении эффективного общения с деть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-45900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ление.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Users\Администратор\Pictures\orig_e8231238e7da2262a864bc400daaffbd.jpg"/>
          <p:cNvPicPr/>
          <p:nvPr/>
        </p:nvPicPr>
        <p:blipFill>
          <a:blip r:embed="rId1"/>
          <a:stretch/>
        </p:blipFill>
        <p:spPr>
          <a:xfrm>
            <a:off x="468360" y="2276640"/>
            <a:ext cx="518328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35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.</a:t>
            </a: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Слайд2"/>
          <p:cNvPicPr/>
          <p:nvPr/>
        </p:nvPicPr>
        <p:blipFill>
          <a:blip r:embed="rId1"/>
          <a:srcRect l="6504" t="0" r="6727" b="15333"/>
          <a:stretch/>
        </p:blipFill>
        <p:spPr>
          <a:xfrm>
            <a:off x="468360" y="2565360"/>
            <a:ext cx="359892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4"/>
          <p:cNvSpPr/>
          <p:nvPr/>
        </p:nvSpPr>
        <p:spPr>
          <a:xfrm>
            <a:off x="6669000" y="3914640"/>
            <a:ext cx="1701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336960"/>
            <a:ext cx="9144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воспитанию дет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ьте в уникальность своего ребенка, в то, что Ваш ребенок — единственный в своем роде, непохож ни на одного соседского ребенка и не является точной копией Вас самих. Поэтому не стоит требовать от ребенка реализации заданной Вами жизненной программы и достижения поставленных Вами ц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райтесь на сильные стороны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есняйтесь демонстрировать ему свою любовь, дайте ему понять, что будете любить его всегда и при любых обстоятельств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воспитательного воздействия чаще используйте ласку и поощрение, чем наказание и пориц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, чтобы Ваша любовь не обернулась вседозволенностью и безнадзорностью. Установите четкие рамки и запреты (желательно, чтобы их было немного — лишь самые основные, на Ваш взгляд) и позвольте ребенку свободно действовать в этих рамках. Сами строго придерживайтесь установленных запретов и разреш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те прибегать к наказаниям. Постарайтесь воздействовать на ребенка просьбами — это самый эффективный способ давать ему инструкции. В случае неповиновения родителю необходимо убедиться, что просьба соответствует возрасту и возможностям ребенка. Лишь в этом случае можно применять прямые инструкции, приказы, что достаточно эффективно, если ребенок привык реагировать на вежливые просьбы родителей. И только в том случае, если ребенок демонстрирует открытое неповиновение, родитель может подумать о наказании. Ребенок должен четко понимать, за что он наказа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равнивайте ребенка с другими, более успешными детьми, этим вы снижаете самооценку. Сравните его с ним же самим, но менее успеш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в общении в семье спокойный, доброжелательный т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йте ребенку личный пример эффективного поведения. Не допускайте при нем вспышек гнева, нелестных, злых высказываний о других людях, проявлений желания отомстить кому-нибудь за оби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е за выражением своего лица, когда обращаетесь с ребенком. Хмуро сведенные брови, гневно сверкающие глаза, искаженное лицо — «психологическая пощечина» ребен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800" y="2458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4"/>
          <p:cNvSpPr/>
          <p:nvPr/>
        </p:nvSpPr>
        <p:spPr>
          <a:xfrm>
            <a:off x="6669000" y="3914640"/>
            <a:ext cx="1701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1116000" y="1125360"/>
            <a:ext cx="633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условное принятие ребенка – это значит любить его не за то, что он красивый, умный, способный, помощник и так далее, а просто так, просто за то, что он ес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5"/>
          <p:cNvSpPr/>
          <p:nvPr/>
        </p:nvSpPr>
        <p:spPr>
          <a:xfrm>
            <a:off x="755640" y="301680"/>
            <a:ext cx="7561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слушание – это значит «возвращать» ребенку в беседе то, что он поведал, при этом обозначив его чувство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411280" y="266040"/>
            <a:ext cx="592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Users\Администратор\Pictures\iCAWEX8XV.jpg"/>
          <p:cNvPicPr/>
          <p:nvPr/>
        </p:nvPicPr>
        <p:blipFill>
          <a:blip r:embed="rId1"/>
          <a:stretch/>
        </p:blipFill>
        <p:spPr>
          <a:xfrm>
            <a:off x="755640" y="1844640"/>
            <a:ext cx="6553080" cy="459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7:51:19Z</dcterms:created>
  <dc:creator>p0muk</dc:creator>
  <dc:description/>
  <dc:language>en-US</dc:language>
  <cp:lastModifiedBy>XTreme.ws</cp:lastModifiedBy>
  <dcterms:modified xsi:type="dcterms:W3CDTF">2017-04-12T03:26:13Z</dcterms:modified>
  <cp:revision>304</cp:revision>
  <dc:subject/>
  <dc:title>Слайд 1</dc:title>
</cp:coreProperties>
</file>