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45E-15F5-424C-9001-38D6BDCA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7C4-4F10-4B15-8F8C-4F13637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56B-B5BC-4192-9000-20A32F86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A6B-788A-4848-B820-4D199FFB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1B3C-BD2C-4C27-9514-FF16CDC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6832-090B-486D-A6C2-037A432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0EC-5F1E-4405-90B8-983731C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275-5D16-42D7-BC1C-B4701992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87E4-DAE4-4BC7-A064-B8E9572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3EF-90FC-4B34-9AD3-ED90B06D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1E5F-87A3-432E-8624-D8A1DA5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AAB-A2B9-46C7-BC5A-B03E1236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12DA-ED77-481F-989A-BAC1142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9A2-E666-42A8-9AE3-789A936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2F7C-0C68-4562-9A1E-4BD4A32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034-AA05-4516-AE63-4E469917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C27-F600-461D-90DE-5CDDFD6A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FC9-993D-4AA7-A06A-7E97AEE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AE8-8623-4B6B-8FF1-AF925852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F19-F24B-40DB-886C-A1872E0E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D33-E2DB-4897-9870-8D7413EB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978-CF0A-4ACB-B141-BA03436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5B2-6847-4D9A-8686-5747642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546-50BD-4945-921F-1511AE6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c1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36E6-FE87-4B32-BE8D-CA169ED75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c1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E336-4509-4B5E-BEE1-B9B8121F51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Украшения в жизни древних общест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3200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полнила Лахина Наталья Андр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итель ИЗ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Задание -</a:t>
            </a:r>
            <a:br>
              <a:rPr sz="4400"/>
            </a:b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создать эскиз ожерель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4760"/>
            <a:ext cx="815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66"/>
                </a:solidFill>
                <a:latin typeface="Arial"/>
              </a:rPr>
              <a:t>Для работы потребуются</a:t>
            </a: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льб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й каранд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раски аквар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исти для краски и кл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Бисер, стеклярус, буси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Arial Black"/>
              </a:rPr>
              <a:t>Порядок работ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вести голову- шабл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4" descr="DSCN0129"/>
          <p:cNvPicPr/>
          <p:nvPr/>
        </p:nvPicPr>
        <p:blipFill>
          <a:blip r:embed="rId1"/>
          <a:stretch/>
        </p:blipFill>
        <p:spPr>
          <a:xfrm>
            <a:off x="1219320" y="1515960"/>
            <a:ext cx="7010280" cy="5342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8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рисовать приче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0056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DSCN0131"/>
          <p:cNvPicPr/>
          <p:nvPr/>
        </p:nvPicPr>
        <p:blipFill>
          <a:blip r:embed="rId1"/>
          <a:stretch/>
        </p:blipFill>
        <p:spPr>
          <a:xfrm>
            <a:off x="1143000" y="1527120"/>
            <a:ext cx="7183440" cy="533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Раскрасить фон</a:t>
            </a:r>
            <a:br>
              <a:rPr sz="4000"/>
            </a:br>
            <a:br>
              <a:rPr sz="28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7086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DSCN0132"/>
          <p:cNvPicPr/>
          <p:nvPr/>
        </p:nvPicPr>
        <p:blipFill>
          <a:blip r:embed="rId1"/>
          <a:stretch/>
        </p:blipFill>
        <p:spPr>
          <a:xfrm>
            <a:off x="1219320" y="1498680"/>
            <a:ext cx="7391160" cy="5341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304920"/>
            <a:ext cx="793116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менить ось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1" descr="DSCN0134"/>
          <p:cNvPicPr/>
          <p:nvPr/>
        </p:nvPicPr>
        <p:blipFill>
          <a:blip r:embed="rId1"/>
          <a:stretch/>
        </p:blipFill>
        <p:spPr>
          <a:xfrm>
            <a:off x="1143000" y="1528920"/>
            <a:ext cx="7315200" cy="5329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8552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рисовать ожер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DSCN0135"/>
          <p:cNvPicPr/>
          <p:nvPr/>
        </p:nvPicPr>
        <p:blipFill>
          <a:blip r:embed="rId1"/>
          <a:stretch/>
        </p:blipFill>
        <p:spPr>
          <a:xfrm>
            <a:off x="1295280" y="1490760"/>
            <a:ext cx="7239240" cy="5367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аклеить бисер, стеклярус, бус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Украшения 003"/>
          <p:cNvPicPr/>
          <p:nvPr/>
        </p:nvPicPr>
        <p:blipFill>
          <a:blip r:embed="rId1"/>
          <a:stretch/>
        </p:blipFill>
        <p:spPr>
          <a:xfrm>
            <a:off x="1295280" y="1488960"/>
            <a:ext cx="7620120" cy="5369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клеить бисер, стеклярус, бусины</a:t>
            </a:r>
            <a:br>
              <a:rPr sz="2800"/>
            </a:b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Вариант 2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6" descr="Украшения 004"/>
          <p:cNvPicPr/>
          <p:nvPr/>
        </p:nvPicPr>
        <p:blipFill>
          <a:blip r:embed="rId1"/>
          <a:stretch/>
        </p:blipFill>
        <p:spPr>
          <a:xfrm>
            <a:off x="1295280" y="1649520"/>
            <a:ext cx="7086600" cy="52084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Закрепление</a:t>
            </a:r>
            <a:br>
              <a:rPr sz="4000"/>
            </a:br>
            <a:r>
              <a:rPr b="0" lang="ru-RU" sz="3600" spc="-1" strike="noStrike">
                <a:solidFill>
                  <a:srgbClr val="ff9966"/>
                </a:solidFill>
                <a:latin typeface="Arial Black"/>
              </a:rPr>
              <a:t>Где возникло ювелирное мастерство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626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 Древнем Егип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 Древней Гре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 Ру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Правильный отв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Искусство древ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4343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рхеология- э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ука о древних цивилизациях. Археологи, с помощью раскопок, находят предметы древности. Пример тому скульптура головы человека с украшениями в ушах, на шее и на голове. Сделаем вывод – человечество всегда стремилось к крас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11"/>
          <p:cNvPicPr/>
          <p:nvPr/>
        </p:nvPicPr>
        <p:blipFill>
          <a:blip r:embed="rId1"/>
          <a:stretch/>
        </p:blipFill>
        <p:spPr>
          <a:xfrm>
            <a:off x="5334120" y="914400"/>
            <a:ext cx="2800080" cy="563868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156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Пояснительный л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Тема презентации : «Украшения в жизни древних общест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резентация предназначена для учащихся 5 классов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Цели : расширить представления о роли украшения в жизни различных обществ. Дать понятия о ДПИ. Научиться создавать эскиз ожерелья на основе полученных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 презентации присутствует наглядное пособие для создания эскиза ожере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втор Лахина Наталья Андр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42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Arial Black"/>
              </a:rPr>
              <a:t>Используем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ткий словарь художественных терминов. Н. Сокольникова, Обнинск издательство «Титул»199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искусства для детей. Античность, Москва «Росмен» 200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ы мастеров. Н. Конышева, АО «Московские учебники» Москва 200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й костюм Воронежской области   Пономар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818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Украшения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 в первобытном обществ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 первобытных племенах люди тоже украшали себя, но делали это замысловатыми росписями на лице и теле. Вождь выделялся среди соплеменников. Его украшения были выполнены из перьев птиц, зубов живот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ак символы власти над людьми и животным ми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0" descr="12"/>
          <p:cNvPicPr/>
          <p:nvPr/>
        </p:nvPicPr>
        <p:blipFill>
          <a:blip r:embed="rId1"/>
          <a:stretch/>
        </p:blipFill>
        <p:spPr>
          <a:xfrm>
            <a:off x="960480" y="1295280"/>
            <a:ext cx="3800520" cy="480060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0773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Украшения 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в Древнем Египт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 Древнем Египте фараоны выделялись среди подчиненных украшением – уксх.  Это воротник – ожерелье из золотых пластин с драгоценными камнями и жемчугом. Такое ожерелье символизировало знатность и мог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менно в Древнем Египте возникло ювелирное мастерство. Здесь впервые стали изготавливать перстни, броши, браслеты, диад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22800" cy="449568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232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Украшения на Рус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52320" y="1066680"/>
            <a:ext cx="5791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а Руси тоже любили украшения. Простой народ делал их из бисера, стекляруса, бусин. Все украшения объединяет замысел и идея мастера, стремление к красо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2556000" cy="556236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3733920" y="2952720"/>
            <a:ext cx="4800600" cy="359568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Современные украш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838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астоящее время выбор украшений огромен – от простых до эксклюзивных ювелирных драгоценност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Изображение 005"/>
          <p:cNvPicPr/>
          <p:nvPr/>
        </p:nvPicPr>
        <p:blipFill>
          <a:blip r:embed="rId1"/>
          <a:stretch/>
        </p:blipFill>
        <p:spPr>
          <a:xfrm>
            <a:off x="3352680" y="1828800"/>
            <a:ext cx="2562480" cy="335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304920" y="320040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Изображение 006"/>
          <p:cNvPicPr/>
          <p:nvPr/>
        </p:nvPicPr>
        <p:blipFill>
          <a:blip r:embed="rId3"/>
          <a:stretch/>
        </p:blipFill>
        <p:spPr>
          <a:xfrm>
            <a:off x="6343560" y="3276720"/>
            <a:ext cx="2533680" cy="3378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1532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Сокровища 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Arial Black"/>
              </a:rPr>
              <a:t>Генриха Шлима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3962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 детства Генрих Шлиман мечтал найти сокровища древнего города Трои. Он торговлей заработал капитал и организовал экспедицию на территорию современной Турции к плоскому холму Гиссарлык. Этот холм напоминает слоеный пирог, где каждый слой- целая историческая эпо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17"/>
          <p:cNvPicPr/>
          <p:nvPr/>
        </p:nvPicPr>
        <p:blipFill>
          <a:blip r:embed="rId1"/>
          <a:stretch/>
        </p:blipFill>
        <p:spPr>
          <a:xfrm>
            <a:off x="4572000" y="1600200"/>
            <a:ext cx="4157640" cy="495288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800240" y="1294920"/>
            <a:ext cx="3962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енрих раскопал на холме 7 городов, сменявших друг друга. И вот под стеной был обнаружен сосуд, полный сокровищ. Клад был поистине царским. В роли манекенщицы выступила жена Шлимана, верный друг и спутник археоло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873000" y="609480"/>
            <a:ext cx="3702240" cy="5486400"/>
          </a:xfrm>
          <a:prstGeom prst="rect">
            <a:avLst/>
          </a:prstGeom>
          <a:ln w="38160">
            <a:solidFill>
              <a:srgbClr val="e56a43"/>
            </a:solidFill>
            <a:miter/>
          </a:ln>
        </p:spPr>
      </p:pic>
    </p:spTree>
  </p:cSld>
  <p:transition>
    <p:cover dir="l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Декоративно-</a:t>
            </a:r>
            <a:br>
              <a:rPr sz="4400"/>
            </a:b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прикладное искус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6a43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9966"/>
                </a:solidFill>
                <a:latin typeface="Arial"/>
              </a:rPr>
              <a:t>ДПИ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– создание художественных произведений, имеющих практическое назначение в быту и отличающихся образностью (посуда, мебель, ткани, одежда, игрушки, </a:t>
            </a:r>
            <a:r>
              <a:rPr b="0" i="1" lang="ru-RU" sz="2400" spc="-1" strike="noStrike">
                <a:solidFill>
                  <a:srgbClr val="ff9966"/>
                </a:solidFill>
                <a:latin typeface="Arial"/>
              </a:rPr>
              <a:t>украшения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). Все предметы, окружающие человека, должны быть не только удобны, практичны, но и красивы. Польза и красота всегда рядом, когда берутся за дело художники и из различных материалов создают предметы быта, которые являются произведениями искусства. Они демонстрируют не только эстетический вкус и фантазию художника, но в них отражаются материальные и духовные интересы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хины</cp:lastModifiedBy>
  <dcterms:modified xsi:type="dcterms:W3CDTF">2018-01-29T17:24:3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