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68A-3897-4B72-88DA-C80FD6B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4ED-5E9B-423D-AE80-728006F0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E52-7754-407F-8B1A-E20C6CD5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F78-F364-48F5-B25C-D9BDBD28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8D8-39AC-477D-89EB-EB54EB76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740-3730-4112-A458-C3CB32FE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5B5-9B66-4722-A378-AC2E356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72E-6902-4F66-A69B-333C6F14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965-73DA-4A21-AC7F-D5A892D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D14-080C-4A7D-A356-25D9F79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2E5-B626-4181-8280-A434630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C65-D0F7-4FF5-84B7-686D343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F37-BAA8-4515-B857-C0370291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90512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57200"/>
            <a:ext cx="518148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Важно слыша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и понять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друг друг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38280" y="228600"/>
            <a:ext cx="441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Не верь ушам своим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133720"/>
            <a:ext cx="883944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последствии встретились, идти навстречу ветру, вначале подумай, в начале книги, выступал впервые, подойти вплотную, на встречу с одноклассниками, раскрыть чуть-чуть, поступил не по-товарищеск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05120" y="2286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иск-моделирование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.д.   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______  =====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/_._._./, _._._.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_._._._.   _____ ======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314520" cy="249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35053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7920" y="228600"/>
            <a:ext cx="586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лни таблиц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38224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есмотря на усталость, мы помогли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Твори добр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альчики незаметно у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Одинокий человек сидит в темном уг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Одноклассники пришли на соревнование поддержать свою коман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При желании ты сделаешь эт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Из-за ссоры мы не пошли гу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09680"/>
            <a:ext cx="82296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1. Мальчик бежал во все лопа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2. Он сказал не в бровь, а в глаз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3. Девочка выучила задание назуб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4. Она пришла ни свет ни зар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5. Работу он знал как свои пять пальце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6. До деревни рукой пода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7. Она работает не покладая ру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3880" y="304920"/>
            <a:ext cx="5867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Поменяй мест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523880"/>
            <a:ext cx="8839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лагород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значит п..ступать благородно? Это действовать чес..но открыто смело уметь жертвовать собстве..ыми инт..ресами в пользу других. Благородство   это когда ты делаеш.. доброе незаметно  не ради пр..знания и наград. Как об этом хорошо сказала поэте..а Римма Казакова  Как часто вся награда за труды    сознание исполне..ого долга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ы умеете ценить то. что возвышает человека, вы на правильном пути. Если вы скептически относитесь к проявлению великодушия, бескорыстия, вам есть над чем серьезно задума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если вы искренне хотите поступить благородно, попробуйте для начала сделать что-нибудь хорошее и доброе для других, чтобы об этом никто не узна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22860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Редак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457200"/>
            <a:ext cx="39625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.По своему грамматическому значению обстоятельства обозначаю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предмет, на который переходит действ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признак предм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признак действия или другого призна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. Каким членом предложения является выделенное слово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октябр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за туманами затерялось лет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дополн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обстоятельств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опреде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. Найдите предложение, в котором есть обстоятельство цел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Мы вышли из душной комнаты освежить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Из-за шума дождя ничего не было слышн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На ночлег мы расположились у озе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. Обстоятельством какого вида является выделенное слово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н изменился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неузнаваемост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це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степе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причин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) време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. Какое предложение соответствует схем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[  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опред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_____ ====== _._._._.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С тихим шорохом пробежал по саду ветерок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 Золотые листья спускаются на землю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Ночные звезды ярко горят на неб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) Медный ствол сосны на солнце порозове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514440"/>
            <a:ext cx="449604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вариан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. По своему грамматическому значению обстоятельства обозначаю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предмет, на который переходит действ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признак действия или другого призна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признак предм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. Каким членом предложения является выделенное слово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полях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за туманами затерялось лет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дополн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обстоятельств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опреде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. Найдите предложение, в котором есть обстоятельство причи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Мы вышли из душной комнаты освежить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Из-за шума дождя ничего не было слышн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На ночлег мы расположились у озе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. Обстоятельством какого вида является выделенное слово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на приехала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а отдых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це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степе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причин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) време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. Какое предложение соответствует схем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[  опред.  _____  _._._._. ====== _._._._.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) С тихим шорохом пробежал по саду ветерок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)  Золотые листья спускаются на землю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) Ночные звезды ярко горят на неб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) Медный ствол сосны на солнце порозове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веты тес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71600"/>
            <a:ext cx="28195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вариа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295280"/>
            <a:ext cx="259056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I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риа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71600" y="3808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ы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пишите сочинение-миниатюру, ответив на вопрос «Что нужно сделать, чтобы быть благородным человеком?», используя обстоя-тельства разных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) Составьте небольшой рассказ о благородном поступке с использованием разных видов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SOD</cp:lastModifiedBy>
  <dcterms:modified xsi:type="dcterms:W3CDTF">2012-12-04T15:35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