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F83-A4B0-4546-999C-1D49CBAA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A3F-E388-4A93-B2C5-717DFD04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22594-2AF4-40DA-884C-B84FE5C5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8DF82-0066-45BD-92B1-F64A0E7C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1D5DF-0081-45F8-A59F-FA9BA6D6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2B646-AC46-459D-8030-55A78A7E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F1194-030D-4CF4-96EE-21F61DAD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B04C6-2373-43DB-BD63-7FBAEE4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22468-EBDF-4B99-8649-B1AB189E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2F79A-6E6D-4AFE-A6AE-8C4356E8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617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01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4300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617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01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90584-AB19-4D5F-82BA-CC14D7C0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216-E297-4E51-8FC4-D6DE5B4E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17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01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17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01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F12-65F8-4E2F-B959-A75398E1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6B1F-53CF-4862-88D3-C0EE05E5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D8E4-86A3-45F4-A0FA-B6845F98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37FA-63C1-44F9-96F0-CCCB4A86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DC63-D70D-40DA-B5E9-066D0759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41F5-1AD6-441D-AED3-9FF6F591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781A-F22C-458F-A5F0-D0B73418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2CBC-A652-4906-9623-27EF2A49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D8A-C02E-4735-8319-2D146513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A4F2-DEA6-4995-8A1E-C86E61E9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C4DD-C10D-425B-A369-B440E6E1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86C6-C936-4793-900C-931F5D0E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6544-0E05-48F4-8F31-F4AC1F6D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17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01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17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01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E14D-9E7D-4FA4-965D-574BC2A3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1EFC2-4C37-4E28-AD74-CF797B00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891D-2B5E-4E90-AEA6-79029758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1A2E-698E-4907-B2EF-95401BF1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805C-F7D5-4A70-BA4F-B638A4A7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669A-F3D4-4079-98E6-5C2EE090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8CD-7EC3-4943-8EAF-9ED8748B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92CF-5E1C-40A9-A8F4-66DC40A3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EE0F-D3E9-45B0-AEA4-3D7A6558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53BA-8BE4-4437-8997-AF760E65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553A0-970E-46A1-91C9-9C6E4669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9FB7-01BB-4245-92EF-D6029104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B08D-BFD7-4B8E-9121-1FABCBC8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617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01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4300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617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01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3E78-0F2E-466C-8DBE-601DE855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E2C9-7CC1-48DD-B3A0-5AB90B17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AEEB7-67DC-42A4-91F8-E4E1E46D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4B61-8038-4622-B288-850CFF51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634-ADFB-4CB8-A0C9-0BEDF84A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21D4-47E6-4329-8C1B-9EB38A46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BCB8-59B7-44E9-85CF-B7F6C68C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53AA0-3C78-48AB-841F-E76C9248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CCA4E-23F2-45A5-9E9A-74D3DD0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4F0B7-3073-41A9-BC60-289C2966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4CA91-9237-4924-AB65-8AAE7D7A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85CC9-F6E0-418C-94B7-3F4A2358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6AF0B-29AC-49B0-93C0-D03B27A8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617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01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4300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617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01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8CC12-6A5C-406C-8B32-F75BD322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20EF0-C771-4C66-BE41-732E8B3C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999-7514-4797-824B-525262F3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BBB0-D08C-4023-A08C-E307351A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7EA3C-6A17-48B3-BBA9-14EFE7CB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E2B0-87A5-4134-B27D-DC3725DF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1431-B83F-428C-AB3B-1D53CDD8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6AD0B-8AFA-424C-B014-74D29EE9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9067-4291-46E1-8FD8-77212AA0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795A2-51C9-44A6-8F20-D348F5D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D7C40-1461-43C3-9B21-DF4B4545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0CF1B-AC43-4DD3-A9F7-0F61E22A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3EE11-5C7D-468B-8EE3-C69ACA4B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DF2-C317-4172-9075-F9AEE335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617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01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4300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617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01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79AF3-93E4-47AF-AA41-CBB7AE3D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EB38C-9FCF-4119-9379-2A535EB2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FA2C9-6755-4DCF-B318-6BFE426D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A202F-17A9-46B6-AB4D-767C0D42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1FA74-4429-4EDA-A1F4-F717EE50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44A73-3222-4AD7-A593-BBC1F66C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23D4A-3FA9-4374-AF04-91553B55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18D50-4303-4A8D-BA3D-2709AA2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6606-D2E3-4009-905E-0750D33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51851-9473-4E6B-9355-27FCA4BF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161-39C5-46B3-92EC-091433DD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D1605-4882-4ABD-AEB7-11577736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6962A-3995-44E8-B5F6-D5CD0657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617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01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4300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617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01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0D222-B27A-4141-86BB-E9D64997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D4438-DA18-4BD0-B65A-10B5EA7B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5B70-4AA3-48C9-B7B9-06B4A7EC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CFBE2-D6EA-47E1-8256-9893D659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B15EC-C229-476A-932E-44D10EBA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A58B2-63B1-4063-B1E3-6E6DBBD7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02DA8-1066-43B0-A568-64F6BCA2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B3CC1-2CC0-44B2-9368-C0D5FC32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1D3-9E35-418B-98EF-EF6028D0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FD4B3-E4AC-428A-A700-C2649CD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31221-2FF9-4861-A4C2-CB0AFD58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48681-605F-4612-9B18-C83BA1EE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BCA04-AA74-4004-986A-1FF03764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617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01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4300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617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01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7E2A5-AA0F-48DD-B491-CF8BC555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4B89D-9D1F-423F-95D5-152522F2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7BCBF-A633-41CD-997F-2CADD8C1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7C59C-73F5-4311-A8BC-5D7F3BC1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E7F15-20A2-456F-B6BB-5BE31FCD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6713E-E455-4C56-BBC4-E2DC9355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D94-204B-4563-8730-761347DF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A3D40-523A-4231-B791-E0C75DE2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CAEC6-F26D-4588-A1DE-E92E6C93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115E2-1B8B-421A-BDCC-27A4CAB4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63F41-73F0-4298-9EA3-853C3039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43000" y="461952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96306-D32F-49F9-816B-1A47F7A3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7320" y="29718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4300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57320" y="461952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63DF9-6EA5-484E-BF0C-5082038D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617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0160" y="29718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4300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617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0160" y="461952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E8EB4-FA81-44D6-9DC6-D4A5B1C9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982B9-E0ED-4654-A674-716223FD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82BC1-541D-4719-8DDF-F53DE39F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4133A-662A-4C4F-8D85-72D42A60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7198-E810-4F63-A302-6FD8907085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8C3E-03A0-4C00-AC9E-93CDF64D8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870E-E6E5-46A2-84A7-6303DF43E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D81B-30AE-474E-872C-E2DED2B4B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6C78-6A90-456F-9478-406F6D790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34D6-6AD0-4768-A67C-CAFFDC173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5D36-D810-4C27-93C3-CFDA8A4F3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2558-5DAD-43FD-BB66-BEE9DDAED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774E-DF8A-4F80-B629-8F34ED734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3280" y="26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ступление на ГМО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ЭКСПЕРИМЕНТАЛЬНАЯ ДЕЯТЕЛЬНОСТЬ – КАК УСЛОВИЕ ДЛЯ ОБЕСПЕЧЕНИЯ КАЧЕСТВА ОБРАЗОВАТЕЛЬНОЙ ДЕЯТЕЛЬНОСТИ»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2050920" y="5607000"/>
            <a:ext cx="658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c1c1c"/>
                </a:solidFill>
                <a:latin typeface="Arial"/>
              </a:rPr>
              <a:t>Воспитатель:  Петрова М. 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c1c1c"/>
                </a:solidFill>
                <a:latin typeface="Arial"/>
              </a:rPr>
              <a:t>МБДОУ № 29«Золотая рыбка»</a:t>
            </a:r>
            <a:br>
              <a:rPr sz="2000"/>
            </a:br>
            <a:r>
              <a:rPr b="0" i="1" lang="ru-RU" sz="1800" spc="-1" strike="noStrike">
                <a:solidFill>
                  <a:srgbClr val="1c1c1c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C:\Users\Сергей\Desktop\для презент фото\DSCN1684.JPG"/>
          <p:cNvPicPr/>
          <p:nvPr/>
        </p:nvPicPr>
        <p:blipFill>
          <a:blip r:embed="rId1"/>
          <a:stretch/>
        </p:blipFill>
        <p:spPr>
          <a:xfrm>
            <a:off x="1401840" y="1847880"/>
            <a:ext cx="627372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город на окне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0" descr="DSC01149"/>
          <p:cNvPicPr/>
          <p:nvPr/>
        </p:nvPicPr>
        <p:blipFill>
          <a:blip r:embed="rId1"/>
          <a:stretch/>
        </p:blipFill>
        <p:spPr>
          <a:xfrm>
            <a:off x="1403280" y="1341360"/>
            <a:ext cx="3473640" cy="4632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DSC01151"/>
          <p:cNvPicPr/>
          <p:nvPr/>
        </p:nvPicPr>
        <p:blipFill>
          <a:blip r:embed="rId2"/>
          <a:stretch/>
        </p:blipFill>
        <p:spPr>
          <a:xfrm>
            <a:off x="684360" y="1628640"/>
            <a:ext cx="3781440" cy="5040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DSC01147"/>
          <p:cNvPicPr/>
          <p:nvPr/>
        </p:nvPicPr>
        <p:blipFill>
          <a:blip r:embed="rId3"/>
          <a:stretch/>
        </p:blipFill>
        <p:spPr>
          <a:xfrm>
            <a:off x="4859280" y="2349360"/>
            <a:ext cx="3889440" cy="290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IMG_1293"/>
          <p:cNvPicPr/>
          <p:nvPr/>
        </p:nvPicPr>
        <p:blipFill>
          <a:blip r:embed="rId4"/>
          <a:stretch/>
        </p:blipFill>
        <p:spPr>
          <a:xfrm>
            <a:off x="1547640" y="1341360"/>
            <a:ext cx="6769440" cy="5078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Опыты и эксперименты с детьми в детском саду - Архив программ"/>
          <p:cNvPicPr/>
          <p:nvPr/>
        </p:nvPicPr>
        <p:blipFill>
          <a:blip r:embed="rId5"/>
          <a:stretch/>
        </p:blipFill>
        <p:spPr>
          <a:xfrm>
            <a:off x="2195640" y="1628640"/>
            <a:ext cx="576108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Users\user\Pictures\дсад\sea.jpg"/>
          <p:cNvPicPr/>
          <p:nvPr/>
        </p:nvPicPr>
        <p:blipFill>
          <a:blip r:embed="rId1"/>
          <a:stretch/>
        </p:blipFill>
        <p:spPr>
          <a:xfrm>
            <a:off x="1258920" y="5445000"/>
            <a:ext cx="7200720" cy="107964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"/>
          <p:cNvSpPr/>
          <p:nvPr/>
        </p:nvSpPr>
        <p:spPr>
          <a:xfrm>
            <a:off x="684360" y="1503000"/>
            <a:ext cx="784836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Люди, научившиеся  наблюдениям и опытам, приобретают способность сами ставить вопросы и получать на них фактические ответы, оказываются на более высоком умственном и нравственном уровне в сравнении с теми, кто такой школы не прошё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Е.Тимиряз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E:\ch.jpg"/>
          <p:cNvPicPr/>
          <p:nvPr/>
        </p:nvPicPr>
        <p:blipFill>
          <a:blip r:embed="rId1"/>
          <a:stretch/>
        </p:blipFill>
        <p:spPr>
          <a:xfrm>
            <a:off x="6659640" y="4483080"/>
            <a:ext cx="2303280" cy="23749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овременное дошкольное образование     </a:t>
            </a:r>
            <a:br>
              <a:rPr sz="2400"/>
            </a:b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развивается в принципиально новых условиях,    </a:t>
            </a:r>
            <a:br>
              <a:rPr sz="2400"/>
            </a:b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которые регламентированы приказом   </a:t>
            </a:r>
            <a:br>
              <a:rPr sz="2400"/>
            </a:b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Министерства образования и науки Российской </a:t>
            </a:r>
            <a:br>
              <a:rPr sz="2400"/>
            </a:b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Федерации от 17 октября 2013 г. № 1155 «Об </a:t>
            </a:r>
            <a:br>
              <a:rPr sz="2400"/>
            </a:b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утверждении федерального государственного   </a:t>
            </a:r>
            <a:br>
              <a:rPr sz="2400"/>
            </a:b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образовательного стандарта дошкольного    </a:t>
            </a:r>
            <a:br>
              <a:rPr sz="2400"/>
            </a:b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образования»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едущие принципы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55280" y="1773360"/>
            <a:ext cx="750564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образовательной деятельности на основе индивидуальных особенностей каждого ребенка, при котором сам ребенок становится активным в выборе содержания сво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йствие и сотрудничество детей и взрослых, признание ребенка полноценным участником (субъектом) образовательных отно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инициативы детей в различных видах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Картотека экспериментов &quot; ДЕТсад"/>
          <p:cNvPicPr/>
          <p:nvPr/>
        </p:nvPicPr>
        <p:blipFill>
          <a:blip r:embed="rId1"/>
          <a:stretch/>
        </p:blipFill>
        <p:spPr>
          <a:xfrm>
            <a:off x="324000" y="4581360"/>
            <a:ext cx="1761840" cy="210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разовательные ориентир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71640" y="177336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детской самостоятельности (инициативности, автономности и ответственност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детских способностей, формирующихся в разных видах дет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Детское экспериментирование: Старший дошкольный возраст"/>
          <p:cNvPicPr/>
          <p:nvPr/>
        </p:nvPicPr>
        <p:blipFill>
          <a:blip r:embed="rId1"/>
          <a:stretch/>
        </p:blipFill>
        <p:spPr>
          <a:xfrm>
            <a:off x="6588000" y="4437000"/>
            <a:ext cx="2178000" cy="221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вивающая предметно - пространственная развивающая среда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83" name="Picture 6" descr="IMG_1287"/>
          <p:cNvPicPr/>
          <p:nvPr/>
        </p:nvPicPr>
        <p:blipFill>
          <a:blip r:embed="rId1"/>
          <a:stretch/>
        </p:blipFill>
        <p:spPr>
          <a:xfrm>
            <a:off x="571680" y="1500120"/>
            <a:ext cx="1946160" cy="2595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IMG_1281"/>
          <p:cNvPicPr/>
          <p:nvPr/>
        </p:nvPicPr>
        <p:blipFill>
          <a:blip r:embed="rId2"/>
          <a:stretch/>
        </p:blipFill>
        <p:spPr>
          <a:xfrm>
            <a:off x="6429240" y="1500120"/>
            <a:ext cx="1916280" cy="300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IMG_1291"/>
          <p:cNvPicPr/>
          <p:nvPr/>
        </p:nvPicPr>
        <p:blipFill>
          <a:blip r:embed="rId3"/>
          <a:stretch/>
        </p:blipFill>
        <p:spPr>
          <a:xfrm>
            <a:off x="2786040" y="1428840"/>
            <a:ext cx="3032280" cy="2273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IMG_1290"/>
          <p:cNvPicPr/>
          <p:nvPr/>
        </p:nvPicPr>
        <p:blipFill>
          <a:blip r:embed="rId4"/>
          <a:stretch/>
        </p:blipFill>
        <p:spPr>
          <a:xfrm>
            <a:off x="1357200" y="3643200"/>
            <a:ext cx="2168640" cy="1627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IMG_1276"/>
          <p:cNvPicPr/>
          <p:nvPr/>
        </p:nvPicPr>
        <p:blipFill>
          <a:blip r:embed="rId5"/>
          <a:stretch/>
        </p:blipFill>
        <p:spPr>
          <a:xfrm>
            <a:off x="4071960" y="3429000"/>
            <a:ext cx="259704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авил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042920" y="177300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олкай соседа во время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 посмотри, потом повт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ирай все на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роводится под наблюдением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щества для эксперимента брать только ложе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рогать грязными руками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рать ру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Картотека считалок &quot; Оформление детского сада, все для детского сада, родительский уголок, папки передвижки - SkyClipArt.ru"/>
          <p:cNvPicPr/>
          <p:nvPr/>
        </p:nvPicPr>
        <p:blipFill>
          <a:blip r:embed="rId1"/>
          <a:stretch/>
        </p:blipFill>
        <p:spPr>
          <a:xfrm>
            <a:off x="7224840" y="0"/>
            <a:ext cx="115236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ни библиотек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icture 4"/>
          <p:cNvSpPr/>
          <p:nvPr/>
        </p:nvSpPr>
        <p:spPr>
          <a:xfrm>
            <a:off x="2000160" y="2544840"/>
            <a:ext cx="481176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IMG_1297"/>
          <p:cNvPicPr/>
          <p:nvPr/>
        </p:nvPicPr>
        <p:blipFill>
          <a:blip r:embed="rId1"/>
          <a:stretch/>
        </p:blipFill>
        <p:spPr>
          <a:xfrm>
            <a:off x="2643120" y="1357200"/>
            <a:ext cx="3071880" cy="3729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артотек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95" name="Picture 5" descr="IMG_1305"/>
          <p:cNvPicPr/>
          <p:nvPr/>
        </p:nvPicPr>
        <p:blipFill>
          <a:blip r:embed="rId1"/>
          <a:stretch/>
        </p:blipFill>
        <p:spPr>
          <a:xfrm>
            <a:off x="5003640" y="1125360"/>
            <a:ext cx="3837240" cy="532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IMG_1304"/>
          <p:cNvPicPr/>
          <p:nvPr/>
        </p:nvPicPr>
        <p:blipFill>
          <a:blip r:embed="rId2"/>
          <a:stretch/>
        </p:blipFill>
        <p:spPr>
          <a:xfrm>
            <a:off x="468360" y="1125360"/>
            <a:ext cx="4253040" cy="533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IMG_1301"/>
          <p:cNvPicPr/>
          <p:nvPr/>
        </p:nvPicPr>
        <p:blipFill>
          <a:blip r:embed="rId3"/>
          <a:stretch/>
        </p:blipFill>
        <p:spPr>
          <a:xfrm>
            <a:off x="3357720" y="1643040"/>
            <a:ext cx="3071520" cy="40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2:05:12Z</dcterms:created>
  <dc:creator>Мила</dc:creator>
  <dc:description/>
  <dc:language>en-US</dc:language>
  <cp:lastModifiedBy>ms</cp:lastModifiedBy>
  <dcterms:modified xsi:type="dcterms:W3CDTF">2018-01-29T06:35:49Z</dcterms:modified>
  <cp:revision>89</cp:revision>
  <dc:subject/>
  <dc:title>Цвет в презентации</dc:title>
</cp:coreProperties>
</file>