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5CBC-7C42-4D6D-94C8-8400F7E5F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07E-504C-4281-BE8E-09FB4210C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0A7-801C-4D37-B17C-53AE3A53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107-7146-4D4F-B797-E27DC48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0D8-6B6A-4265-9CA2-9840015A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4A0-D6D5-44CB-9E2E-0439B024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4D1-9CDD-427F-8614-0D7B271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DD8-B9B9-47E3-8444-12B8FA87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922-5D8E-4EF4-A991-64331DA5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453-95F7-4DF7-A816-4B6EC80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DCB-F05B-4C77-9B2C-4B76FB9E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753-9A96-4F18-8423-84E54F4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599-A7D4-486D-A209-208F26C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A58-5D8E-4127-B61D-E9FCC20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5F7D-AA0F-4175-91C0-E938B7EAFB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wer.ru/files/u34156/buratino.jpg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keep4u.ru/imgs/b/080914/86/865c156130189cbe1c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Users\1\Desktop\рамки\Titu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448000" y="2041560"/>
            <a:ext cx="3246120" cy="178380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Герои 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любимых сказ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"/>
          <p:cNvSpPr txBox="1"/>
          <p:nvPr/>
        </p:nvSpPr>
        <p:spPr>
          <a:xfrm>
            <a:off x="395280" y="620640"/>
            <a:ext cx="849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 нее  была  крестная  Фея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324000" y="3933720"/>
            <a:ext cx="849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а  потеряла  туфельку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95280" y="2276640"/>
            <a:ext cx="835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здила  в  карете  из  тыкв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763640" y="5805360"/>
            <a:ext cx="532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ушк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Содержимое 11" descr="2820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39640" y="260280"/>
            <a:ext cx="81360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2"/>
          <p:cNvSpPr txBox="1"/>
          <p:nvPr/>
        </p:nvSpPr>
        <p:spPr>
          <a:xfrm>
            <a:off x="395280" y="26028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206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ешил  </a:t>
            </a:r>
            <a:endParaRPr b="0" lang="en-US" sz="1800" spc="1" strike="noStrike">
              <a:ln w="12600">
                <a:solidFill>
                  <a:srgbClr val="00206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206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аревну  Несмеяну</a:t>
            </a:r>
            <a:endParaRPr b="0" lang="en-US" sz="1800" spc="1" strike="noStrike">
              <a:ln w="12600">
                <a:solidFill>
                  <a:srgbClr val="00206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1619280" y="2205000"/>
            <a:ext cx="532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206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здил  на  печи</a:t>
            </a:r>
            <a:endParaRPr b="0" lang="en-US" sz="1800" spc="1" strike="noStrike">
              <a:ln w="12600">
                <a:solidFill>
                  <a:srgbClr val="00206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539640" y="3789360"/>
            <a:ext cx="81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206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дром поймал щуку</a:t>
            </a:r>
            <a:endParaRPr b="0" lang="en-US" sz="1800" spc="1" strike="noStrike">
              <a:ln w="12600">
                <a:solidFill>
                  <a:srgbClr val="00206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Содержимое 9" descr="52445749_483.jpg"/>
          <p:cNvPicPr/>
          <p:nvPr/>
        </p:nvPicPr>
        <p:blipFill>
          <a:blip r:embed="rId2"/>
          <a:stretch/>
        </p:blipFill>
        <p:spPr>
          <a:xfrm>
            <a:off x="468360" y="189000"/>
            <a:ext cx="8264520" cy="5832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2340000" y="5950080"/>
            <a:ext cx="4751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206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меля</a:t>
            </a:r>
            <a:endParaRPr b="0" lang="en-US" sz="1800" spc="1" strike="noStrike">
              <a:ln w="12600">
                <a:solidFill>
                  <a:srgbClr val="00206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"/>
          <p:cNvSpPr txBox="1"/>
          <p:nvPr/>
        </p:nvSpPr>
        <p:spPr>
          <a:xfrm>
            <a:off x="900000" y="333360"/>
            <a:ext cx="720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 любил  учиться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324000" y="1628640"/>
            <a:ext cx="864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ружился  с  Мальвиной, 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темоном  и  Пьеро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395280" y="3860640"/>
            <a:ext cx="813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хитрил  злого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абаса  Барабаса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Picture 10" descr="Картинка 154 из 406">
            <a:hlinkClick r:id="rId2"/>
          </p:cNvPr>
          <p:cNvPicPr/>
          <p:nvPr/>
        </p:nvPicPr>
        <p:blipFill>
          <a:blip r:embed="rId3"/>
          <a:srcRect l="18665" t="8953" r="12315" b="7465"/>
          <a:stretch/>
        </p:blipFill>
        <p:spPr>
          <a:xfrm>
            <a:off x="1908000" y="0"/>
            <a:ext cx="4535640" cy="6165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835280" y="5950080"/>
            <a:ext cx="532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ратино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2"/>
          <p:cNvSpPr txBox="1"/>
          <p:nvPr/>
        </p:nvSpPr>
        <p:spPr>
          <a:xfrm>
            <a:off x="468360" y="620640"/>
            <a:ext cx="820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рос  на  птичьем  дворе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2060640"/>
            <a:ext cx="8424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был  не  похож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братьев  и  сестер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250920" y="4149720"/>
            <a:ext cx="871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вратился  в  прекрасного  лебед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8" descr="гад утенок"/>
          <p:cNvPicPr/>
          <p:nvPr/>
        </p:nvPicPr>
        <p:blipFill>
          <a:blip r:embed="rId2"/>
          <a:stretch/>
        </p:blipFill>
        <p:spPr>
          <a:xfrm>
            <a:off x="324000" y="189000"/>
            <a:ext cx="8424720" cy="648000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121" name="WordArt 5"/>
          <p:cNvSpPr txBox="1"/>
          <p:nvPr/>
        </p:nvSpPr>
        <p:spPr>
          <a:xfrm>
            <a:off x="1547640" y="566100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дкий утенок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2"/>
          <p:cNvSpPr txBox="1"/>
          <p:nvPr/>
        </p:nvSpPr>
        <p:spPr>
          <a:xfrm>
            <a:off x="539640" y="1628640"/>
            <a:ext cx="806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директор 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кольного  театра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826920" y="393372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хотел заполучить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ой  ключик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324000" y="189000"/>
            <a:ext cx="84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 него  длинная  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ная  борода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9" descr="Картинка 12 из 1233"/>
          <p:cNvPicPr/>
          <p:nvPr/>
        </p:nvPicPr>
        <p:blipFill>
          <a:blip r:embed="rId2"/>
          <a:stretch/>
        </p:blipFill>
        <p:spPr>
          <a:xfrm>
            <a:off x="1547640" y="260280"/>
            <a:ext cx="6193080" cy="61930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127" name="WordArt 5"/>
          <p:cNvSpPr txBox="1"/>
          <p:nvPr/>
        </p:nvSpPr>
        <p:spPr>
          <a:xfrm>
            <a:off x="2340000" y="587700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абас  Барабас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2"/>
          <p:cNvSpPr txBox="1"/>
          <p:nvPr/>
        </p:nvSpPr>
        <p:spPr>
          <a:xfrm>
            <a:off x="395280" y="18900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на  сметане  мешен, 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печку  сажен,  на  окошке  стужен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250920" y="3068640"/>
            <a:ext cx="8642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от дедушки, бабушки, зайца, 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лка и медведя ушел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539640" y="1844640"/>
            <a:ext cx="806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очень любил  петь 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Picture 9" descr="Картинка 9 из 15584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60721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2050920" y="580536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3252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обок</a:t>
            </a:r>
            <a:endParaRPr b="0" lang="en-US" sz="1800" spc="1" strike="noStrike">
              <a:ln w="12600">
                <a:solidFill>
                  <a:srgbClr val="63252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2"/>
          <p:cNvSpPr txBox="1"/>
          <p:nvPr/>
        </p:nvSpPr>
        <p:spPr>
          <a:xfrm>
            <a:off x="395280" y="620640"/>
            <a:ext cx="835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зеленого  цве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3"/>
          <p:cNvSpPr txBox="1"/>
          <p:nvPr/>
        </p:nvSpPr>
        <p:spPr>
          <a:xfrm>
            <a:off x="395280" y="2133720"/>
            <a:ext cx="828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играет  на  гармошке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324000" y="3860640"/>
            <a:ext cx="849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учший  друг  Чебурашк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Содержимое 9" descr="picture-9.jpg"/>
          <p:cNvPicPr/>
          <p:nvPr/>
        </p:nvPicPr>
        <p:blipFill>
          <a:blip r:embed="rId2"/>
          <a:srcRect l="14179" t="0" r="8208" b="0"/>
          <a:stretch/>
        </p:blipFill>
        <p:spPr>
          <a:xfrm>
            <a:off x="1547640" y="333360"/>
            <a:ext cx="5977080" cy="577836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1835280" y="566100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кодил  Ген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2"/>
          <p:cNvSpPr txBox="1"/>
          <p:nvPr/>
        </p:nvSpPr>
        <p:spPr>
          <a:xfrm>
            <a:off x="324000" y="1916280"/>
            <a:ext cx="85676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е  мама  испекла 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 бабушки  пирожк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250920" y="549360"/>
            <a:ext cx="86421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 нее  заболела  бабуш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324000" y="3645000"/>
            <a:ext cx="85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е  обманул  серый  волк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9" descr="Картинка 1 из 15932"/>
          <p:cNvPicPr/>
          <p:nvPr/>
        </p:nvPicPr>
        <p:blipFill>
          <a:blip r:embed="rId2"/>
          <a:srcRect l="4546" t="4547" r="4546" b="4547"/>
          <a:stretch/>
        </p:blipFill>
        <p:spPr>
          <a:xfrm>
            <a:off x="755640" y="189000"/>
            <a:ext cx="7777080" cy="62211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763640" y="587700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ая  Шапоч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2"/>
          <p:cNvSpPr txBox="1"/>
          <p:nvPr/>
        </p:nvSpPr>
        <p:spPr>
          <a:xfrm>
            <a:off x="250920" y="476280"/>
            <a:ext cx="842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а  не  любила  мыть  посуду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3"/>
          <p:cNvSpPr txBox="1"/>
          <p:nvPr/>
        </p:nvSpPr>
        <p:spPr>
          <a:xfrm>
            <a:off x="324000" y="184464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этому  вся  посуда  от  нее  сбежал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50920" y="3429000"/>
            <a:ext cx="85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 книги  о  ней – К.И. Чуковский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9" descr="Картинка 31 из 556"/>
          <p:cNvPicPr/>
          <p:nvPr/>
        </p:nvPicPr>
        <p:blipFill>
          <a:blip r:embed="rId2"/>
          <a:srcRect l="0" t="3626" r="0" b="5324"/>
          <a:stretch/>
        </p:blipFill>
        <p:spPr>
          <a:xfrm>
            <a:off x="1187280" y="0"/>
            <a:ext cx="6264360" cy="65246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1692360" y="6064200"/>
            <a:ext cx="54720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бушка  Федор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"/>
          <p:cNvSpPr txBox="1"/>
          <p:nvPr/>
        </p:nvSpPr>
        <p:spPr>
          <a:xfrm>
            <a:off x="324000" y="260280"/>
            <a:ext cx="85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а  пошла  по  полю  и  нашла  денежку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3"/>
          <p:cNvSpPr txBox="1"/>
          <p:nvPr/>
        </p:nvSpPr>
        <p:spPr>
          <a:xfrm>
            <a:off x="324000" y="3284640"/>
            <a:ext cx="856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 злодея  ее  спас  маленький  комарик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250920" y="1700280"/>
            <a:ext cx="85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а  пошла  на  базар  и  купила  самовар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Picture 8" descr="муха чуковс"/>
          <p:cNvPicPr/>
          <p:nvPr/>
        </p:nvPicPr>
        <p:blipFill>
          <a:blip r:embed="rId2"/>
          <a:srcRect l="0" t="3874" r="5085" b="3150"/>
          <a:stretch/>
        </p:blipFill>
        <p:spPr>
          <a:xfrm>
            <a:off x="2124000" y="189000"/>
            <a:ext cx="4680000" cy="601812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547640" y="5950080"/>
            <a:ext cx="58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ха - Цокотуха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2"/>
          <p:cNvSpPr txBox="1"/>
          <p:nvPr/>
        </p:nvSpPr>
        <p:spPr>
          <a:xfrm>
            <a:off x="324000" y="40464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e0077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путешествовал </a:t>
            </a:r>
            <a:endParaRPr b="0" lang="en-US" sz="1800" spc="1" strike="noStrike">
              <a:ln w="12600">
                <a:solidFill>
                  <a:srgbClr val="ee0077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e0077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ящике с апельсинами</a:t>
            </a:r>
            <a:endParaRPr b="0" lang="en-US" sz="1800" spc="1" strike="noStrike">
              <a:ln w="12600">
                <a:solidFill>
                  <a:srgbClr val="ee0077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826920" y="2276640"/>
            <a:ext cx="777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него большие уши</a:t>
            </a:r>
            <a:endParaRPr b="0" lang="en-US" sz="1800" spc="1" strike="noStrike">
              <a:ln w="12600">
                <a:solidFill>
                  <a:srgbClr val="cc00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95280" y="357336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 слова: Мы строили, </a:t>
            </a:r>
            <a:endParaRPr b="0" lang="en-US" sz="1800" spc="1" strike="noStrike">
              <a:ln w="12600">
                <a:solidFill>
                  <a:srgbClr val="cc00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ли и наконец построили</a:t>
            </a:r>
            <a:endParaRPr b="0" lang="en-US" sz="1800" spc="1" strike="noStrike">
              <a:ln w="12600">
                <a:solidFill>
                  <a:srgbClr val="cc00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9" descr="Картинка 177 из 102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540640" cy="640872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55" name="WordArt 5"/>
          <p:cNvSpPr txBox="1"/>
          <p:nvPr/>
        </p:nvSpPr>
        <p:spPr>
          <a:xfrm>
            <a:off x="2050920" y="6021360"/>
            <a:ext cx="504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бурашка</a:t>
            </a:r>
            <a:endParaRPr b="0" lang="en-US" sz="1800" spc="1" strike="noStrike">
              <a:ln w="12600">
                <a:solidFill>
                  <a:srgbClr val="cc00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2"/>
          <p:cNvSpPr txBox="1"/>
          <p:nvPr/>
        </p:nvSpPr>
        <p:spPr>
          <a:xfrm>
            <a:off x="539640" y="1557360"/>
            <a:ext cx="81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голове  его  опилк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971640" y="476280"/>
            <a:ext cx="7345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 очень  любит  мед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39640" y="292428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 друзья – поросенок,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лик, кролик и сов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Picture 15" descr="Картинка 78 из 16702"/>
          <p:cNvPicPr/>
          <p:nvPr/>
        </p:nvPicPr>
        <p:blipFill>
          <a:blip r:embed="rId2"/>
          <a:stretch/>
        </p:blipFill>
        <p:spPr>
          <a:xfrm>
            <a:off x="539640" y="260280"/>
            <a:ext cx="7863120" cy="5905440"/>
          </a:xfrm>
          <a:prstGeom prst="rect">
            <a:avLst/>
          </a:prstGeom>
          <a:ln w="0">
            <a:noFill/>
          </a:ln>
        </p:spPr>
      </p:pic>
      <p:sp>
        <p:nvSpPr>
          <p:cNvPr id="163" name="WordArt 8"/>
          <p:cNvSpPr txBox="1"/>
          <p:nvPr/>
        </p:nvSpPr>
        <p:spPr>
          <a:xfrm>
            <a:off x="1547640" y="6021360"/>
            <a:ext cx="576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нни - Пух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2"/>
          <p:cNvSpPr txBox="1"/>
          <p:nvPr/>
        </p:nvSpPr>
        <p:spPr>
          <a:xfrm>
            <a:off x="539640" y="549360"/>
            <a:ext cx="813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Любит" маленьких дет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468360" y="3500280"/>
            <a:ext cx="8064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ет в избушке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курьих ножках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539640" y="2060640"/>
            <a:ext cx="813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жит с Лешим и Кикиморо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Содержимое 9" descr="0_5afc0_37e534b0_XL.png"/>
          <p:cNvPicPr/>
          <p:nvPr/>
        </p:nvPicPr>
        <p:blipFill>
          <a:blip r:embed="rId2"/>
          <a:srcRect l="6099" t="4641" r="12198" b="7119"/>
          <a:stretch/>
        </p:blipFill>
        <p:spPr>
          <a:xfrm>
            <a:off x="900000" y="0"/>
            <a:ext cx="6336000" cy="645804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2340000" y="5877000"/>
            <a:ext cx="42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38183" dir="13500000" blurRad="0" rotWithShape="0">
                    <a:srgbClr val="000000">
                      <a:alpha val="40000"/>
                    </a:srgbClr>
                  </a:outerShdw>
                </a:effectLst>
                <a:latin typeface="Franklin Gothic Heavy"/>
              </a:rPr>
              <a:t>Баба Яг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38183" dir="13500000" blurRad="0" rotWithShape="0">
                  <a:srgbClr val="000000">
                    <a:alpha val="40000"/>
                  </a:srgbClr>
                </a:outerShdw>
              </a:effectLst>
              <a:latin typeface="Franklin Gothic Heavy"/>
              <a:ea typeface="Franklin Gothic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2"/>
          <p:cNvSpPr txBox="1"/>
          <p:nvPr/>
        </p:nvSpPr>
        <p:spPr>
          <a:xfrm>
            <a:off x="611280" y="620640"/>
            <a:ext cx="79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очень хозяйственны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324000" y="1989000"/>
            <a:ext cx="85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 друга зовут дядя Федор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539640" y="3645000"/>
            <a:ext cx="820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очень любит молоко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Содержимое 9" descr="234037751.jpg"/>
          <p:cNvPicPr/>
          <p:nvPr/>
        </p:nvPicPr>
        <p:blipFill>
          <a:blip r:embed="rId2"/>
          <a:stretch/>
        </p:blipFill>
        <p:spPr>
          <a:xfrm>
            <a:off x="684360" y="189000"/>
            <a:ext cx="7967520" cy="597672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2050920" y="580536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Матроскин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2"/>
          <p:cNvSpPr txBox="1"/>
          <p:nvPr/>
        </p:nvSpPr>
        <p:spPr>
          <a:xfrm>
            <a:off x="684360" y="333360"/>
            <a:ext cx="79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живет  на  крыше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324000" y="184464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 него  есть  друг - Малыш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24000" y="3500280"/>
            <a:ext cx="849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очень  любит  пошалить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Содержимое 9" descr="0_252d5_8303783c_XL.jpg"/>
          <p:cNvPicPr/>
          <p:nvPr/>
        </p:nvPicPr>
        <p:blipFill>
          <a:blip r:embed="rId2"/>
          <a:srcRect l="0" t="5798" r="0" b="0"/>
          <a:stretch/>
        </p:blipFill>
        <p:spPr>
          <a:xfrm>
            <a:off x="324000" y="260280"/>
            <a:ext cx="8580240" cy="597708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484360" y="587700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лсон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2"/>
          <p:cNvSpPr txBox="1"/>
          <p:nvPr/>
        </p:nvSpPr>
        <p:spPr>
          <a:xfrm>
            <a:off x="468360" y="1557360"/>
            <a:ext cx="820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 любимая фраза: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с тобой одной кров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95280" y="333360"/>
            <a:ext cx="835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живет в джунглях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95280" y="350028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  лучшие друзья –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ведь  и пантера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Содержимое 9" descr="9.jpg"/>
          <p:cNvPicPr/>
          <p:nvPr/>
        </p:nvPicPr>
        <p:blipFill>
          <a:blip r:embed="rId2"/>
          <a:stretch/>
        </p:blipFill>
        <p:spPr>
          <a:xfrm>
            <a:off x="395280" y="189000"/>
            <a:ext cx="8424720" cy="63514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2700360" y="5950080"/>
            <a:ext cx="460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угл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2"/>
          <p:cNvSpPr txBox="1"/>
          <p:nvPr/>
        </p:nvSpPr>
        <p:spPr>
          <a:xfrm>
            <a:off x="324000" y="620640"/>
            <a:ext cx="85262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живет  на  улице  Колокольчиков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250920" y="1700280"/>
            <a:ext cx="8642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  друзья – Знайка, Винтик  и  Шпунтик, 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чик,  доктор  ПИЛЮЛЬКИН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619280" y="386064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месте  с  друзьями 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летал  на  Луну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Содержимое 9" descr="img_957c2e782934944233c4c01f5bac086e.gif"/>
          <p:cNvPicPr/>
          <p:nvPr/>
        </p:nvPicPr>
        <p:blipFill>
          <a:blip r:embed="rId2"/>
          <a:srcRect l="0" t="0" r="0" b="2328"/>
          <a:stretch/>
        </p:blipFill>
        <p:spPr>
          <a:xfrm>
            <a:off x="1332000" y="0"/>
            <a:ext cx="5049720" cy="616572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1908000" y="595008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найка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2"/>
          <p:cNvSpPr txBox="1"/>
          <p:nvPr/>
        </p:nvSpPr>
        <p:spPr>
          <a:xfrm>
            <a:off x="179280" y="260280"/>
            <a:ext cx="8713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районных великанов 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- самый главный великан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179280" y="1989000"/>
            <a:ext cx="871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н  того, кто  ростом  мал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параде  поднимал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324000" y="3645000"/>
            <a:ext cx="84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рок пятого размера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евал он сапоги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Содержимое 9" descr="83339_big.jpg"/>
          <p:cNvPicPr/>
          <p:nvPr/>
        </p:nvPicPr>
        <p:blipFill>
          <a:blip r:embed="rId2"/>
          <a:srcRect l="0" t="2455" r="0" b="0"/>
          <a:stretch/>
        </p:blipFill>
        <p:spPr>
          <a:xfrm>
            <a:off x="2050920" y="189000"/>
            <a:ext cx="5042160" cy="606096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2050920" y="5661000"/>
            <a:ext cx="53294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ядя   Степа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C:\Users\1\Desktop\Презентации СКАЧ\5\template_inter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2"/>
          <p:cNvSpPr txBox="1"/>
          <p:nvPr/>
        </p:nvSpPr>
        <p:spPr>
          <a:xfrm>
            <a:off x="250920" y="184464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жил  с  графом  Вишенкой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395280" y="3284640"/>
            <a:ext cx="835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ел  до  слез  злого 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ньора  Помидора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68360" y="404640"/>
            <a:ext cx="842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ьчик - луковка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Содержимое 9" descr="32763543_3_708931.jpg"/>
          <p:cNvPicPr/>
          <p:nvPr/>
        </p:nvPicPr>
        <p:blipFill>
          <a:blip r:embed="rId2"/>
          <a:stretch/>
        </p:blipFill>
        <p:spPr>
          <a:xfrm>
            <a:off x="2340000" y="189000"/>
            <a:ext cx="4753080" cy="5543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2195640" y="580536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d5b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поллино</a:t>
            </a:r>
            <a:endParaRPr b="0" lang="en-US" sz="1800" spc="1" strike="noStrike">
              <a:ln w="12600">
                <a:solidFill>
                  <a:srgbClr val="fcd5b5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7:19:10Z</dcterms:created>
  <dc:creator>*</dc:creator>
  <dc:description/>
  <dc:language>en-US</dc:language>
  <cp:lastModifiedBy>1</cp:lastModifiedBy>
  <dcterms:modified xsi:type="dcterms:W3CDTF">2013-02-02T19:28:34Z</dcterms:modified>
  <cp:revision>48</cp:revision>
  <dc:subject/>
  <dc:title>Слайд 1</dc:title>
</cp:coreProperties>
</file>