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7.gif" ContentType="image/gif"/>
  <Override PartName="/ppt/media/image25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9.gif" ContentType="image/gif"/>
  <Override PartName="/ppt/media/image35.wmf" ContentType="image/x-wmf"/>
  <Override PartName="/ppt/media/image15.jpeg" ContentType="image/jpeg"/>
  <Override PartName="/ppt/media/image29.gif" ContentType="image/gif"/>
  <Override PartName="/ppt/media/image44.jpeg" ContentType="image/jpeg"/>
  <Override PartName="/ppt/media/image11.gif" ContentType="image/gif"/>
  <Override PartName="/ppt/media/image32.wmf" ContentType="image/x-wmf"/>
  <Override PartName="/ppt/media/image6.gif" ContentType="image/gif"/>
  <Override PartName="/ppt/media/image36.gif" ContentType="image/gif"/>
  <Override PartName="/ppt/media/image7.gif" ContentType="image/gif"/>
  <Override PartName="/ppt/media/image10.png" ContentType="image/png"/>
  <Override PartName="/ppt/media/image33.jpeg" ContentType="image/jpeg"/>
  <Override PartName="/ppt/media/image30.png" ContentType="image/png"/>
  <Override PartName="/ppt/media/image42.jpeg" ContentType="image/jpeg"/>
  <Override PartName="/ppt/media/image2.gif" ContentType="image/gif"/>
  <Override PartName="/ppt/media/image31.jpeg" ContentType="image/jpeg"/>
  <Override PartName="/ppt/media/image39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43.gif" ContentType="image/gif"/>
  <Override PartName="/ppt/media/image37.png" ContentType="image/png"/>
  <Override PartName="/ppt/media/image8.wmf" ContentType="image/x-wmf"/>
  <Override PartName="/ppt/media/image38.jpeg" ContentType="image/jpeg"/>
  <Override PartName="/ppt/media/image5.gif" ContentType="image/gif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0.wmf" ContentType="image/x-wmf"/>
  <Override PartName="/ppt/media/image24.gif" ContentType="image/gif"/>
  <Override PartName="/ppt/media/image3.gif" ContentType="image/gif"/>
  <Override PartName="/ppt/media/image22.wmf" ContentType="image/x-wmf"/>
  <Override PartName="/ppt/media/image26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AD7-5D5F-4A54-8BBB-05BE16550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капит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85B-3A35-4674-A551-957AA250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4C-B43F-4526-908A-D401B1B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DB9-ECEB-41FF-B357-5A29702C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ED6-3953-4320-B5F2-30FD0327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3C6-6B6C-4472-8E8B-2BDBB614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A9D-C50E-4C9B-90DD-BF8E12F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B8C-6055-4B76-8A4F-9F9E2C1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BECD-D758-41C5-8B93-BF79551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8B7-4AE2-4460-9B07-55D01B2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347-D406-4A9C-B191-D802494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EF74-DAB4-4E88-A4FB-802BFD2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E0F-33A4-4C26-BB2C-27DC3E8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EF84-C9C0-4036-86DD-6D3D9DB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920F-C748-4704-AD6E-763406E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ECAD-CA3A-4838-ABF4-9D67602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953B-CBE2-4462-A8CB-3D55711F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030-A437-41AA-AFCA-DC227174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7033-5F76-4C37-B7DD-753E0693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2630-581A-4842-B18D-B064C75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29DA-742B-4938-AD91-E6599606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4C17-8B53-4D1D-BEB5-42E4035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62280-00A4-453B-B2A8-C5DF07DF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A17-33A6-4E0A-A65D-12469B7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7E6B-772B-4794-8C62-21606942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55F6-2502-4DCD-9E7C-475A90C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7F25-7068-43C5-83D3-8EE8FDE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7277-403B-49D4-B1D7-4F70C2E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8036-7925-48CA-89B7-56F91AC1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B7F8-CA95-4638-BD31-A127E877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FEE9-55AC-48D6-809E-A2B3A799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B3C6-7A2A-4AF2-A8EA-22390712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74D0-31D9-4DAA-9BC9-46754653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360A-7FD7-4304-B4EB-64F0681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8F9-2084-48C0-932E-B6E5BE0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AB7D-9499-46D9-8621-9AF170F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4479-AD61-4484-BBA6-D58D676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A2E7-4D5C-4B8C-9AC2-AECEA12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00AD7-D333-4CD9-BA68-1265021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577A-36B5-43DD-8D09-1E6C130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DE4C-EC14-44A3-9615-CBF1E0A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C7CC-8F87-49E4-B8B3-BB7DFA8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3E45-2A16-480E-ACF1-DC80388C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143B-D013-42F9-AC9A-4B16FDE6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357-39F6-42BC-8050-DDDDF14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44E-FCA7-47F6-BB19-B2AD423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852-FADF-424F-9FB9-35BDA5E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A1F-E61C-4CF1-95A3-C80645E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EFD-5B01-49FA-9928-A892956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67B-FC22-4761-95C8-8E451AAEB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93FD-6060-44E2-BCC1-732BCC6D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A3C-BFD9-4543-A3CB-A2196F9B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9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9F2-CB39-4372-8471-4230D6F22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5.xml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5.xm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" Target="slide5.xml"/><Relationship Id="rId3" Type="http://schemas.openxmlformats.org/officeDocument/2006/relationships/image" Target="../media/image20.wmf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5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0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5.xml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5.xml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6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7.xml"/><Relationship Id="rId6" Type="http://schemas.openxmlformats.org/officeDocument/2006/relationships/slide" Target="slide17.xml"/><Relationship Id="rId7" Type="http://schemas.openxmlformats.org/officeDocument/2006/relationships/slide" Target="slide15.xml"/><Relationship Id="rId8" Type="http://schemas.openxmlformats.org/officeDocument/2006/relationships/slide" Target="slide9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1.xml"/><Relationship Id="rId15" Type="http://schemas.openxmlformats.org/officeDocument/2006/relationships/image" Target="../media/image12.gif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5.jpeg"/><Relationship Id="rId22" Type="http://schemas.openxmlformats.org/officeDocument/2006/relationships/image" Target="../media/image16.jpeg"/><Relationship Id="rId23" Type="http://schemas.openxmlformats.org/officeDocument/2006/relationships/image" Target="../media/image17.jpeg"/><Relationship Id="rId24" Type="http://schemas.openxmlformats.org/officeDocument/2006/relationships/image" Target="../media/image18.jpeg"/><Relationship Id="rId2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" Target="slide5.xml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0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0.wm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5.xml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2852640"/>
            <a:ext cx="727416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АТЕМАТИЧЕСКИЙ РИНГ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Провела Данилова Г.Л. Учитель математики МОУ Корсукская СОШ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Picture 10" descr="(432)"/>
          <p:cNvPicPr/>
          <p:nvPr/>
        </p:nvPicPr>
        <p:blipFill>
          <a:blip r:embed="rId1"/>
          <a:stretch/>
        </p:blipFill>
        <p:spPr>
          <a:xfrm>
            <a:off x="1403280" y="4221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(447)"/>
          <p:cNvPicPr/>
          <p:nvPr/>
        </p:nvPicPr>
        <p:blipFill>
          <a:blip r:embed="rId2"/>
          <a:stretch/>
        </p:blipFill>
        <p:spPr>
          <a:xfrm>
            <a:off x="7380360" y="4221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0" descr="image020"/>
          <p:cNvPicPr/>
          <p:nvPr/>
        </p:nvPicPr>
        <p:blipFill>
          <a:blip r:embed="rId3"/>
          <a:stretch/>
        </p:blipFill>
        <p:spPr>
          <a:xfrm>
            <a:off x="4140360" y="5084640"/>
            <a:ext cx="1428480" cy="1257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j0315816"/>
          <p:cNvPicPr/>
          <p:nvPr/>
        </p:nvPicPr>
        <p:blipFill>
          <a:blip r:embed="rId4"/>
          <a:stretch/>
        </p:blipFill>
        <p:spPr>
          <a:xfrm>
            <a:off x="385128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j0205402"/>
          <p:cNvPicPr/>
          <p:nvPr/>
        </p:nvPicPr>
        <p:blipFill>
          <a:blip r:embed="rId5"/>
          <a:stretch/>
        </p:blipFill>
        <p:spPr>
          <a:xfrm>
            <a:off x="6516720" y="1052640"/>
            <a:ext cx="2016000" cy="1498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j0223770"/>
          <p:cNvPicPr/>
          <p:nvPr/>
        </p:nvPicPr>
        <p:blipFill>
          <a:blip r:embed="rId6"/>
          <a:stretch/>
        </p:blipFill>
        <p:spPr>
          <a:xfrm>
            <a:off x="900000" y="1125360"/>
            <a:ext cx="1419480" cy="123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 Ве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80000" y="1412640"/>
            <a:ext cx="504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одну чашу весов положен брусок мыла, на другую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такого же бруска и ещё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к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сы в равновесии. Сколько весит целый брусок мы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8" descr="(216)"/>
          <p:cNvPicPr/>
          <p:nvPr/>
        </p:nvPicPr>
        <p:blipFill>
          <a:blip r:embed="rId1"/>
          <a:stretch/>
        </p:blipFill>
        <p:spPr>
          <a:xfrm>
            <a:off x="4572000" y="386064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9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13"/>
          <p:cNvSpPr txBox="1"/>
          <p:nvPr/>
        </p:nvSpPr>
        <p:spPr>
          <a:xfrm>
            <a:off x="5292720" y="5229360"/>
            <a:ext cx="251928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3 кил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36" name="Picture 9" descr="j0284110"/>
          <p:cNvPicPr/>
          <p:nvPr/>
        </p:nvPicPr>
        <p:blipFill>
          <a:blip r:embed="rId3"/>
          <a:stretch/>
        </p:blipFill>
        <p:spPr>
          <a:xfrm>
            <a:off x="1547640" y="4292640"/>
            <a:ext cx="1944720" cy="178596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"/>
          <p:cNvSpPr txBox="1"/>
          <p:nvPr/>
        </p:nvSpPr>
        <p:spPr>
          <a:xfrm>
            <a:off x="324000" y="6381720"/>
            <a:ext cx="28144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39640" y="1413000"/>
            <a:ext cx="3264120" cy="3201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340000" y="4292640"/>
            <a:ext cx="144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9"/>
          <p:cNvSpPr/>
          <p:nvPr/>
        </p:nvSpPr>
        <p:spPr>
          <a:xfrm>
            <a:off x="1332000" y="836640"/>
            <a:ext cx="633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от задача не из легк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ычитай дели и множ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люсы ставь, а так же скоб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ым к финишу придеш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2411280" y="328464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476360" y="350028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2"/>
          <p:cNvSpPr/>
          <p:nvPr/>
        </p:nvSpPr>
        <p:spPr>
          <a:xfrm rot="20571600">
            <a:off x="1547640" y="5373720"/>
            <a:ext cx="720720" cy="9349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 rot="1237200">
            <a:off x="7380360" y="2781000"/>
            <a:ext cx="720720" cy="11523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7740720" y="508464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99ff"/>
                </a:solidFill>
                <a:latin typeface="Arial"/>
                <a:ea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324000" y="5157720"/>
            <a:ext cx="122364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1763640" y="4005360"/>
            <a:ext cx="144360" cy="790560"/>
            <a:chOff x="1763640" y="4005360"/>
            <a:chExt cx="144360" cy="790560"/>
          </a:xfrm>
        </p:grpSpPr>
        <p:sp>
          <p:nvSpPr>
            <p:cNvPr id="348" name="Oval 16"/>
            <p:cNvSpPr/>
            <p:nvPr/>
          </p:nvSpPr>
          <p:spPr>
            <a:xfrm>
              <a:off x="1763640" y="4437000"/>
              <a:ext cx="144360" cy="358920"/>
            </a:xfrm>
            <a:prstGeom prst="ellipse">
              <a:avLst/>
            </a:prstGeom>
            <a:solidFill>
              <a:srgbClr val="fba3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7"/>
            <p:cNvSpPr/>
            <p:nvPr/>
          </p:nvSpPr>
          <p:spPr>
            <a:xfrm>
              <a:off x="1763640" y="4005360"/>
              <a:ext cx="144360" cy="287280"/>
            </a:xfrm>
            <a:prstGeom prst="ellipse">
              <a:avLst/>
            </a:prstGeom>
            <a:solidFill>
              <a:srgbClr val="fba3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Oval 18"/>
          <p:cNvSpPr/>
          <p:nvPr/>
        </p:nvSpPr>
        <p:spPr>
          <a:xfrm>
            <a:off x="7093080" y="4724280"/>
            <a:ext cx="288720" cy="287280"/>
          </a:xfrm>
          <a:prstGeom prst="ellipse">
            <a:avLst/>
          </a:prstGeom>
          <a:solidFill>
            <a:srgbClr val="fca2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2050920" y="3716280"/>
            <a:ext cx="49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buClr>
                <a:srgbClr val="ffff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5   5  5 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5   5   5   5 =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5   5   5   5 =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21" descr="j0283687"/>
          <p:cNvPicPr/>
          <p:nvPr/>
        </p:nvPicPr>
        <p:blipFill>
          <a:blip r:embed="rId1"/>
          <a:stretch/>
        </p:blipFill>
        <p:spPr>
          <a:xfrm>
            <a:off x="250920" y="227664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2" descr="j0434868"/>
          <p:cNvPicPr/>
          <p:nvPr/>
        </p:nvPicPr>
        <p:blipFill>
          <a:blip r:embed="rId2"/>
          <a:stretch/>
        </p:blipFill>
        <p:spPr>
          <a:xfrm>
            <a:off x="7020000" y="620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54" name="WordArt 26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3 мину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26"/>
          <p:cNvSpPr txBox="1"/>
          <p:nvPr/>
        </p:nvSpPr>
        <p:spPr>
          <a:xfrm>
            <a:off x="4643280" y="6453360"/>
            <a:ext cx="24544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гра со зрителям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6. Составь верное равенств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308720" y="652464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33"/>
          <p:cNvGrpSpPr/>
          <p:nvPr/>
        </p:nvGrpSpPr>
        <p:grpSpPr>
          <a:xfrm>
            <a:off x="457200" y="1905120"/>
            <a:ext cx="8229600" cy="4114800"/>
            <a:chOff x="457200" y="1905120"/>
            <a:chExt cx="8229600" cy="4114800"/>
          </a:xfrm>
        </p:grpSpPr>
        <p:sp>
          <p:nvSpPr>
            <p:cNvPr id="360" name="Rectangle 6"/>
            <p:cNvSpPr/>
            <p:nvPr/>
          </p:nvSpPr>
          <p:spPr>
            <a:xfrm>
              <a:off x="5943600" y="46483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3200400" y="46483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457200" y="46483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943600" y="32767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3200400" y="32767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457200" y="32767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5943600" y="19051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3200400" y="19051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4"/>
            <p:cNvSpPr/>
            <p:nvPr/>
          </p:nvSpPr>
          <p:spPr>
            <a:xfrm>
              <a:off x="457200" y="1905120"/>
              <a:ext cx="2743200" cy="13716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>
              <a:off x="457200" y="464832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457200" y="6019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>
              <a:off x="457200" y="19051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9"/>
            <p:cNvSpPr/>
            <p:nvPr/>
          </p:nvSpPr>
          <p:spPr>
            <a:xfrm>
              <a:off x="5943600" y="19051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868680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"/>
            <p:cNvSpPr/>
            <p:nvPr/>
          </p:nvSpPr>
          <p:spPr>
            <a:xfrm>
              <a:off x="3200400" y="1905120"/>
              <a:ext cx="0" cy="411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1066680" y="2286000"/>
              <a:ext cx="160020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4"/>
            <p:cNvSpPr/>
            <p:nvPr/>
          </p:nvSpPr>
          <p:spPr>
            <a:xfrm>
              <a:off x="3886200" y="2133720"/>
              <a:ext cx="1523880" cy="9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25"/>
            <p:cNvSpPr/>
            <p:nvPr/>
          </p:nvSpPr>
          <p:spPr>
            <a:xfrm>
              <a:off x="6553080" y="2133720"/>
              <a:ext cx="1295640" cy="914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26"/>
            <p:cNvSpPr/>
            <p:nvPr/>
          </p:nvSpPr>
          <p:spPr>
            <a:xfrm>
              <a:off x="914400" y="3352680"/>
              <a:ext cx="1447920" cy="1143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4114800" y="3581280"/>
              <a:ext cx="10666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8"/>
            <p:cNvSpPr/>
            <p:nvPr/>
          </p:nvSpPr>
          <p:spPr>
            <a:xfrm>
              <a:off x="6705720" y="3505320"/>
              <a:ext cx="1143000" cy="9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29"/>
            <p:cNvSpPr/>
            <p:nvPr/>
          </p:nvSpPr>
          <p:spPr>
            <a:xfrm>
              <a:off x="1066680" y="4876920"/>
              <a:ext cx="1219320" cy="106668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AutoShape 30"/>
            <p:cNvSpPr/>
            <p:nvPr/>
          </p:nvSpPr>
          <p:spPr>
            <a:xfrm>
              <a:off x="6705720" y="4800600"/>
              <a:ext cx="1218960" cy="990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31"/>
            <p:cNvSpPr/>
            <p:nvPr/>
          </p:nvSpPr>
          <p:spPr>
            <a:xfrm>
              <a:off x="3962520" y="4876920"/>
              <a:ext cx="1295280" cy="99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AutoShape 9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а со зрителя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WordArt 26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0 секунд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389" name="Group 25"/>
          <p:cNvGrpSpPr/>
          <p:nvPr/>
        </p:nvGrpSpPr>
        <p:grpSpPr>
          <a:xfrm>
            <a:off x="2411280" y="2997360"/>
            <a:ext cx="3971880" cy="3384360"/>
            <a:chOff x="2411280" y="2997360"/>
            <a:chExt cx="3971880" cy="3384360"/>
          </a:xfrm>
        </p:grpSpPr>
        <p:pic>
          <p:nvPicPr>
            <p:cNvPr id="390" name="Picture 8" descr="(216)"/>
            <p:cNvPicPr/>
            <p:nvPr/>
          </p:nvPicPr>
          <p:blipFill>
            <a:blip r:embed="rId2"/>
            <a:stretch/>
          </p:blipFill>
          <p:spPr>
            <a:xfrm>
              <a:off x="2411280" y="2997360"/>
              <a:ext cx="388800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24"/>
            <p:cNvSpPr/>
            <p:nvPr/>
          </p:nvSpPr>
          <p:spPr>
            <a:xfrm>
              <a:off x="2556000" y="4365720"/>
              <a:ext cx="38271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72a07"/>
                  </a:solidFill>
                  <a:latin typeface="Arial"/>
                </a:rPr>
                <a:t>(5 + 5 + 5) : 5 =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72a07"/>
                  </a:solidFill>
                  <a:latin typeface="Arial"/>
                </a:rPr>
                <a:t>(5 * 5 – 5) : 5 =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72a07"/>
                  </a:solidFill>
                  <a:latin typeface="Arial"/>
                </a:rPr>
                <a:t>5 * (5 – 5) + 5 =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. Полов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вина от половины числа равна половине. Какое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1"/>
          <p:cNvSpPr txBox="1"/>
          <p:nvPr/>
        </p:nvSpPr>
        <p:spPr>
          <a:xfrm rot="20093400">
            <a:off x="2771640" y="3860280"/>
            <a:ext cx="22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/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Picture 15" descr="(216)"/>
          <p:cNvPicPr/>
          <p:nvPr/>
        </p:nvPicPr>
        <p:blipFill>
          <a:blip r:embed="rId1"/>
          <a:stretch/>
        </p:blipFill>
        <p:spPr>
          <a:xfrm>
            <a:off x="5076720" y="292428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1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8"/>
          <p:cNvSpPr txBox="1"/>
          <p:nvPr/>
        </p:nvSpPr>
        <p:spPr>
          <a:xfrm>
            <a:off x="6443640" y="4365720"/>
            <a:ext cx="7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30 секунд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544760" cy="26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8. Треуголь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5030640" cy="23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у равен периметр треугольника со сторонами 18 с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 см, 35 см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11" descr="BD18238_"/>
          <p:cNvPicPr/>
          <p:nvPr/>
        </p:nvPicPr>
        <p:blipFill>
          <a:blip r:embed="rId1"/>
          <a:stretch/>
        </p:blipFill>
        <p:spPr>
          <a:xfrm rot="3847200">
            <a:off x="4270320" y="1742760"/>
            <a:ext cx="5613480" cy="32004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13" descr="(216)"/>
          <p:cNvPicPr/>
          <p:nvPr/>
        </p:nvPicPr>
        <p:blipFill>
          <a:blip r:embed="rId3"/>
          <a:stretch/>
        </p:blipFill>
        <p:spPr>
          <a:xfrm>
            <a:off x="2484360" y="4122720"/>
            <a:ext cx="3672000" cy="23684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6"/>
          <p:cNvSpPr txBox="1"/>
          <p:nvPr/>
        </p:nvSpPr>
        <p:spPr>
          <a:xfrm>
            <a:off x="3068640" y="51832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акого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 существу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06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1431720" cy="187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. Дальше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должны быть два следующих числа в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0, 8, 11, 9, 12, 10, 13,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5" descr="(216)"/>
          <p:cNvPicPr/>
          <p:nvPr/>
        </p:nvPicPr>
        <p:blipFill>
          <a:blip r:embed="rId1"/>
          <a:stretch/>
        </p:blipFill>
        <p:spPr>
          <a:xfrm>
            <a:off x="4788000" y="4221000"/>
            <a:ext cx="3456000" cy="222912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8"/>
          <p:cNvSpPr txBox="1"/>
          <p:nvPr/>
        </p:nvSpPr>
        <p:spPr>
          <a:xfrm>
            <a:off x="6012000" y="5300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,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rcRect l="31931" t="7088" r="4444" b="10891"/>
          <a:stretch/>
        </p:blipFill>
        <p:spPr>
          <a:xfrm>
            <a:off x="2340000" y="3789360"/>
            <a:ext cx="22114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6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826920" y="1700280"/>
          <a:ext cx="7417080" cy="4824360"/>
        </p:xfrm>
        <a:graphic>
          <a:graphicData uri="http://schemas.openxmlformats.org/drawingml/2006/table">
            <a:tbl>
              <a:tblPr/>
              <a:tblGrid>
                <a:gridCol w="1062360"/>
                <a:gridCol w="1055520"/>
                <a:gridCol w="1062000"/>
                <a:gridCol w="1057320"/>
                <a:gridCol w="1062000"/>
                <a:gridCol w="1055880"/>
                <a:gridCol w="1062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 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 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5f4b2"/>
                    </a:solidFill>
                  </a:tcPr>
                </a:tc>
              </a:tr>
            </a:tbl>
          </a:graphicData>
        </a:graphic>
      </p:graphicFrame>
      <p:sp>
        <p:nvSpPr>
          <p:cNvPr id="417" name="WordArt 76"/>
          <p:cNvSpPr txBox="1"/>
          <p:nvPr/>
        </p:nvSpPr>
        <p:spPr>
          <a:xfrm>
            <a:off x="826920" y="1052640"/>
            <a:ext cx="762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быстрее сосчитает до 50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. Конкурс капита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611280" y="1413000"/>
            <a:ext cx="85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умерация древнего Егип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 единицы;   ∩ - деся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 – сотни;       ∑ - тыся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∩∩∩││││││││)∙(ее│││)-(∩∩∩∩∩∩∩│││││)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еееее∩││││- ееее∩∩∩∩∩∩∩││││││)+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+(∩│││││+ ∩∩│││)∙(∩∩│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1. Переводч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AutoShape 7">
            <a:hlinkClick r:id="rId1" action="ppaction://hlinksldjump"/>
          </p:cNvPr>
          <p:cNvSpPr/>
          <p:nvPr/>
        </p:nvSpPr>
        <p:spPr>
          <a:xfrm>
            <a:off x="8317080" y="616572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WordArt 9"/>
          <p:cNvSpPr txBox="1"/>
          <p:nvPr/>
        </p:nvSpPr>
        <p:spPr>
          <a:xfrm>
            <a:off x="4859280" y="6453360"/>
            <a:ext cx="281484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гра со зрителям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250920" y="6440400"/>
            <a:ext cx="28144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3 мину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84360" y="2421000"/>
            <a:ext cx="5897520" cy="4060800"/>
            <a:chOff x="2484360" y="2421000"/>
            <a:chExt cx="5897520" cy="4060800"/>
          </a:xfrm>
        </p:grpSpPr>
        <p:pic>
          <p:nvPicPr>
            <p:cNvPr id="425" name="Picture 6" descr="(216)"/>
            <p:cNvPicPr/>
            <p:nvPr/>
          </p:nvPicPr>
          <p:blipFill>
            <a:blip r:embed="rId2"/>
            <a:stretch/>
          </p:blipFill>
          <p:spPr>
            <a:xfrm>
              <a:off x="2484360" y="2421000"/>
              <a:ext cx="589752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3209040" y="4653000"/>
              <a:ext cx="455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700      (∑∑∑∑∑еееееее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7" name="Picture 3" descr="pe01821_"/>
          <p:cNvPicPr/>
          <p:nvPr/>
        </p:nvPicPr>
        <p:blipFill>
          <a:blip r:embed="rId3"/>
          <a:stretch/>
        </p:blipFill>
        <p:spPr>
          <a:xfrm>
            <a:off x="7164360" y="19890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2. Семёр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раз встречается цифра 7 при записи чисел от 1 до 1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WordArt 5"/>
          <p:cNvSpPr txBox="1"/>
          <p:nvPr/>
        </p:nvSpPr>
        <p:spPr>
          <a:xfrm rot="1551600">
            <a:off x="5867280" y="3212640"/>
            <a:ext cx="230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AutoShape 7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33" name="Picture 10" descr="WRBEAN"/>
          <p:cNvPicPr/>
          <p:nvPr/>
        </p:nvPicPr>
        <p:blipFill>
          <a:blip r:embed="rId2"/>
          <a:stretch/>
        </p:blipFill>
        <p:spPr>
          <a:xfrm>
            <a:off x="3060720" y="342900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WRBEAN"/>
          <p:cNvPicPr/>
          <p:nvPr/>
        </p:nvPicPr>
        <p:blipFill>
          <a:blip r:embed="rId3"/>
          <a:stretch/>
        </p:blipFill>
        <p:spPr>
          <a:xfrm>
            <a:off x="3276720" y="314172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WRBEAN"/>
          <p:cNvPicPr/>
          <p:nvPr/>
        </p:nvPicPr>
        <p:blipFill>
          <a:blip r:embed="rId4"/>
          <a:stretch/>
        </p:blipFill>
        <p:spPr>
          <a:xfrm>
            <a:off x="2484360" y="414972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WRBEAN"/>
          <p:cNvPicPr/>
          <p:nvPr/>
        </p:nvPicPr>
        <p:blipFill>
          <a:blip r:embed="rId5"/>
          <a:stretch/>
        </p:blipFill>
        <p:spPr>
          <a:xfrm>
            <a:off x="3564000" y="393372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WRBEAN"/>
          <p:cNvPicPr/>
          <p:nvPr/>
        </p:nvPicPr>
        <p:blipFill>
          <a:blip r:embed="rId6"/>
          <a:stretch/>
        </p:blipFill>
        <p:spPr>
          <a:xfrm>
            <a:off x="3851280" y="508464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WRBEAN"/>
          <p:cNvPicPr/>
          <p:nvPr/>
        </p:nvPicPr>
        <p:blipFill>
          <a:blip r:embed="rId7"/>
          <a:stretch/>
        </p:blipFill>
        <p:spPr>
          <a:xfrm>
            <a:off x="1332000" y="371628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1" descr="WRBEAN"/>
          <p:cNvPicPr/>
          <p:nvPr/>
        </p:nvPicPr>
        <p:blipFill>
          <a:blip r:embed="rId8"/>
          <a:stretch/>
        </p:blipFill>
        <p:spPr>
          <a:xfrm>
            <a:off x="1547640" y="342900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WRBEAN"/>
          <p:cNvPicPr/>
          <p:nvPr/>
        </p:nvPicPr>
        <p:blipFill>
          <a:blip r:embed="rId9"/>
          <a:stretch/>
        </p:blipFill>
        <p:spPr>
          <a:xfrm>
            <a:off x="755640" y="443700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WRBEAN"/>
          <p:cNvPicPr/>
          <p:nvPr/>
        </p:nvPicPr>
        <p:blipFill>
          <a:blip r:embed="rId10"/>
          <a:stretch/>
        </p:blipFill>
        <p:spPr>
          <a:xfrm>
            <a:off x="1835280" y="422100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6" descr="WRBEAN"/>
          <p:cNvPicPr/>
          <p:nvPr/>
        </p:nvPicPr>
        <p:blipFill>
          <a:blip r:embed="rId11"/>
          <a:stretch/>
        </p:blipFill>
        <p:spPr>
          <a:xfrm>
            <a:off x="2122560" y="5372280"/>
            <a:ext cx="504720" cy="71892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1635840" y="1933560"/>
            <a:ext cx="4825800" cy="4349520"/>
            <a:chOff x="1635840" y="1933560"/>
            <a:chExt cx="4825800" cy="4349520"/>
          </a:xfrm>
        </p:grpSpPr>
        <p:pic>
          <p:nvPicPr>
            <p:cNvPr id="444" name="Picture 6" descr="(216)"/>
            <p:cNvPicPr/>
            <p:nvPr/>
          </p:nvPicPr>
          <p:blipFill>
            <a:blip r:embed="rId12"/>
            <a:stretch/>
          </p:blipFill>
          <p:spPr>
            <a:xfrm rot="20469000">
              <a:off x="2050560" y="2492280"/>
              <a:ext cx="3996000" cy="32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WordArt 9"/>
            <p:cNvSpPr txBox="1"/>
            <p:nvPr/>
          </p:nvSpPr>
          <p:spPr>
            <a:xfrm rot="20349600">
              <a:off x="3274920" y="4292280"/>
              <a:ext cx="1656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Arial"/>
                </a:rPr>
                <a:t>20 раз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5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3. Дым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6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лектропоезд идёт с востока на запад со скоростью 60 км/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том же направлении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востока на зап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ует ветер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 со скоростью 50 км/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какую сторону отклоняется дым поезд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5" descr="поезд"/>
          <p:cNvPicPr/>
          <p:nvPr/>
        </p:nvPicPr>
        <p:blipFill>
          <a:blip r:embed="rId1"/>
          <a:stretch/>
        </p:blipFill>
        <p:spPr>
          <a:xfrm>
            <a:off x="5508720" y="2349360"/>
            <a:ext cx="3058920" cy="18734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7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619360" y="2852640"/>
            <a:ext cx="5083200" cy="4151880"/>
            <a:chOff x="2619360" y="2852640"/>
            <a:chExt cx="5083200" cy="4151880"/>
          </a:xfrm>
        </p:grpSpPr>
        <p:grpSp>
          <p:nvGrpSpPr>
            <p:cNvPr id="451" name=""/>
            <p:cNvGrpSpPr/>
            <p:nvPr/>
          </p:nvGrpSpPr>
          <p:grpSpPr>
            <a:xfrm>
              <a:off x="2619360" y="3087000"/>
              <a:ext cx="4336920" cy="3917520"/>
              <a:chOff x="2619360" y="3087000"/>
              <a:chExt cx="4336920" cy="3917520"/>
            </a:xfrm>
          </p:grpSpPr>
          <p:pic>
            <p:nvPicPr>
              <p:cNvPr id="452" name="Picture 6" descr="(216)"/>
              <p:cNvPicPr/>
              <p:nvPr/>
            </p:nvPicPr>
            <p:blipFill>
              <a:blip r:embed="rId3"/>
              <a:stretch/>
            </p:blipFill>
            <p:spPr>
              <a:xfrm rot="1086000">
                <a:off x="2987280" y="3573360"/>
                <a:ext cx="3600360" cy="294480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453" name="WordArt 9"/>
              <p:cNvSpPr txBox="1"/>
              <p:nvPr/>
            </p:nvSpPr>
            <p:spPr>
              <a:xfrm rot="1065600">
                <a:off x="3346200" y="4868640"/>
                <a:ext cx="2725920" cy="807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07932" dir="2700000" blurRad="0" rotWithShape="0">
                        <a:srgbClr val="808080">
                          <a:alpha val="50000"/>
                        </a:srgbClr>
                      </a:outerShdw>
                    </a:effectLst>
                    <a:latin typeface="Arial"/>
                  </a:rPr>
                  <a:t>У электропоезда 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07932" dir="2700000" blurRad="0" rotWithShape="0">
                        <a:srgbClr val="808080">
                          <a:alpha val="50000"/>
                        </a:srgbClr>
                      </a:outerShdw>
                    </a:effectLst>
                    <a:latin typeface="Arial"/>
                  </a:rPr>
                  <a:t>нет дым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290920" y="2852640"/>
              <a:ext cx="2411640" cy="1223640"/>
            </a:xfrm>
            <a:prstGeom prst="cloudCallout">
              <a:avLst>
                <a:gd name="adj1" fmla="val -44800"/>
                <a:gd name="adj2" fmla="val 699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66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72a07"/>
                  </a:solidFill>
                  <a:latin typeface="Arial"/>
                </a:rPr>
                <a:t>Ха-ха-х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03280" y="1413000"/>
            <a:ext cx="706608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Чтобы спорилось нужное дело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Чтобы в жизни не знать неудач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Мы в поход отправляемся смело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В мир загадок и сложных задач.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Не беда, что идти далеко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Не боимся, что путь будет труден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Достижения крупные людя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Никогда не давались лег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0" descr="SO00444_"/>
          <p:cNvPicPr/>
          <p:nvPr/>
        </p:nvPicPr>
        <p:blipFill>
          <a:blip r:embed="rId1"/>
          <a:stretch/>
        </p:blipFill>
        <p:spPr>
          <a:xfrm>
            <a:off x="179280" y="0"/>
            <a:ext cx="1920960" cy="2374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834920" cy="1736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71640" y="260280"/>
            <a:ext cx="454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виз игр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3203640" y="4005360"/>
            <a:ext cx="3168360" cy="2260080"/>
            <a:chOff x="3203640" y="4005360"/>
            <a:chExt cx="3168360" cy="2260080"/>
          </a:xfrm>
        </p:grpSpPr>
        <p:pic>
          <p:nvPicPr>
            <p:cNvPr id="457" name="" descr=""/>
            <p:cNvPicPr/>
            <p:nvPr/>
          </p:nvPicPr>
          <p:blipFill>
            <a:blip r:embed="rId1"/>
            <a:srcRect l="0" t="40033" r="0" b="0"/>
            <a:stretch/>
          </p:blipFill>
          <p:spPr>
            <a:xfrm>
              <a:off x="3203640" y="4365360"/>
              <a:ext cx="316836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211640" y="4005360"/>
              <a:ext cx="1295280" cy="865080"/>
            </a:xfrm>
            <a:prstGeom prst="wedgeRoundRectCallout">
              <a:avLst>
                <a:gd name="adj1" fmla="val -38972"/>
                <a:gd name="adj2" fmla="val 68347"/>
                <a:gd name="adj3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b7"/>
                  </a:solidFill>
                  <a:latin typeface="Arial"/>
                </a:rPr>
                <a:t>А я считаю лучше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4. Дюж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52644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е дюжины умножили на 3 дюж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всего дюжин получи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WordArt 6"/>
          <p:cNvSpPr txBox="1"/>
          <p:nvPr/>
        </p:nvSpPr>
        <p:spPr>
          <a:xfrm>
            <a:off x="468360" y="2852640"/>
            <a:ext cx="3600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   ...=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896000" y="1484280"/>
            <a:ext cx="4248000" cy="3095640"/>
            <a:chOff x="4896000" y="1484280"/>
            <a:chExt cx="4248000" cy="3095640"/>
          </a:xfrm>
        </p:grpSpPr>
        <p:pic>
          <p:nvPicPr>
            <p:cNvPr id="464" name="Picture 8" descr="(216)"/>
            <p:cNvPicPr/>
            <p:nvPr/>
          </p:nvPicPr>
          <p:blipFill>
            <a:blip r:embed="rId3"/>
            <a:stretch/>
          </p:blipFill>
          <p:spPr>
            <a:xfrm>
              <a:off x="4896000" y="1484280"/>
              <a:ext cx="42480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WordArt 11"/>
            <p:cNvSpPr txBox="1"/>
            <p:nvPr/>
          </p:nvSpPr>
          <p:spPr>
            <a:xfrm>
              <a:off x="5543640" y="2779920"/>
              <a:ext cx="295056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 дюжин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2 12) (3 12)=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=(2 12 3) 12=72 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66" name="AutoShape 12"/>
            <p:cNvSpPr/>
            <p:nvPr/>
          </p:nvSpPr>
          <p:spPr>
            <a:xfrm>
              <a:off x="6335640" y="3213360"/>
              <a:ext cx="72720" cy="712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3"/>
            <p:cNvSpPr/>
            <p:nvPr/>
          </p:nvSpPr>
          <p:spPr>
            <a:xfrm>
              <a:off x="6912000" y="3211560"/>
              <a:ext cx="72720" cy="7164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4"/>
            <p:cNvSpPr/>
            <p:nvPr/>
          </p:nvSpPr>
          <p:spPr>
            <a:xfrm>
              <a:off x="7343640" y="3211560"/>
              <a:ext cx="72720" cy="7164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15"/>
            <p:cNvSpPr/>
            <p:nvPr/>
          </p:nvSpPr>
          <p:spPr>
            <a:xfrm>
              <a:off x="8064360" y="3500640"/>
              <a:ext cx="72720" cy="712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AutoShape 16"/>
            <p:cNvSpPr/>
            <p:nvPr/>
          </p:nvSpPr>
          <p:spPr>
            <a:xfrm>
              <a:off x="6985080" y="3500640"/>
              <a:ext cx="72360" cy="712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AutoShape 17"/>
            <p:cNvSpPr/>
            <p:nvPr/>
          </p:nvSpPr>
          <p:spPr>
            <a:xfrm>
              <a:off x="6551640" y="3500640"/>
              <a:ext cx="72720" cy="712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8"/>
            <p:cNvSpPr/>
            <p:nvPr/>
          </p:nvSpPr>
          <p:spPr>
            <a:xfrm>
              <a:off x="6048360" y="3500640"/>
              <a:ext cx="72720" cy="712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Овал 18"/>
          <p:cNvSpPr/>
          <p:nvPr/>
        </p:nvSpPr>
        <p:spPr>
          <a:xfrm>
            <a:off x="1857240" y="4286160"/>
            <a:ext cx="214560" cy="21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2 мину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5" name="WordArt 9"/>
          <p:cNvSpPr txBox="1"/>
          <p:nvPr/>
        </p:nvSpPr>
        <p:spPr>
          <a:xfrm>
            <a:off x="4859280" y="6453360"/>
            <a:ext cx="281484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гра со зрителям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6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ВАРИСТ ГАЛУ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2555280" y="836640"/>
            <a:ext cx="639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ниальный математик  Эварист Галу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11- 1832) был убит на дуэли. За пя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 до гибели Пушкина сходная смерт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дуэли унесла молодого француза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вариста Галуа.  Его мало кто зн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20 годам  он успел  только поступ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ысшую Нормальную школу (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дагогический университет в Париже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0920" y="384480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был исключен оттуда  в числе прочих “бунтарей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еволюционном 1830 году.  Казалось, что вскоре о Галуа забудут, как о многих других несостоявш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олюционерах. Но позднее выяснилось, что Галуа успел состояться как математик — да такой, каких Франция не рождала со времен Декарта. Поэтому имя юного француза стоит в одном ряду с имен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их математиков, как Эйлер или Гаусс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0108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36880" cy="27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8"/>
          <p:cNvSpPr/>
          <p:nvPr/>
        </p:nvSpPr>
        <p:spPr>
          <a:xfrm>
            <a:off x="3276720" y="765000"/>
            <a:ext cx="568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Пифагор считал, что «Всё есть число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Согласно его философскому мировоззрению числа управляют не только мерой и весом, но также всеми явлениями, происходящими в природе и являются сущностью гармонии, царствующей в мире, душой косм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Первые четыре числа – 1, 2, 3, 4 – означали: огонь, землю, воду и воздух. Сумма этих чисел –  10 – изображало весь мир. Он разделил числа на четные и нечетные, простые и сложные, впервые открыл математическую теорию музы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фагор Самос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"/>
          <p:cNvSpPr/>
          <p:nvPr/>
        </p:nvSpPr>
        <p:spPr>
          <a:xfrm>
            <a:off x="845964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619360" cy="345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485" name="" descr=""/>
          <p:cNvPicPr/>
          <p:nvPr/>
        </p:nvPicPr>
        <p:blipFill>
          <a:blip r:embed="rId2"/>
          <a:srcRect l="17878" t="9357" r="8419" b="28406"/>
          <a:stretch/>
        </p:blipFill>
        <p:spPr>
          <a:xfrm>
            <a:off x="395280" y="836640"/>
            <a:ext cx="2808360" cy="35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sp>
        <p:nvSpPr>
          <p:cNvPr id="486" name=""/>
          <p:cNvSpPr/>
          <p:nvPr/>
        </p:nvSpPr>
        <p:spPr>
          <a:xfrm>
            <a:off x="171720" y="4795920"/>
            <a:ext cx="8722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Школе Пифагора впервые высказана догадка о шарообраз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ли. Мысль о том, что движение небесных тел подчин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пределенным математическим соотношениям, идеи «гармо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ра»  и «музыки сфер», впоследствии приведшие к револю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астрономии, впервые появились именно в Школе Пифагор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ЛАТОН -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ревнегреческий филосо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3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ревнегре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илософ-идеали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атон (427-347) справедливо счит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математику должен знать каждый, кто хочет заниматься философией. При входе в его академию он сделал надп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Не знающий геометрии, сюда да не входи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8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5715000" y="1628640"/>
            <a:ext cx="3159000" cy="352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rcRect l="4148" t="0" r="0" b="0"/>
          <a:stretch/>
        </p:blipFill>
        <p:spPr>
          <a:xfrm>
            <a:off x="5651640" y="1557360"/>
            <a:ext cx="3305160" cy="3672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385120" cy="105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ХИМЕ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846144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2521080" y="836640"/>
            <a:ext cx="66592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я свои знания по геометрии, Архимед построил огромные зеркала и с их помощью сжёг римские корабли. Знаменитый закон Архимеда гласит: тело, погружённое в жидкость, теряет в весе столько, сколько весит вытесненная жидк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324000" y="4076640"/>
            <a:ext cx="8280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Жил Архимед в небольшом городе Сиракузы на острове Сицилия. Он изобрёл много военных машин того времени и погиб в 212 г. до н.э., когда его родной город осадили войска могущественного Рима. На его могиле была установлена плита с изображением шара и цилинд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374920" cy="316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233280" y="692280"/>
            <a:ext cx="2467080" cy="338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4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203640" y="1484280"/>
            <a:ext cx="57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«Мой долг служить науке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 дифференциальных уравнений в частных произво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олжила исследование Лапласа о структуре колец Сатур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дача о вращении твердого тела вокруг неподвижной то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ала стихи, про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Принцесса науки» - так называли Ковалевскую в Стокгольме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b7"/>
                </a:solidFill>
                <a:latin typeface="Arial Black"/>
              </a:rPr>
              <a:t>СОФЬЯ ВАСИЛЬЕВНА КОВАЛЕВСКАЯ «Принцесса науки»</a:t>
            </a:r>
            <a:br>
              <a:rPr sz="32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03280" cy="345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sp>
        <p:nvSpPr>
          <p:cNvPr id="502" name=""/>
          <p:cNvSpPr/>
          <p:nvPr/>
        </p:nvSpPr>
        <p:spPr>
          <a:xfrm>
            <a:off x="85680" y="5157720"/>
            <a:ext cx="90583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при жизни ей не удалось получить признание у себ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не в России.  Женщина – ученый, член-кореспонд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адемии не имела права присутствовать на заседаниях Академии. Она скончалась в 41 год, в самом расцвете творчески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305080" cy="345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504" name="Picture 17" descr="http://upload.wikimedia.org/wikipedia/commons/d/d7/Leonhard_Euler.jpg"/>
          <p:cNvPicPr/>
          <p:nvPr/>
        </p:nvPicPr>
        <p:blipFill>
          <a:blip r:embed="rId2"/>
          <a:stretch/>
        </p:blipFill>
        <p:spPr>
          <a:xfrm>
            <a:off x="179280" y="1268280"/>
            <a:ext cx="2786040" cy="360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sp>
        <p:nvSpPr>
          <p:cNvPr id="505" name=""/>
          <p:cNvSpPr/>
          <p:nvPr/>
        </p:nvSpPr>
        <p:spPr>
          <a:xfrm>
            <a:off x="3005280" y="1268280"/>
            <a:ext cx="613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етербургской жизни сложился как великий ученый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онард Эйлер (1707-1783) - швейцарский математ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обладал феноменальной памятью, умел работать всюду, при любых условиях. Имел 13 детей, причём мог писать свои работы, держа одного из них на коленях, а остальные при этом играли рядом. Парижская академия 12 раз награждала его преми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43280" y="1044720"/>
            <a:ext cx="610236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напряжение привело к болез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езультате которой он ослеп на правый глаз. Будучи слеп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продолжал работать, благодаря своей памяти, расчёты держал в уме, а писали его работы сыновья и ученики. За несколько минут до смерти он набросал вычисления орбиты недавно открытой планеты Ур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дущие математики потратили на решение задачи несколько месяце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он сделал это за три дня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р он на 77- м году жизн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63640" y="288720"/>
            <a:ext cx="5832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ГЕНИЙ 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XVIII 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века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Леонард Эйлер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831708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77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/>
                                        <p:tgtEl>
                                          <p:spTgt spid="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5"/>
          <p:cNvSpPr txBox="1"/>
          <p:nvPr/>
        </p:nvSpPr>
        <p:spPr>
          <a:xfrm>
            <a:off x="1692360" y="2276640"/>
            <a:ext cx="58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игр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0" name="Picture 7" descr="12m6"/>
          <p:cNvPicPr/>
          <p:nvPr/>
        </p:nvPicPr>
        <p:blipFill>
          <a:blip r:embed="rId1"/>
          <a:stretch/>
        </p:blipFill>
        <p:spPr>
          <a:xfrm>
            <a:off x="6227640" y="4365720"/>
            <a:ext cx="2011320" cy="1703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097440" cy="232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684360" y="364320"/>
            <a:ext cx="79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И ПЛЮС ТРИ УМНОЖИТЬ НА ТРИ. СКОЛЬКО БУД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 ТРЕУГОЛЬНИКА 3 УГЛА, ЕСЛИ ОДИН СРЕЗАТЬ, СКОЛЬКО ОСТАНЕТСЯ?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МУ РАВНА ОДНА ЧЕТВЁРТАЯ ЧАСТЬ ЧАС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ОЛЬКО КОНЦОВ У 3,5 ПАЛО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ЛА СТАРУХА В МОСКВУ, А НА ВСТРЕЧУ ЕЙ ТРИ СТАРИКА. СКОЛЬКО ЧЕЛОВЕК ШЛО В МОСКВ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ТУХ ВЕСИТ НА ОДНОЙ НОГЕ 4КГ. СКОЛЬКО ВЕСИТ ПЕТУХ НА ДВУХ НОГАХ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ЖАЛА ТРОЙКА ЛОШАДЕЙ. КАЖДАЯ ПРОБЕЖАЛА 5КМ. СКОЛЬКО КМ ПРОЕХАЛ ЯМЩИ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ЯЖЕЛЕЕ 1КГ ВАТЫ ИЛИ 1 КГ ЖЕЛЕЗ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И КУРИЦЫ ЗА ТРИ ДНЯ СНЕСУТ ТРИ ЯЙЦА. СКОЛЬКО ЯИЦ СНЕСУТ ДВЕНАДЦАТЬ КУР ЗА ДВЕНАДЦАТЬ ДНЕЙ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ЕЛКЕ ГОРЕЛО 7 СВЕЧЕЙ, 5 ИЗ НИХ ПОГАСЛИ. СКОЛЬКО СВЕЧЕЙ ОСТАЛОС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Е ДОЧЕРИ, ДВЕ МАТЕРИ, ДА БАБУШКА С ВНУЧКОЙ. СКОЛЬКО ВСЕ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ОЛЬКО НАДО СДЕЛАТЬ РАСПИЛОВ, ЧТОБЫ РАСПИЛИТЬ БРЕВНО НА 12 ЧАСТЕЙ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ЧЕЛОВЕК ОБМЕНЯЛИСЬ ФОТОГРАФИЯМИ, СКОЛЬКО БЫЛО РОЗДАНО ФОТОГРАФИ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47640" y="2708280"/>
            <a:ext cx="662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25"/>
                </a:solidFill>
                <a:latin typeface="Arial Black"/>
              </a:rPr>
              <a:t>РАЗМИНК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Игра для болельщиков </a:t>
            </a:r>
            <a:br>
              <a:rPr sz="4000"/>
            </a:b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на внимательность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50920" y="1700280"/>
            <a:ext cx="785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нажды я ехала на автобусе и решила посчитать пассажиров, их было 5, на первой остановке вошло еще 3, на следующей остановке вышли 2, а зашли 3, на следующей остановке вышли 4, и никто не вошел, а потом на остановке гражданин один вошел с целой кучею обнов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6" descr="j0433887"/>
          <p:cNvPicPr/>
          <p:nvPr/>
        </p:nvPicPr>
        <p:blipFill>
          <a:blip r:embed="rId1"/>
          <a:stretch/>
        </p:blipFill>
        <p:spPr>
          <a:xfrm>
            <a:off x="6372360" y="4506840"/>
            <a:ext cx="2506680" cy="23511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7"/>
          <p:cNvSpPr txBox="1"/>
          <p:nvPr/>
        </p:nvSpPr>
        <p:spPr>
          <a:xfrm>
            <a:off x="0" y="5300640"/>
            <a:ext cx="835200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колько было останово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79 -0.01341 L -0.35746 -0.29664 E">
                                      <p:cBhvr>
                                        <p:cTn id="12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ери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635280" y="1197000"/>
          <a:ext cx="4186440" cy="453384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942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8978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978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8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d4d"/>
                    </a:solidFill>
                  </a:tcPr>
                </a:tc>
              </a:tr>
              <a:tr h="8978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488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102" descr="IMG31"/>
          <p:cNvPicPr/>
          <p:nvPr/>
        </p:nvPicPr>
        <p:blipFill>
          <a:blip r:embed="rId1"/>
          <a:stretch/>
        </p:blipFill>
        <p:spPr>
          <a:xfrm>
            <a:off x="826920" y="328464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6"/>
          <p:cNvSpPr/>
          <p:nvPr/>
        </p:nvSpPr>
        <p:spPr>
          <a:xfrm>
            <a:off x="3851280" y="134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09"/>
          <p:cNvSpPr/>
          <p:nvPr/>
        </p:nvSpPr>
        <p:spPr>
          <a:xfrm>
            <a:off x="608652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1"/>
          <p:cNvSpPr/>
          <p:nvPr/>
        </p:nvSpPr>
        <p:spPr>
          <a:xfrm>
            <a:off x="5078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2"/>
          <p:cNvSpPr/>
          <p:nvPr/>
        </p:nvSpPr>
        <p:spPr>
          <a:xfrm>
            <a:off x="5005440" y="501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3"/>
          <p:cNvSpPr/>
          <p:nvPr/>
        </p:nvSpPr>
        <p:spPr>
          <a:xfrm>
            <a:off x="7093080" y="3213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15"/>
          <p:cNvSpPr/>
          <p:nvPr/>
        </p:nvSpPr>
        <p:spPr>
          <a:xfrm>
            <a:off x="7166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16"/>
          <p:cNvSpPr/>
          <p:nvPr/>
        </p:nvSpPr>
        <p:spPr>
          <a:xfrm>
            <a:off x="5078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7"/>
          <p:cNvSpPr/>
          <p:nvPr/>
        </p:nvSpPr>
        <p:spPr>
          <a:xfrm>
            <a:off x="5005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9" action="ppaction://hlinksldjump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18"/>
          <p:cNvSpPr/>
          <p:nvPr/>
        </p:nvSpPr>
        <p:spPr>
          <a:xfrm>
            <a:off x="716616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20"/>
          <p:cNvSpPr/>
          <p:nvPr/>
        </p:nvSpPr>
        <p:spPr>
          <a:xfrm>
            <a:off x="385308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1" action="ppaction://hlinksldjump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1"/>
          <p:cNvSpPr/>
          <p:nvPr/>
        </p:nvSpPr>
        <p:spPr>
          <a:xfrm>
            <a:off x="594216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4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7"/>
          <p:cNvSpPr/>
          <p:nvPr/>
        </p:nvSpPr>
        <p:spPr>
          <a:xfrm>
            <a:off x="3855600" y="3284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28"/>
          <p:cNvSpPr/>
          <p:nvPr/>
        </p:nvSpPr>
        <p:spPr>
          <a:xfrm>
            <a:off x="615816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4" action="ppaction://hlinksldjump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75" descr="j0288870"/>
          <p:cNvPicPr/>
          <p:nvPr/>
        </p:nvPicPr>
        <p:blipFill>
          <a:blip r:embed="rId15"/>
          <a:stretch/>
        </p:blipFill>
        <p:spPr>
          <a:xfrm>
            <a:off x="1403280" y="2492280"/>
            <a:ext cx="619200" cy="8096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27"/>
          <p:cNvSpPr/>
          <p:nvPr/>
        </p:nvSpPr>
        <p:spPr>
          <a:xfrm>
            <a:off x="3859560" y="3286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6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27"/>
          <p:cNvSpPr/>
          <p:nvPr/>
        </p:nvSpPr>
        <p:spPr>
          <a:xfrm>
            <a:off x="6014160" y="14130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7" action="ppaction://hlinksldjump"/>
              </a:rPr>
              <a:t>1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8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7908" y="10800"/>
                </a:moveTo>
                <a:lnTo>
                  <a:pt x="7403" y="17806"/>
                </a:lnTo>
                <a:lnTo>
                  <a:pt x="7403" y="3794"/>
                </a:lnTo>
                <a:close/>
              </a:path>
              <a:path fill="darken" w="28818" h="21600">
                <a:moveTo>
                  <a:pt x="19753" y="3794"/>
                </a:moveTo>
                <a:lnTo>
                  <a:pt x="19753" y="17806"/>
                </a:lnTo>
                <a:lnTo>
                  <a:pt x="21415" y="17806"/>
                </a:lnTo>
                <a:lnTo>
                  <a:pt x="21415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9"/>
          <a:stretch/>
        </p:blipFill>
        <p:spPr>
          <a:xfrm>
            <a:off x="4932360" y="4005360"/>
            <a:ext cx="53640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291" name="" descr=""/>
          <p:cNvPicPr/>
          <p:nvPr/>
        </p:nvPicPr>
        <p:blipFill>
          <a:blip r:embed="rId20"/>
          <a:stretch/>
        </p:blipFill>
        <p:spPr>
          <a:xfrm>
            <a:off x="6084720" y="2276640"/>
            <a:ext cx="436680" cy="57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292" name="" descr=""/>
          <p:cNvPicPr/>
          <p:nvPr/>
        </p:nvPicPr>
        <p:blipFill>
          <a:blip r:embed="rId21"/>
          <a:stretch/>
        </p:blipFill>
        <p:spPr>
          <a:xfrm>
            <a:off x="3924360" y="4941720"/>
            <a:ext cx="515880" cy="57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293" name="" descr=""/>
          <p:cNvPicPr/>
          <p:nvPr/>
        </p:nvPicPr>
        <p:blipFill>
          <a:blip r:embed="rId22"/>
          <a:stretch/>
        </p:blipFill>
        <p:spPr>
          <a:xfrm>
            <a:off x="7020000" y="1341360"/>
            <a:ext cx="479520" cy="71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294" name="" descr=""/>
          <p:cNvPicPr/>
          <p:nvPr/>
        </p:nvPicPr>
        <p:blipFill>
          <a:blip r:embed="rId23"/>
          <a:stretch/>
        </p:blipFill>
        <p:spPr>
          <a:xfrm>
            <a:off x="7093080" y="4941720"/>
            <a:ext cx="485640" cy="6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pic>
        <p:nvPicPr>
          <p:cNvPr id="295" name="Picture 17" descr="http://upload.wikimedia.org/wikipedia/commons/d/d7/Leonhard_Euler.jpg"/>
          <p:cNvPicPr/>
          <p:nvPr/>
        </p:nvPicPr>
        <p:blipFill>
          <a:blip r:embed="rId24"/>
          <a:stretch/>
        </p:blipFill>
        <p:spPr>
          <a:xfrm>
            <a:off x="3924360" y="2276640"/>
            <a:ext cx="501480" cy="64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(201)"/>
          <p:cNvPicPr/>
          <p:nvPr/>
        </p:nvPicPr>
        <p:blipFill>
          <a:blip r:embed="rId1"/>
          <a:stretch/>
        </p:blipFill>
        <p:spPr>
          <a:xfrm>
            <a:off x="0" y="465300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8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4360" y="1197000"/>
          <a:ext cx="6984720" cy="2665440"/>
        </p:xfrm>
        <a:graphic>
          <a:graphicData uri="http://schemas.openxmlformats.org/drawingml/2006/table">
            <a:tbl>
              <a:tblPr/>
              <a:tblGrid>
                <a:gridCol w="653760"/>
                <a:gridCol w="717840"/>
                <a:gridCol w="652320"/>
                <a:gridCol w="652320"/>
                <a:gridCol w="654120"/>
                <a:gridCol w="650880"/>
                <a:gridCol w="654120"/>
                <a:gridCol w="717480"/>
                <a:gridCol w="849240"/>
                <a:gridCol w="7826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419640" y="4076640"/>
          <a:ext cx="2304720" cy="2160720"/>
        </p:xfrm>
        <a:graphic>
          <a:graphicData uri="http://schemas.openxmlformats.org/drawingml/2006/table">
            <a:tbl>
              <a:tblPr/>
              <a:tblGrid>
                <a:gridCol w="409320"/>
                <a:gridCol w="473040"/>
                <a:gridCol w="474840"/>
                <a:gridCol w="473040"/>
                <a:gridCol w="474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3"/>
          <p:cNvSpPr/>
          <p:nvPr/>
        </p:nvSpPr>
        <p:spPr>
          <a:xfrm>
            <a:off x="468360" y="4149720"/>
            <a:ext cx="76327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f84b28"/>
                </a:solidFill>
                <a:latin typeface="Arial"/>
              </a:rPr>
              <a:t>Ключ: </a:t>
            </a:r>
            <a:r>
              <a:rPr b="1" lang="en-US" sz="1000" spc="-1" strike="noStrike">
                <a:solidFill>
                  <a:srgbClr val="f84b28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84b28"/>
                </a:solidFill>
                <a:latin typeface="Arial"/>
              </a:rPr>
              <a:t>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4b28"/>
                </a:solidFill>
                <a:latin typeface="Arial"/>
              </a:rPr>
              <a:t>                         </a:t>
            </a:r>
            <a:r>
              <a:rPr b="1" lang="en-US" sz="2700" spc="-1" strike="noStrike">
                <a:solidFill>
                  <a:srgbClr val="f84b28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84b28"/>
                </a:solidFill>
                <a:latin typeface="Arial"/>
              </a:rPr>
              <a:t>                         </a:t>
            </a:r>
            <a:r>
              <a:rPr b="1" lang="en-US" sz="2700" spc="-1" strike="noStrike">
                <a:solidFill>
                  <a:srgbClr val="f84b28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4b28"/>
                </a:solidFill>
                <a:latin typeface="Arial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4b28"/>
                </a:solidFill>
                <a:latin typeface="Arial"/>
              </a:rPr>
              <a:t>                                 </a:t>
            </a:r>
            <a:r>
              <a:rPr b="1" lang="en-US" sz="2600" spc="-1" strike="noStrike">
                <a:solidFill>
                  <a:srgbClr val="f84b28"/>
                </a:solidFill>
                <a:latin typeface="Arial"/>
              </a:rPr>
              <a:t>1   2   3   4   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03"/>
          <p:cNvGrpSpPr/>
          <p:nvPr/>
        </p:nvGrpSpPr>
        <p:grpSpPr>
          <a:xfrm>
            <a:off x="4932360" y="2781360"/>
            <a:ext cx="4032360" cy="2952720"/>
            <a:chOff x="4932360" y="2781360"/>
            <a:chExt cx="4032360" cy="2952720"/>
          </a:xfrm>
        </p:grpSpPr>
        <p:pic>
          <p:nvPicPr>
            <p:cNvPr id="302" name="Picture 5" descr="(216)"/>
            <p:cNvPicPr/>
            <p:nvPr/>
          </p:nvPicPr>
          <p:blipFill>
            <a:blip r:embed="rId3"/>
            <a:stretch/>
          </p:blipFill>
          <p:spPr>
            <a:xfrm>
              <a:off x="4932360" y="2781360"/>
              <a:ext cx="403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WordArt 10"/>
            <p:cNvSpPr txBox="1"/>
            <p:nvPr/>
          </p:nvSpPr>
          <p:spPr>
            <a:xfrm>
              <a:off x="5580000" y="4076640"/>
              <a:ext cx="2808360" cy="7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Arial"/>
                </a:rPr>
                <a:t>МАТЕМАТИКА 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Arial"/>
                </a:rPr>
                <a:t>ЦАРИЦА ВСЕХ НАУ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04" name="WordArt 104"/>
          <p:cNvSpPr txBox="1"/>
          <p:nvPr/>
        </p:nvSpPr>
        <p:spPr>
          <a:xfrm>
            <a:off x="250920" y="6556320"/>
            <a:ext cx="28144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2 мину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.Великая мудр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007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Хитрый садов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68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ажды пришли к садовнику ребята и спрашива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Дедушка, сколько в твоем саду деревьев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лыбнулся садовник и ответил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Половина всех моих деревьев- ябло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твертая часть- сл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дьмая часть- груши 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оме того, есть ещё 3 топол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ли ребята считать, сколько же у садовника в саду всех деревьев, да так и не сосчитали. Может быть вы сосчитаете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NA00417_"/>
          <p:cNvPicPr/>
          <p:nvPr/>
        </p:nvPicPr>
        <p:blipFill>
          <a:blip r:embed="rId1"/>
          <a:stretch/>
        </p:blipFill>
        <p:spPr>
          <a:xfrm>
            <a:off x="6732720" y="1268280"/>
            <a:ext cx="1903320" cy="252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NA00396_"/>
          <p:cNvPicPr/>
          <p:nvPr/>
        </p:nvPicPr>
        <p:blipFill>
          <a:blip r:embed="rId2"/>
          <a:stretch/>
        </p:blipFill>
        <p:spPr>
          <a:xfrm>
            <a:off x="0" y="0"/>
            <a:ext cx="1763640" cy="1550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(216)"/>
          <p:cNvPicPr/>
          <p:nvPr/>
        </p:nvPicPr>
        <p:blipFill>
          <a:blip r:embed="rId3"/>
          <a:stretch/>
        </p:blipFill>
        <p:spPr>
          <a:xfrm>
            <a:off x="3995640" y="3284640"/>
            <a:ext cx="4314960" cy="297180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>
            <a:hlinkClick r:id="rId4" action="ppaction://hlinksldjump"/>
          </p:cNvPr>
          <p:cNvSpPr/>
          <p:nvPr/>
        </p:nvSpPr>
        <p:spPr>
          <a:xfrm>
            <a:off x="838836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WordArt 10"/>
          <p:cNvSpPr txBox="1"/>
          <p:nvPr/>
        </p:nvSpPr>
        <p:spPr>
          <a:xfrm>
            <a:off x="4932360" y="4797360"/>
            <a:ext cx="26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8 дерев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13" name="WordArt 10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3 мину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11"/>
          <p:cNvSpPr txBox="1"/>
          <p:nvPr/>
        </p:nvSpPr>
        <p:spPr>
          <a:xfrm>
            <a:off x="4859280" y="6453360"/>
            <a:ext cx="281484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гра со зрителям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861080" y="4724280"/>
            <a:ext cx="2879640" cy="19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Будиль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557360"/>
            <a:ext cx="5256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льчик лёг сп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7 часов вече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тавив будильник так, чтобы он прозвен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9 часов у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олько времени проспит мальч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9" descr="AG00040_"/>
          <p:cNvPicPr/>
          <p:nvPr/>
        </p:nvPicPr>
        <p:blipFill>
          <a:blip r:embed="rId2"/>
          <a:stretch/>
        </p:blipFill>
        <p:spPr>
          <a:xfrm rot="20727600">
            <a:off x="468000" y="1699920"/>
            <a:ext cx="2477880" cy="2303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(216)"/>
          <p:cNvPicPr/>
          <p:nvPr/>
        </p:nvPicPr>
        <p:blipFill>
          <a:blip r:embed="rId3"/>
          <a:stretch/>
        </p:blipFill>
        <p:spPr>
          <a:xfrm>
            <a:off x="684360" y="3429000"/>
            <a:ext cx="4465440" cy="25970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2">
            <a:hlinkClick r:id="rId4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14"/>
          <p:cNvSpPr txBox="1"/>
          <p:nvPr/>
        </p:nvSpPr>
        <p:spPr>
          <a:xfrm>
            <a:off x="1835280" y="4653000"/>
            <a:ext cx="180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22" name="WordArt 9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30 секунд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 Сколько чисе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780000" y="1928520"/>
            <a:ext cx="47052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скольких двузначных чисел сумма циф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вна 10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(216)"/>
          <p:cNvPicPr/>
          <p:nvPr/>
        </p:nvPicPr>
        <p:blipFill>
          <a:blip r:embed="rId1"/>
          <a:stretch/>
        </p:blipFill>
        <p:spPr>
          <a:xfrm>
            <a:off x="3419640" y="3849840"/>
            <a:ext cx="4392360" cy="272880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1944720" cy="1766880"/>
          </a:xfrm>
          <a:prstGeom prst="rect">
            <a:avLst/>
          </a:prstGeom>
          <a:ln w="0">
            <a:noFill/>
          </a:ln>
        </p:spPr>
      </p:pic>
      <p:sp>
        <p:nvSpPr>
          <p:cNvPr id="328" name="WordArt 16"/>
          <p:cNvSpPr txBox="1"/>
          <p:nvPr/>
        </p:nvSpPr>
        <p:spPr>
          <a:xfrm>
            <a:off x="3780000" y="5067360"/>
            <a:ext cx="36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9 чисел: 19,28,37,4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1,82,73,64 и 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29" name="Picture 9" descr="j0296967"/>
          <p:cNvPicPr/>
          <p:nvPr/>
        </p:nvPicPr>
        <p:blipFill>
          <a:blip r:embed="rId4"/>
          <a:stretch/>
        </p:blipFill>
        <p:spPr>
          <a:xfrm>
            <a:off x="1692360" y="4724280"/>
            <a:ext cx="1297080" cy="1201680"/>
          </a:xfrm>
          <a:prstGeom prst="rect">
            <a:avLst/>
          </a:prstGeom>
          <a:ln w="0">
            <a:noFill/>
          </a:ln>
        </p:spPr>
      </p:pic>
      <p:sp>
        <p:nvSpPr>
          <p:cNvPr id="330" name="WordArt 10"/>
          <p:cNvSpPr txBox="1"/>
          <p:nvPr/>
        </p:nvSpPr>
        <p:spPr>
          <a:xfrm>
            <a:off x="250920" y="6453360"/>
            <a:ext cx="2814480" cy="30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ремя на раздумывание: 1 мину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4T07:39:35Z</dcterms:created>
  <dc:creator>1</dc:creator>
  <dc:description/>
  <dc:language>en-US</dc:language>
  <cp:lastModifiedBy>1</cp:lastModifiedBy>
  <dcterms:modified xsi:type="dcterms:W3CDTF">2017-03-13T01:25:59Z</dcterms:modified>
  <cp:revision>2</cp:revision>
  <dc:subject/>
  <dc:title>МАТЕМАТИЧЕСКИЙ РИНГ</dc:title>
</cp:coreProperties>
</file>