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F17-C611-4C5A-AC2C-58D37A64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80A-C059-435A-A84F-2618E9CC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B43FA3-2619-4BC5-8BB6-0F3D4B26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B7145A-E3D9-46A2-B03E-BFD863B8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3314B6-2AD0-4F74-8FBA-DA04845B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B3BCDE-43A0-464B-BADC-18AA83DA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C46070-C213-4AA6-BB18-9E65800F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948ED3-EF07-420F-A37A-506B0D46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C8AA80-164F-4235-AFE2-4D69F23C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B19EF4-B20A-4DD4-823C-E598BEF7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450D40-3525-4521-A90E-22449D41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0AB-72BC-44A3-929E-AADFE04D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17C-87A7-4458-B000-E30F7D7F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E321B-2E25-4D5B-851D-8D68EDDF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0F3A9-D746-4E57-9D50-87FA7096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5B188-985F-477F-9BDA-D7319198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1CF6B-AF61-457D-B69C-C8030080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D9611-F578-474A-BBE3-1E30F36B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5F07A-E02A-491E-AC00-3F2B4777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B5951-C68E-48C7-A238-40A28189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88B-3899-41D5-ADFB-1D86374A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660A0-5902-46F0-BBA0-C06932DF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1C05B-FC9C-4F64-87CB-F7EEA015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32B73-D295-4032-8611-2B7BF537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4241C-5316-42B2-A46E-C40F2BDF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C6956-A13F-4962-9C74-30B1299C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C4649-2E41-4F5E-BC48-CB2D1338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990D-BF00-4782-85A9-4EBD0ABD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66E2-ADD6-4D36-AFB5-B0E1902A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67C3-21E6-40BB-8D4D-BEB5CC2C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22EE-F03C-4B7D-913F-4F7B6EF3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60A-4A82-4766-93B1-1027C55C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59C3-BB64-44CD-860E-E0E95848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A8FD-DD07-45BF-B184-AFC8971E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F391-A549-43F3-91A9-8B5F15AB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E3D1-6FE8-4E09-8DB1-827D99E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E679-EADE-401A-8082-1E897574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D391-58FB-4AA2-BE05-84A6C70A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BBE7-F4CE-4627-95D0-BBBF1485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868F3-1DB8-49AE-AADC-BAABD5FF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4F477-50A7-468E-B5ED-9F6DF609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7C3FA-16EA-484F-AD7A-4B2219C4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148-1A81-4D0A-945F-6B4BBEC5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7871F-1BC1-4C3C-80C6-FB222576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A15ABA-BB99-4BD3-B17E-F6D67B47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DC489-4370-4607-8AFE-71B742A8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D3ECD-6A9C-48B9-9A2C-F1DF224D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42683-6DE1-4F5E-99F3-A0A3820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7A5CE-38FD-44DF-A012-439FC33E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D8B372-44AD-4B92-BFD6-1393CD6C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D416B5-3EB9-4839-B7F9-7A6251C7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8A562A-6208-4707-815F-D64C8C1D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E4BC3-6222-46EA-8C3C-931EA7DB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CAE-7199-4589-8076-36FFBCAF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31A20-D114-45EB-9B1D-BE8E20BF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48A6B-1837-4964-BAD8-003860A8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6837F-4186-458E-8BBB-335B4723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5D65F-6462-4A57-B7C0-4C0CC4B7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82521-A5D5-4E35-A20A-E303AD47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56820-EEAF-4838-AA34-0C605AF2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570B5-AE19-4B4E-8325-42266346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B115C-02B3-442E-849C-2E254850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E888C-56ED-4A1B-A4D8-87622E00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A7B6D-6CAF-4111-BA48-EF1CDE0C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630-CD94-48B7-AF42-D9149A2E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6553D-B87A-40A7-A9BA-E5C342C1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BD51D-52D8-4CD0-9132-A37D9850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6DE92-BAD8-44E5-B342-8B641399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5102F-3D51-458A-9355-C8D5D168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43E35-4B5B-443E-9FF7-37828286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2906-123D-48D4-A7E5-20E9C0DF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8D755-3B5C-474F-80EE-A4A852F4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5A92D-2F1A-4152-9A93-0EEB067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0F4B9-EEEE-4C47-8F00-CE5BED86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00F2B-A6BB-4F4E-869D-DB750D18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100-3260-4DE7-A810-AC083F8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C26EA-36AF-48E0-A7A2-AC4EDD42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12F4C-00F4-438A-BE36-A761601B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9A08F-06A9-4175-B5A4-A328B09E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A1132-EEC9-451B-B308-7BB52412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26993-1F6D-44AC-BE06-557A5006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B6393-84B0-4FCF-83EB-C7F4E8B9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3E309-34AE-4B3B-8495-21AF55BF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17C3C-BD3A-46F1-91D4-2F35D2D4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E4EA2-910D-449D-A1F3-9B784411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31EA8-02F6-47BA-847C-5E25A95B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F63-D66A-4A75-A5F8-A0C4ED8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92D5B-CB04-4D6B-805C-CD685FF8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C74A3-C949-4654-A78D-46F29851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0E00A-797A-49AD-807A-F8CD2BAB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C2E77-9260-446C-B739-6800C4A4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4DCD0-DD83-488B-B741-7C33D71B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00E789-A754-490E-BC7E-B42622C7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D9B0EC-D5A0-4185-8754-6380762E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B645C6-052D-45E9-9D46-FB6A4CCF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04DB14-1D87-46D8-8268-7CBE0495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80267A-4BA9-4F43-8590-4C27A13B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5B4-B619-4DE6-B84D-F93F503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143FDE-870D-4E30-863E-6DBCB46E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61AE5-C334-422F-900F-59DFE930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49158F-9DA4-4CBC-BE5E-CFFD004F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84ACE2-97EB-4C2B-B1EE-82D3D727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6699F5-DD28-437B-8224-B1EE2FFB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95BD36-B120-43AB-A39E-E4430B55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AC89CF-02C7-4A8A-89AA-A467B91C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6C7A4-70C9-4B64-9C18-4B853EAC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AB80C4-8A92-41C4-BF01-5AE84689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DDC56F-F510-4811-B322-D9B7321D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74AD-E9AA-494A-B4C3-E15A6BA4EA3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8C5B-D692-4EBC-8883-A879D5F9B4E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F4B7-2BEC-4485-B069-E0DF5908F68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9ECC-E42C-496B-B606-55D36C3A578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1ACF-A9A9-4F3A-BD0A-28E9EA17363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F88B-5630-4927-9962-AF9149AB8C5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4C0F-2711-48E6-910D-914077EB185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CDAF-78FE-46DA-B773-26ED38CBFE6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69EE-40F8-4E2D-8C4B-7529535414B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mbria"/>
              </a:rPr>
              <a:t>Музыкальные интрументы.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Picture 4" descr="C:\Users\nonse\Pictures\116543345313930c5eb5f9468d8b0f17.jpg.jpg"/>
          <p:cNvPicPr/>
          <p:nvPr/>
        </p:nvPicPr>
        <p:blipFill>
          <a:blip r:embed="rId1"/>
          <a:stretch/>
        </p:blipFill>
        <p:spPr>
          <a:xfrm>
            <a:off x="4284720" y="3429000"/>
            <a:ext cx="4228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396720" y="225360"/>
            <a:ext cx="3383280" cy="9208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9" name="Picture 2" descr="C:\Users\nonse\Desktop\Vk hrom\Сходки\22.01.2017\61831068_0.jpg"/>
          <p:cNvPicPr/>
          <p:nvPr/>
        </p:nvPicPr>
        <p:blipFill>
          <a:blip r:embed="rId2"/>
          <a:stretch/>
        </p:blipFill>
        <p:spPr>
          <a:xfrm>
            <a:off x="1476360" y="1628640"/>
            <a:ext cx="5543640" cy="4903920"/>
          </a:xfrm>
          <a:prstGeom prst="rect">
            <a:avLst/>
          </a:prstGeom>
          <a:ln w="0">
            <a:noFill/>
          </a:ln>
        </p:spPr>
      </p:pic>
      <p:pic>
        <p:nvPicPr>
          <p:cNvPr id="400" name="Русская балалайка - Душа замирает (mixpromo.net).mp3" descr=""/>
          <p:cNvPicPr/>
          <p:nvPr/>
        </p:nvPicPr>
        <p:blipFill>
          <a:blip r:embed="rId3"/>
          <a:stretch/>
        </p:blipFill>
        <p:spPr>
          <a:xfrm>
            <a:off x="395280" y="5661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Users\nonse\Pictures\1091.jpg"/>
          <p:cNvPicPr/>
          <p:nvPr/>
        </p:nvPicPr>
        <p:blipFill>
          <a:blip r:embed="rId4"/>
          <a:stretch/>
        </p:blipFill>
        <p:spPr>
          <a:xfrm>
            <a:off x="7236000" y="549360"/>
            <a:ext cx="1728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4005360" cy="1127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Users\nonse\Desktop\Vk hrom\Сходки\22.01.2017\635405.jpg"/>
          <p:cNvPicPr/>
          <p:nvPr/>
        </p:nvPicPr>
        <p:blipFill>
          <a:blip r:embed="rId2"/>
          <a:stretch/>
        </p:blipFill>
        <p:spPr>
          <a:xfrm>
            <a:off x="1908000" y="1197000"/>
            <a:ext cx="5472360" cy="5472000"/>
          </a:xfrm>
          <a:prstGeom prst="rect">
            <a:avLst/>
          </a:prstGeom>
          <a:ln w="0">
            <a:noFill/>
          </a:ln>
        </p:spPr>
      </p:pic>
      <p:pic>
        <p:nvPicPr>
          <p:cNvPr id="404" name="maski-shou-zvuk--dudochka.mp3" descr=""/>
          <p:cNvPicPr/>
          <p:nvPr/>
        </p:nvPicPr>
        <p:blipFill>
          <a:blip r:embed="rId3"/>
          <a:stretch/>
        </p:blipFill>
        <p:spPr>
          <a:xfrm>
            <a:off x="684360" y="566100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C:\Users\nonse\Pictures\1091.jpg"/>
          <p:cNvPicPr/>
          <p:nvPr/>
        </p:nvPicPr>
        <p:blipFill>
          <a:blip r:embed="rId4"/>
          <a:stretch/>
        </p:blipFill>
        <p:spPr>
          <a:xfrm>
            <a:off x="7524720" y="549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822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nonse\Desktop\Vk hrom\Сходки\22.01.2017\images.jpg"/>
          <p:cNvPicPr/>
          <p:nvPr/>
        </p:nvPicPr>
        <p:blipFill>
          <a:blip r:embed="rId2"/>
          <a:stretch/>
        </p:blipFill>
        <p:spPr>
          <a:xfrm>
            <a:off x="2268360" y="1673280"/>
            <a:ext cx="4597560" cy="4600440"/>
          </a:xfrm>
          <a:prstGeom prst="rect">
            <a:avLst/>
          </a:prstGeom>
          <a:ln w="0">
            <a:noFill/>
          </a:ln>
        </p:spPr>
      </p:pic>
      <p:pic>
        <p:nvPicPr>
          <p:cNvPr id="408" name="mp3_fx_006.mp3" descr=""/>
          <p:cNvPicPr/>
          <p:nvPr/>
        </p:nvPicPr>
        <p:blipFill>
          <a:blip r:embed="rId3"/>
          <a:stretch/>
        </p:blipFill>
        <p:spPr>
          <a:xfrm>
            <a:off x="826920" y="5589720"/>
            <a:ext cx="505080" cy="503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C:\Users\nonse\Pictures\1091.jpg"/>
          <p:cNvPicPr/>
          <p:nvPr/>
        </p:nvPicPr>
        <p:blipFill>
          <a:blip r:embed="rId4"/>
          <a:stretch/>
        </p:blipFill>
        <p:spPr>
          <a:xfrm>
            <a:off x="7236000" y="765000"/>
            <a:ext cx="1728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356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Users\nonse\Desktop\Vk hrom\Сходки\22.01.2017\music-toys.preview.jpg"/>
          <p:cNvPicPr/>
          <p:nvPr/>
        </p:nvPicPr>
        <p:blipFill>
          <a:blip r:embed="rId2"/>
          <a:stretch/>
        </p:blipFill>
        <p:spPr>
          <a:xfrm>
            <a:off x="2050920" y="1773360"/>
            <a:ext cx="4670640" cy="4232160"/>
          </a:xfrm>
          <a:prstGeom prst="rect">
            <a:avLst/>
          </a:prstGeom>
          <a:ln w="0">
            <a:noFill/>
          </a:ln>
        </p:spPr>
      </p:pic>
      <p:pic>
        <p:nvPicPr>
          <p:cNvPr id="412" name="api.play.mp3" descr=""/>
          <p:cNvPicPr/>
          <p:nvPr/>
        </p:nvPicPr>
        <p:blipFill>
          <a:blip r:embed="rId3"/>
          <a:stretch/>
        </p:blipFill>
        <p:spPr>
          <a:xfrm>
            <a:off x="826920" y="5589720"/>
            <a:ext cx="505080" cy="503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Users\nonse\Pictures\1091.jpg"/>
          <p:cNvPicPr/>
          <p:nvPr/>
        </p:nvPicPr>
        <p:blipFill>
          <a:blip r:embed="rId4"/>
          <a:stretch/>
        </p:blipFill>
        <p:spPr>
          <a:xfrm>
            <a:off x="7164360" y="76500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377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nonse\Desktop\Vk hrom\Сходки\22.01.2017\Деревянные-Погремушки-Гранул-Барабан-Мультфильм-Музыкальный-Инструмент-Игрушки-для-Детей-Подарочные-игрушки-для-детей-0-12.jpg"/>
          <p:cNvPicPr/>
          <p:nvPr/>
        </p:nvPicPr>
        <p:blipFill>
          <a:blip r:embed="rId2"/>
          <a:stretch/>
        </p:blipFill>
        <p:spPr>
          <a:xfrm>
            <a:off x="2124000" y="1557360"/>
            <a:ext cx="4524480" cy="4525920"/>
          </a:xfrm>
          <a:prstGeom prst="rect">
            <a:avLst/>
          </a:prstGeom>
          <a:ln w="0">
            <a:noFill/>
          </a:ln>
        </p:spPr>
      </p:pic>
      <p:pic>
        <p:nvPicPr>
          <p:cNvPr id="416" name="6037_68.wav" descr=""/>
          <p:cNvPicPr/>
          <p:nvPr/>
        </p:nvPicPr>
        <p:blipFill>
          <a:blip r:embed="rId3"/>
          <a:stretch/>
        </p:blipFill>
        <p:spPr>
          <a:xfrm>
            <a:off x="755640" y="5661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C:\Users\nonse\Pictures\1091.jpg"/>
          <p:cNvPicPr/>
          <p:nvPr/>
        </p:nvPicPr>
        <p:blipFill>
          <a:blip r:embed="rId4"/>
          <a:stretch/>
        </p:blipFill>
        <p:spPr>
          <a:xfrm>
            <a:off x="6875640" y="549360"/>
            <a:ext cx="1944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912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nonse\Pictures\1091.jpg"/>
          <p:cNvPicPr/>
          <p:nvPr/>
        </p:nvPicPr>
        <p:blipFill>
          <a:blip r:embed="rId2"/>
          <a:stretch/>
        </p:blipFill>
        <p:spPr>
          <a:xfrm>
            <a:off x="2627280" y="1628640"/>
            <a:ext cx="4116600" cy="4114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Users\nonse\Pictures\1091.jpg"/>
          <p:cNvPicPr/>
          <p:nvPr/>
        </p:nvPicPr>
        <p:blipFill>
          <a:blip r:embed="rId3"/>
          <a:stretch/>
        </p:blipFill>
        <p:spPr>
          <a:xfrm>
            <a:off x="900000" y="1628640"/>
            <a:ext cx="1306800" cy="1306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nonse\Pictures\1091.jpg"/>
          <p:cNvPicPr/>
          <p:nvPr/>
        </p:nvPicPr>
        <p:blipFill>
          <a:blip r:embed="rId4"/>
          <a:stretch/>
        </p:blipFill>
        <p:spPr>
          <a:xfrm>
            <a:off x="7093080" y="1628640"/>
            <a:ext cx="1306440" cy="1224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C:\Users\nonse\Pictures\1091.jpg"/>
          <p:cNvPicPr/>
          <p:nvPr/>
        </p:nvPicPr>
        <p:blipFill>
          <a:blip r:embed="rId5"/>
          <a:stretch/>
        </p:blipFill>
        <p:spPr>
          <a:xfrm>
            <a:off x="826920" y="4437000"/>
            <a:ext cx="1297080" cy="1295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C:\Users\nonse\Pictures\1091.jpg"/>
          <p:cNvPicPr/>
          <p:nvPr/>
        </p:nvPicPr>
        <p:blipFill>
          <a:blip r:embed="rId6"/>
          <a:stretch/>
        </p:blipFill>
        <p:spPr>
          <a:xfrm>
            <a:off x="7093080" y="43657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0T17:32:57Z</dcterms:created>
  <dc:creator>nonse</dc:creator>
  <dc:description/>
  <dc:language>en-US</dc:language>
  <cp:lastModifiedBy>RePack by SPecialiST</cp:lastModifiedBy>
  <dcterms:modified xsi:type="dcterms:W3CDTF">2017-01-31T17:54:28Z</dcterms:modified>
  <cp:revision>41</cp:revision>
  <dc:subject/>
  <dc:title>Слайд 1</dc:title>
</cp:coreProperties>
</file>