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819-435F-4B83-B3C2-4713E76A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5C9-8D47-4D9A-8A45-6C31887F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8AF-1DC5-43E5-BBEA-AB8B4B2D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0E2-9F1D-4382-B717-8EA43FFB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24EB-0D3A-4760-83F9-9DC6FF6B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69C1-564C-436C-BBEB-E99E0514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36D6-7D95-4955-8824-B2566F65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26C4-2A1A-491F-8847-F83DFB3C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201A-50BD-4673-83A2-276B0EFE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3589-1AA1-45A7-8CBC-6866942C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6ABF-92D2-4525-AFC5-8F9F0EF8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368-90F6-48B7-8555-254131D3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4283-0914-40C5-8D2E-E36F2568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8698-6C20-4305-B4A3-EEA5D04E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6202-2185-4515-9B63-C534B966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8CF1-D2C0-484C-BFBC-6FCF7261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442E-D2F9-4848-AFA5-62877981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20D-8745-4689-A235-B955DC74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CAB-0C87-4633-BACE-40FAA069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9C6-8EC3-44FA-BA2E-1B5180A0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868-7AFE-4451-979D-2B6E91B0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0F6-96CE-426E-840C-5F87CE6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EB6-748B-46CA-9724-7C7E87A6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709-5555-421A-8458-FB6AADC0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7D1D-B4AB-477D-937B-B1E0449DD5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8F29-9138-4CBA-9001-F5D825F5F7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циальный паспорт школ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26" descr="E:\школа коллаж2.jpg"/>
          <p:cNvPicPr/>
          <p:nvPr/>
        </p:nvPicPr>
        <p:blipFill>
          <a:blip r:embed="rId1"/>
          <a:stretch/>
        </p:blipFill>
        <p:spPr>
          <a:xfrm>
            <a:off x="1371600" y="1467000"/>
            <a:ext cx="77724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30033"/>
                </a:solidFill>
                <a:latin typeface="Times New Roman"/>
              </a:rPr>
              <a:t>В на 1 сентября 2017 года в школе обучается 926 учащихся</a:t>
            </a:r>
            <a:endParaRPr b="0" lang="en-US" sz="3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304920" y="1298520"/>
          <a:ext cx="8381880" cy="49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8520"/>
                    <a:ext cx="838188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полные семьи</a:t>
            </a:r>
            <a:br>
              <a:rPr sz="44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 учета вновь прибывших обучающихся</a:t>
            </a:r>
            <a:br>
              <a:rPr sz="4400"/>
            </a:b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Object 4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7560"/>
            <a:ext cx="8382240" cy="12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лообеспеченных семей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Диаграмма 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живающие с бабушками и дедушками   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Диаграмма 4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Диаграмма 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Диаграмма 5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10" name="Диаграмма 7" descr=""/>
          <p:cNvPicPr/>
          <p:nvPr/>
        </p:nvPicPr>
        <p:blipFill>
          <a:blip r:embed="rId3"/>
          <a:stretch/>
        </p:blipFill>
        <p:spPr>
          <a:xfrm>
            <a:off x="2514600" y="4495680"/>
            <a:ext cx="5029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4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3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809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стоящие на каком – либо учет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467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рганизация труда учащихся в каникулярный период </a:t>
            </a:r>
            <a:br>
              <a:rPr sz="40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1447920" y="17524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Трудоустройство – 47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E:\фотки\IMG_20170613_111703.jpg"/>
          <p:cNvPicPr/>
          <p:nvPr/>
        </p:nvPicPr>
        <p:blipFill>
          <a:blip r:embed="rId1"/>
          <a:stretch/>
        </p:blipFill>
        <p:spPr>
          <a:xfrm>
            <a:off x="685800" y="243828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6553080" y="2362320"/>
            <a:ext cx="2311560" cy="424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3"/>
          <a:stretch/>
        </p:blipFill>
        <p:spPr>
          <a:xfrm>
            <a:off x="3505320" y="2514600"/>
            <a:ext cx="28382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7-08-30T06:24:20Z</dcterms:modified>
  <cp:revision>1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