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7F8-2F91-4727-B542-38FA9994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AB4-7CE0-44CE-A407-5E0B5FE8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18D-050F-47EA-8B9B-4231AED8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7A6-E0DA-451E-AFC6-E5C1F8FA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633F-D143-4E1F-BFA0-5A702AC3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FEB8-CC28-49C9-A389-7C3A158C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AE62-994E-4FDF-9E69-077D02B7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0459-8809-48A0-B795-60129284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464E-7B7E-47D4-B13A-84CB6DFC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46F7-0251-4677-A079-7D54BF61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E7EC-F1EF-48B7-9484-BF362633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75C-2EEF-4034-BD0F-325D6BA9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9650-0381-4A67-A5E1-8F53F345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72DD-4B5A-43E0-AE40-17A60A1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A6B-D059-410C-A2DE-0D89AC7C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CD14-62BE-48A2-B609-D9D12B76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CA8C-EB3B-4C84-8948-3EE9CF9B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765C-4637-462C-9CAE-11C5871E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8AEC-457D-4115-88B6-1C54F940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4529-39BA-4AEC-A13E-B3AF7D7E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B491F-9A32-4828-BD13-8E06F205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ACAB-BD40-48C1-991A-62C3DF18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D16-3E8D-48DE-BABA-CE76C957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7503-E3E0-4518-85FE-0080564B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127E-EF3E-474B-99FB-4BA12334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AC3F0-6BA0-4FDB-9BC1-C4BE1778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BBB7-DF7F-417A-94BA-291AA417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41FA-8C90-4D7B-A5FE-8143891E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5657-0B46-4A12-9C9B-7553E99C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9ACD4-E725-4E8F-A47D-05A67815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68040-CC2E-4FAE-9FAB-7F05B2F6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86B51-9BF9-4D49-83EB-6908A480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38AE1-4C00-4306-A8CC-771DB93D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1A2-ECAB-4601-914E-9F1BE586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359F-0108-46B5-AE0B-2953F5C7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8DDD4-302C-44F5-9902-0969E6F8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C0986-0E37-422A-A40E-18F6E1AA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7857-29C1-46D5-8FBA-6A9BD04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49CFD-9924-4C94-94A7-F4AE51D2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19A8-9C98-49D0-9286-A3E4243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0C8E4-18C8-4D31-926F-DBEA8585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8BA6D-50C3-48B0-9428-8522FAA9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66F1B-B2BD-477E-BB6B-FB3D1580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CDD-56BD-480E-8754-D5B92EAA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400-DEC7-4611-8CB4-3F33C03B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006-DE03-4B6D-8767-7023696E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478-A85D-479B-BA4B-305E6BD6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B8B-A480-4F20-AF97-8C63905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0948-4DAD-4C5A-A6A2-249A6155F43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7179-359B-4BD7-B7A6-4D1BD74DE77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3696-7CE9-4B00-B0D3-6B08C140BFC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8BBA-95A4-4CFA-B813-6592FEFFAAA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«Современные здоровьесберегающие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технологии в детском саду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24000" y="5229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Воспитатель: Макарова И.А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8598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Бодрящая гимнасти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125360"/>
            <a:ext cx="403848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S Mincho"/>
              </a:rPr>
              <a:t>оказывает общеукрепляющее воздействие на организм ребенка, облегчает пробуждение после сна, стимулирует деятельность внутренних орган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Содержимое 5" descr="20170314_152250.jpg"/>
          <p:cNvPicPr/>
          <p:nvPr/>
        </p:nvPicPr>
        <p:blipFill>
          <a:blip r:embed="rId2"/>
          <a:stretch/>
        </p:blipFill>
        <p:spPr>
          <a:xfrm>
            <a:off x="4356000" y="765000"/>
            <a:ext cx="4038840" cy="27352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6" descr="20170314_152420.jpg"/>
          <p:cNvPicPr/>
          <p:nvPr/>
        </p:nvPicPr>
        <p:blipFill>
          <a:blip r:embed="rId3"/>
          <a:stretch/>
        </p:blipFill>
        <p:spPr>
          <a:xfrm>
            <a:off x="4859280" y="3573360"/>
            <a:ext cx="385308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193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тренняя гимнастика: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Содержимое 5" descr="20170315_101027.jpg"/>
          <p:cNvPicPr/>
          <p:nvPr/>
        </p:nvPicPr>
        <p:blipFill>
          <a:blip r:embed="rId2"/>
          <a:stretch/>
        </p:blipFill>
        <p:spPr>
          <a:xfrm>
            <a:off x="179280" y="184464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648320" y="1557360"/>
            <a:ext cx="40384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ствует укреплению здоровья детей и пробуждению организма для нормальной жизнедеятельност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ет координацию движений, силу и выносливос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628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cc"/>
                </a:solidFill>
                <a:latin typeface="Times New Roman"/>
              </a:rPr>
              <a:t>Спасибо за внимание!!!</a:t>
            </a: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физических дефектов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сберегающая технология -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Задачи здоровьесбережения:</a:t>
            </a:r>
            <a:r>
              <a:rPr b="0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адекватных условий для развития, обучения, оздоровления дет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доровьесберегающие технологии, используемые в нашем детском саду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Динамические пауз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Подвижные и спортивные игр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Релаксаци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пальчиков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ля глаз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ыхательн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Бодрящая гимнастик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Точечный массаж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Физкультурные занятия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Утренняя гимнастик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http://player.myshared.ru/907614/data/images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альчиковая: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пособствует овладению навыкам мелкой моторик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могает развивать реч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вышает работоспособность коры головного мозг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развивает психические способности: мышление, память, воображ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нимает тревож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Содержимое 9" descr="20170314_100608.jpg"/>
          <p:cNvPicPr/>
          <p:nvPr/>
        </p:nvPicPr>
        <p:blipFill>
          <a:blip r:embed="rId2"/>
          <a:stretch/>
        </p:blipFill>
        <p:spPr>
          <a:xfrm>
            <a:off x="324000" y="2349360"/>
            <a:ext cx="417168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http://player.myshared.ru/907614/data/images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648320" y="1125360"/>
            <a:ext cx="403848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обствуют совершенствованию деятельности основных физиологических систем организм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рвной, сердечно-сосудистой, дыхательной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учшению физического развитие детей, воспитанию морально- волевых каче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Спортивные и подвижные игры: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11" descr="20170314_101048.jpg"/>
          <p:cNvPicPr/>
          <p:nvPr/>
        </p:nvPicPr>
        <p:blipFill>
          <a:blip r:embed="rId2"/>
          <a:stretch/>
        </p:blipFill>
        <p:spPr>
          <a:xfrm>
            <a:off x="324000" y="1916280"/>
            <a:ext cx="4316400" cy="3160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ыхательная гимнастика: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341000"/>
            <a:ext cx="50767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пособствует восстановлению нормального крово - и лимфоснабж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вышает общую сопротивляемость организм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Содержимое 6" descr="20170314_100707.jpg"/>
          <p:cNvPicPr/>
          <p:nvPr/>
        </p:nvPicPr>
        <p:blipFill>
          <a:blip r:embed="rId2"/>
          <a:stretch/>
        </p:blipFill>
        <p:spPr>
          <a:xfrm>
            <a:off x="5003640" y="2451240"/>
            <a:ext cx="3899160" cy="2923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Точечный массаж и самомассаж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Содержимое 6" descr="20170314_100557.jpg"/>
          <p:cNvPicPr/>
          <p:nvPr/>
        </p:nvPicPr>
        <p:blipFill>
          <a:blip r:embed="rId2"/>
          <a:stretch/>
        </p:blipFill>
        <p:spPr>
          <a:xfrm>
            <a:off x="395280" y="1628640"/>
            <a:ext cx="4495680" cy="3372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932000" y="1700280"/>
            <a:ext cx="410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учит детей сознательно заботиться о своём здоровье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является профилактикой простудных заболева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овышает жизненный тонуса у дете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рививает им чувство ответственности за своё здоровье, уверенность в том, что они сами могут помочь себе улучшить своё самочувстви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Настя</cp:lastModifiedBy>
  <dcterms:modified xsi:type="dcterms:W3CDTF">2018-01-30T15:53:29Z</dcterms:modified>
  <cp:revision>65</cp:revision>
  <dc:subject/>
  <dc:title>Your Title Here…</dc:title>
</cp:coreProperties>
</file>