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10.jpeg" ContentType="image/jpeg"/>
  <Override PartName="/ppt/media/image40.jpeg" ContentType="image/jpeg"/>
  <Override PartName="/ppt/media/image13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22E-F7A3-405D-B947-4ED6C4C6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CBD-01D7-4DAB-B9A4-3CB76ACB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9EA-DD53-44F8-A7D5-A492367B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CB6-359C-495F-9E92-819BC8D3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8BD-B38F-4DD4-B8F8-89C5E712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CEF-A970-4BB1-B83C-C61EA0A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856-FA41-4FF2-93E7-7A0C211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DDE-02F1-4013-9BBA-6BDA7F0F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891-6E4E-4641-9C72-CBC30BA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7AF-1B20-4CF5-A958-820AA8A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01C-C8C2-4EA7-842F-A0B2CED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121-6A03-4790-84FE-2FD2A40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6BB-8B69-462B-89EF-89A842352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9;&#1072;&#1082;,_&#1070;&#1083;&#1080;&#1091;&#1096;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ru.wikipedia.org/wiki/&#1052;&#1072;&#1082;&#1086;&#1074;&#1089;&#1082;&#1080;&#1081;,_&#1050;&#1086;&#1085;&#1089;&#1090;&#1072;&#1085;&#1090;&#1080;&#1085;_&#1045;&#1075;&#1086;&#1088;&#1086;&#1074;&#1080;&#1095;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25_&#1075;&#1086;&#1076;" TargetMode="External"/><Relationship Id="rId2" Type="http://schemas.openxmlformats.org/officeDocument/2006/relationships/hyperlink" Target="http://ru.wikipedia.org/wiki/&#1055;&#1086;&#1078;&#1072;&#1088;&#1089;&#1082;&#1080;&#1081;,_&#1044;&#1084;&#1080;&#1090;&#1088;&#1080;&#1081;_&#1052;&#1080;&#1093;&#1072;&#1081;&#1083;&#1086;&#1074;&#1080;&#1095;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ru.wikipedia.org/wiki/4_&#1085;&#1086;&#1103;&#1073;&#1088;&#1103;" TargetMode="External"/><Relationship Id="rId3" Type="http://schemas.openxmlformats.org/officeDocument/2006/relationships/hyperlink" Target="http://ru.wikipedia.org/wiki/2005" TargetMode="External"/><Relationship Id="rId4" Type="http://schemas.openxmlformats.org/officeDocument/2006/relationships/hyperlink" Target="http://ru.wikipedia.org/wiki/&#1055;&#1072;&#1084;&#1103;&#1090;&#1085;&#1080;&#1082;_&#1052;&#1080;&#1085;&#1080;&#1085;&#1091;_&#1080;_&#1055;&#1086;&#1078;&#1072;&#1088;&#1089;&#1082;&#1086;&#1084;&#1091;" TargetMode="External"/><Relationship Id="rId5" Type="http://schemas.openxmlformats.org/officeDocument/2006/relationships/hyperlink" Target="http://ru.wikipedia.org/wiki/&#1062;&#1077;&#1088;&#1077;&#1090;&#1077;&#1083;&#1080;,_&#1047;&#1091;&#1088;&#1072;&#1073;_&#1050;&#1086;&#1085;&#1089;&#1090;&#1072;&#1085;&#1090;&#1080;&#1085;&#1086;&#1074;&#1080;&#1095;" TargetMode="External"/><Relationship Id="rId6" Type="http://schemas.openxmlformats.org/officeDocument/2006/relationships/hyperlink" Target="http://ru.wikipedia.org/wiki/&#1053;&#1080;&#1078;&#1077;&#1075;&#1086;&#1088;&#1086;&#1076;&#1089;&#1082;&#1080;&#1081;_&#1082;&#1088;&#1077;&#1084;&#1083;&#1100;" TargetMode="External"/><Relationship Id="rId7" Type="http://schemas.openxmlformats.org/officeDocument/2006/relationships/hyperlink" Target="http://ru.wikipedia.org/wiki/1611_&#1075;&#1086;&#1076;" TargetMode="External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ia.ru/society/20081104/154357573.html" TargetMode="External"/><Relationship Id="rId2" Type="http://schemas.openxmlformats.org/officeDocument/2006/relationships/hyperlink" Target="http://www.google.ru/url?sa=i&amp;rct=j&amp;q=&amp;esrc=s&amp;source=images&amp;cd=&amp;cad=rja&amp;docid=5U14f4x1zQjdTM&amp;tbnid=-qGTU-K5jn4ENM:&amp;ved=0CAQQjB0&amp;url=http://encyclopedia.mil.ru/encyclopedia/history/more.htm?id=11438300@cmsArticle&amp;ei=e91fUp-DOqiA4gSS0IGICQ&amp;bvm=bv.54176721,d.bGE&amp;psig=AFQjCNE8lFBwZ2s-x5NmQbOYcabE8bL9mg&amp;ust=1382100492997367" TargetMode="External"/><Relationship Id="rId3" Type="http://schemas.openxmlformats.org/officeDocument/2006/relationships/hyperlink" Target="http://encyclopedia.mil.ru/encyclopedia/history/more.htm?id=11438300@cmsArticle" TargetMode="External"/><Relationship Id="rId4" Type="http://schemas.openxmlformats.org/officeDocument/2006/relationships/hyperlink" Target="http://www.rodgaz.ru/index.php?action=Articles&amp;dirid=79&amp;issue=351&amp;tek=24414" TargetMode="External"/><Relationship Id="rId5" Type="http://schemas.openxmlformats.org/officeDocument/2006/relationships/hyperlink" Target="http://www.google.ru/url?sa=i&amp;rct=j&amp;q=&amp;esrc=s&amp;source=images&amp;cd=&amp;docid=M4zO2YdlUR4qLM&amp;tbnid=FBkhIQaxI7sRMM:&amp;ved=0CAQQjB0&amp;url=http://www.kazaki-narod.ru/istoriya-kazachestva/rol-kazakov-v-izbranii-na-tsarstvo-mihaila-fedorovicha-romanova-k-400-letiyu-do&amp;ei=k91fUv-VDKGB4gTHioD4CQ&amp;bvm=bv.54176721,d.bGE&amp;psig=AFQjCNE8lFBwZ2s-x5NmQbOYcabE8bL9mg&amp;ust=1382100492997367" TargetMode="External"/><Relationship Id="rId6" Type="http://schemas.openxmlformats.org/officeDocument/2006/relationships/hyperlink" Target="http://pro100-mica.livejournal.com/63696.html" TargetMode="External"/><Relationship Id="rId7" Type="http://schemas.openxmlformats.org/officeDocument/2006/relationships/hyperlink" Target="http://pro100-mica.livejournal.com/63696.html" TargetMode="External"/><Relationship Id="rId8" Type="http://schemas.openxmlformats.org/officeDocument/2006/relationships/hyperlink" Target="http://pro100-mica.livejournal.com/63696.html" TargetMode="External"/><Relationship Id="rId9" Type="http://schemas.openxmlformats.org/officeDocument/2006/relationships/hyperlink" Target="http://pro100-mica.livejournal.com/63696.html" TargetMode="External"/><Relationship Id="rId10" Type="http://schemas.openxmlformats.org/officeDocument/2006/relationships/hyperlink" Target="http://pro100-mica.livejournal.com/63696.html" TargetMode="External"/><Relationship Id="rId11" Type="http://schemas.openxmlformats.org/officeDocument/2006/relationships/hyperlink" Target="http://pro100-mica.livejournal.com/63696.html" TargetMode="External"/><Relationship Id="rId12" Type="http://schemas.openxmlformats.org/officeDocument/2006/relationships/hyperlink" Target="http://pro100-mica.livejournal.com/63696.html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8;&#1077;&#1097;&#1072;&#1075;&#1080;&#1085;,_&#1042;&#1072;&#1089;&#1080;&#1083;&#1080;&#1081;_&#1055;&#1077;&#1090;&#1088;&#1086;&#1074;&#1080;&#1095;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hrono.ru/img/karty/1608troica.gif"/>
          <p:cNvPicPr/>
          <p:nvPr/>
        </p:nvPicPr>
        <p:blipFill>
          <a:blip r:embed="rId1"/>
          <a:stretch/>
        </p:blipFill>
        <p:spPr>
          <a:xfrm>
            <a:off x="7858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423800" y="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ада Смоленска 1609-16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572000" y="5084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льское войс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ада Смоленска». Картина художник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Ю. Косса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ередин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img1.liveinternet.ru/images/attach/c/4/79/696/79696535_large_795555_Oborona_TroiceCergievoi_lavri_Sergei_Miloradovich.jpg"/>
          <p:cNvPicPr/>
          <p:nvPr/>
        </p:nvPicPr>
        <p:blipFill>
          <a:blip r:embed="rId3"/>
          <a:stretch/>
        </p:blipFill>
        <p:spPr>
          <a:xfrm>
            <a:off x="684360" y="976320"/>
            <a:ext cx="799128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5072040" y="571680"/>
            <a:ext cx="3780000" cy="520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рт  16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…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всё угрожало неизбежной погибелью земле Русской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img1.liveinternet.ru/images/attach/c/1/50/719/50719979_v6_24.jpg"/>
          <p:cNvPicPr/>
          <p:nvPr/>
        </p:nvPicPr>
        <p:blipFill>
          <a:blip r:embed="rId1"/>
          <a:stretch/>
        </p:blipFill>
        <p:spPr>
          <a:xfrm>
            <a:off x="468360" y="1413000"/>
            <a:ext cx="79930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ile:Appeal of Minin.jpg"/>
          <p:cNvPicPr/>
          <p:nvPr/>
        </p:nvPicPr>
        <p:blipFill>
          <a:blip r:embed="rId1"/>
          <a:stretch/>
        </p:blipFill>
        <p:spPr>
          <a:xfrm>
            <a:off x="115920" y="260280"/>
            <a:ext cx="4970520" cy="5848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344520" y="623736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. Е. Маков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Воззвание Мин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encyclopedia.mil.ru/files/morf/iv_1612_07_1611-smuta2_s.jpg"/>
          <p:cNvPicPr/>
          <p:nvPr/>
        </p:nvPicPr>
        <p:blipFill>
          <a:blip r:embed="rId3"/>
          <a:stretch/>
        </p:blipFill>
        <p:spPr>
          <a:xfrm>
            <a:off x="5796000" y="3933720"/>
            <a:ext cx="2997000" cy="2435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9"/>
          <p:cNvSpPr/>
          <p:nvPr/>
        </p:nvSpPr>
        <p:spPr>
          <a:xfrm>
            <a:off x="4352760" y="62946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А.Д. Кившен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оззвание Кузьмы Минина к нижегородцам. 161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pics.livejournal.com/pro100_mica/pic/00b3hq3c"/>
          <p:cNvPicPr/>
          <p:nvPr/>
        </p:nvPicPr>
        <p:blipFill>
          <a:blip r:embed="rId4"/>
          <a:stretch/>
        </p:blipFill>
        <p:spPr>
          <a:xfrm>
            <a:off x="5389560" y="76320"/>
            <a:ext cx="31748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68436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льной князь Пожарский принимает посланцев Москв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льгельм КОТАРБ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pics.livejournal.com/pro100_mica/pic/00b3dda3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&amp;Ncy;&amp;ncy;58&amp;Icy;&amp;scy;&amp;tcy;&amp;ocy;&amp;kcy;&amp;icy;&amp;Pcy;&amp;ucy;&amp;tcy;&amp;softcy; &amp;Ncy;&amp;icy;&amp;zhcy;&amp;iecy;&amp;gcy;&amp;ocy;&amp;rcy;&amp;ocy;&amp;dcy;&amp;scy;&amp;kcy;&amp;ocy;&amp;gcy;&amp;ocy; &amp;ocy;&amp;pcy;&amp;ocy;&amp;lcy;&amp;chcy;&amp;iecy;&amp;ncy;&amp;icy;&amp;yacy;.JPG"/>
          <p:cNvPicPr/>
          <p:nvPr/>
        </p:nvPicPr>
        <p:blipFill>
          <a:blip r:embed="rId1"/>
          <a:stretch/>
        </p:blipFill>
        <p:spPr>
          <a:xfrm>
            <a:off x="755640" y="257040"/>
            <a:ext cx="7848720" cy="619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50920" y="115920"/>
            <a:ext cx="3490920" cy="5205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e1e8f5">
                  <a:alpha val="3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 ноября 16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img1.liveinternet.ru/images/attach/c/1/50/719/50719979_v6_24.jpg"/>
          <p:cNvPicPr/>
          <p:nvPr/>
        </p:nvPicPr>
        <p:blipFill>
          <a:blip r:embed="rId1"/>
          <a:stretch/>
        </p:blipFill>
        <p:spPr>
          <a:xfrm>
            <a:off x="108000" y="692280"/>
            <a:ext cx="8856720" cy="604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pics.livejournal.com/pro100_mica/pic/00b4hf8w"/>
          <p:cNvPicPr/>
          <p:nvPr/>
        </p:nvPicPr>
        <p:blipFill>
          <a:blip r:embed="rId1"/>
          <a:stretch/>
        </p:blipFill>
        <p:spPr>
          <a:xfrm>
            <a:off x="539640" y="260280"/>
            <a:ext cx="8234640" cy="5553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332000" y="621180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н и Пожарский у стен московского кремл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й КАШТ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42920" y="628668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Изгнание поляков из Кремля  Эрнст ЛИССНЕР   16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71680" y="357120"/>
            <a:ext cx="83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нь всенародного торж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pics.livejournal.com/pro100_mica/pic/00asha6c"/>
          <p:cNvPicPr/>
          <p:nvPr/>
        </p:nvPicPr>
        <p:blipFill>
          <a:blip r:embed="rId1"/>
          <a:stretch/>
        </p:blipFill>
        <p:spPr>
          <a:xfrm>
            <a:off x="571680" y="1201680"/>
            <a:ext cx="6970680" cy="489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826920" y="5732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гнание поляков из Москвы 1612 г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ГОРЕЛ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pics.livejournal.com/pro100_mica/pic/00b828g0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426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s017.radikal.ru/i403/1111/97/aa69d67fed25.jpg"/>
          <p:cNvPicPr/>
          <p:nvPr/>
        </p:nvPicPr>
        <p:blipFill>
          <a:blip r:embed="rId1"/>
          <a:stretch/>
        </p:blipFill>
        <p:spPr>
          <a:xfrm>
            <a:off x="4572000" y="1484280"/>
            <a:ext cx="3598920" cy="504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http://s017.radikal.ru/i424/1111/c0/726cd798c2e2.jpg"/>
          <p:cNvPicPr/>
          <p:nvPr/>
        </p:nvPicPr>
        <p:blipFill>
          <a:blip r:embed="rId2"/>
          <a:stretch/>
        </p:blipFill>
        <p:spPr>
          <a:xfrm>
            <a:off x="395280" y="549360"/>
            <a:ext cx="3600360" cy="515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357120" y="50133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бор Казанской иконы Божией матери. Первое упоминание Казанской церкви на Никольской улице относится к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625 год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— деревянная церковь, возведённая на средства княз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митрия Пожарск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6"/>
          <p:cNvGrpSpPr/>
          <p:nvPr/>
        </p:nvGrpSpPr>
        <p:grpSpPr>
          <a:xfrm>
            <a:off x="6300720" y="0"/>
            <a:ext cx="2592360" cy="6858000"/>
            <a:chOff x="6300720" y="0"/>
            <a:chExt cx="2592360" cy="6858000"/>
          </a:xfrm>
        </p:grpSpPr>
        <p:pic>
          <p:nvPicPr>
            <p:cNvPr id="101" name="Picture 3" descr="C:\Documents and Settings\User\Рабочий стол\Презентация1.jpg"/>
            <p:cNvPicPr/>
            <p:nvPr/>
          </p:nvPicPr>
          <p:blipFill>
            <a:blip r:embed="rId3"/>
            <a:stretch/>
          </p:blipFill>
          <p:spPr>
            <a:xfrm>
              <a:off x="8516160" y="0"/>
              <a:ext cx="3535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0" descr="C:\Documents and Settings\User\Рабочий стол\russia-map.png"/>
            <p:cNvPicPr/>
            <p:nvPr/>
          </p:nvPicPr>
          <p:blipFill>
            <a:blip r:embed="rId4"/>
            <a:stretch/>
          </p:blipFill>
          <p:spPr>
            <a:xfrm>
              <a:off x="6300720" y="18000"/>
              <a:ext cx="239292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C:\Documents and Settings\User\Рабочий стол\Narod_43.png"/>
            <p:cNvPicPr/>
            <p:nvPr/>
          </p:nvPicPr>
          <p:blipFill>
            <a:blip r:embed="rId5"/>
            <a:stretch/>
          </p:blipFill>
          <p:spPr>
            <a:xfrm>
              <a:off x="7741080" y="420480"/>
              <a:ext cx="1152000" cy="114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" descr="File:Kazan Cathedral in Red Square.jpg"/>
          <p:cNvPicPr/>
          <p:nvPr/>
        </p:nvPicPr>
        <p:blipFill>
          <a:blip r:embed="rId6"/>
          <a:stretch/>
        </p:blipFill>
        <p:spPr>
          <a:xfrm>
            <a:off x="318960" y="566640"/>
            <a:ext cx="5940720" cy="396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upload.wikimedia.org/wikipedia/ru/thumb/9/96/Snos_Kazan_Sobor.jpg/220px-Snos_Kazan_Sobor.jpg"/>
          <p:cNvPicPr/>
          <p:nvPr/>
        </p:nvPicPr>
        <p:blipFill>
          <a:blip r:embed="rId7"/>
          <a:stretch/>
        </p:blipFill>
        <p:spPr>
          <a:xfrm>
            <a:off x="6375240" y="4005360"/>
            <a:ext cx="2095560" cy="2543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passion-don.org/history-2/images/9_aleksei.jpg"/>
          <p:cNvPicPr/>
          <p:nvPr/>
        </p:nvPicPr>
        <p:blipFill>
          <a:blip r:embed="rId1"/>
          <a:stretch/>
        </p:blipFill>
        <p:spPr>
          <a:xfrm>
            <a:off x="6662880" y="401760"/>
            <a:ext cx="2084400" cy="3043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6933960" y="3429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45-1676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5940360" y="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арь Алексей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24000" y="981000"/>
            <a:ext cx="57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В память избавления Москвы и России от поляков в 1612 г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179280" y="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4 нояб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4724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ень народного единства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005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395280" y="2133720"/>
            <a:ext cx="66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зд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занской иконы Божией Мат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(1649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&amp;Vcy;&amp;lcy;&amp;acy;&amp;dcy;&amp;icy;&amp;mcy;&amp;icy;&amp;rcy; &amp;Vcy;&amp;lcy;&amp;acy;&amp;dcy;&amp;icy;&amp;mcy;&amp;icy;&amp;rcy;&amp;ocy;&amp;vcy;&amp;icy;&amp;chcy; &amp;Pcy;&amp;ucy;&amp;tcy;&amp;icy;&amp;ncy;"/>
          <p:cNvPicPr/>
          <p:nvPr/>
        </p:nvPicPr>
        <p:blipFill>
          <a:blip r:embed="rId2"/>
          <a:stretch/>
        </p:blipFill>
        <p:spPr>
          <a:xfrm>
            <a:off x="6732720" y="4084560"/>
            <a:ext cx="164124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1" descr=""/>
          <p:cNvPicPr/>
          <p:nvPr/>
        </p:nvPicPr>
        <p:blipFill>
          <a:blip r:embed="rId1">
            <a:lum contrast="30000"/>
          </a:blip>
          <a:srcRect l="-2946" t="-7480" r="-3282" b="-22375"/>
          <a:stretch/>
        </p:blipFill>
        <p:spPr>
          <a:xfrm>
            <a:off x="2627280" y="189000"/>
            <a:ext cx="6300720" cy="285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0_1568c_efc9a0a6_XL"/>
          <p:cNvPicPr/>
          <p:nvPr/>
        </p:nvPicPr>
        <p:blipFill>
          <a:blip r:embed="rId2"/>
          <a:stretch/>
        </p:blipFill>
        <p:spPr>
          <a:xfrm>
            <a:off x="395280" y="2565360"/>
            <a:ext cx="554508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vidania.ru/photomoscow/moscow_640x480_1067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NNov"/>
          <p:cNvPicPr/>
          <p:nvPr/>
        </p:nvPicPr>
        <p:blipFill>
          <a:blip r:embed="rId2"/>
          <a:stretch/>
        </p:blipFill>
        <p:spPr>
          <a:xfrm>
            <a:off x="4859280" y="4437000"/>
            <a:ext cx="428472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mankindheritage.ru/wp-content/uploads/2009/10/750px-Monument_Minin_and_Pozharsky_in_NN1.jpg"/>
          <p:cNvPicPr/>
          <p:nvPr/>
        </p:nvPicPr>
        <p:blipFill>
          <a:blip r:embed="rId1"/>
          <a:stretch/>
        </p:blipFill>
        <p:spPr>
          <a:xfrm>
            <a:off x="-7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611280" y="4653000"/>
            <a:ext cx="767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4 ноября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005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 в Нижнем Новгороде открыт памятник Минину и Пожарскому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[4]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 работ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Зураба Церетели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 — уменьшенная (на 5 см) копия московского памятника. Он установлен под стенам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Нижегородского кремля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, около церкви Рождества Иоанна Предтечи. По заключению историков и экспертов, 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611 году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 Кузьма Минин именно с паперти этой церкви призывал нижегородцев собрать и экипировать народное ополчение на защиту Москвы от поля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C:\Documents and Settings\User\Рабочий стол\russia-map.png"/>
          <p:cNvPicPr/>
          <p:nvPr/>
        </p:nvPicPr>
        <p:blipFill>
          <a:blip r:embed="rId8"/>
          <a:stretch/>
        </p:blipFill>
        <p:spPr>
          <a:xfrm>
            <a:off x="6751800" y="142920"/>
            <a:ext cx="2392200" cy="1112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User\Рабочий стол\Narod_43.png"/>
          <p:cNvPicPr/>
          <p:nvPr/>
        </p:nvPicPr>
        <p:blipFill>
          <a:blip r:embed="rId9"/>
          <a:stretch/>
        </p:blipFill>
        <p:spPr>
          <a:xfrm>
            <a:off x="7786800" y="18572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User\Рабочий стол\Презентация1.jpg"/>
          <p:cNvPicPr/>
          <p:nvPr/>
        </p:nvPicPr>
        <p:blipFill>
          <a:blip r:embed="rId1"/>
          <a:stretch/>
        </p:blipFill>
        <p:spPr>
          <a:xfrm>
            <a:off x="8515440" y="-19080"/>
            <a:ext cx="353880" cy="6896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User\Рабочий стол\russia-map.png"/>
          <p:cNvPicPr/>
          <p:nvPr/>
        </p:nvPicPr>
        <p:blipFill>
          <a:blip r:embed="rId2"/>
          <a:stretch/>
        </p:blipFill>
        <p:spPr>
          <a:xfrm>
            <a:off x="5219640" y="0"/>
            <a:ext cx="3619440" cy="1682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187280" y="234936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народного еди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395280" y="90792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азанской иконы Божией  Матер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39640" y="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</a:rPr>
              <a:t>4 ноябр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987640" y="40053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 память избавления Москвы и России от поляков в 1612 году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5589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Возрождённый празд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684360" y="47628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39640" y="1268280"/>
            <a:ext cx="64328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А Новост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ia.ru/society/20081104/154357573.html#ixzz2hnv23Mj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encyclopedia.m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encyclopedia.mil.ru/encyclopedia/history/more.htm?id=11438300@cms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http://www.rodgaz.ru/index.php?action=Articles&amp;dirid=79&amp;issue=351&amp;tek=244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kazaki-narod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famouspeople.ucoz.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/news/4_nojabrja_1612_goda_osvobozhdenie_moskvy_ot_poljak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pr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100-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mic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.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livejour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369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vokrugsvet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-design.livejourna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ti-globa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mega-art08.ru/index3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3059280" y="54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е подготовила старшая вожатая Занина Еле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62560" y="189000"/>
            <a:ext cx="32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мутно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вре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(1598– 1613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к-6"/>
          <p:cNvPicPr/>
          <p:nvPr/>
        </p:nvPicPr>
        <p:blipFill>
          <a:blip r:embed="rId1"/>
          <a:stretch/>
        </p:blipFill>
        <p:spPr>
          <a:xfrm>
            <a:off x="179280" y="3645000"/>
            <a:ext cx="2376720" cy="284940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20"/>
          <p:cNvGrpSpPr/>
          <p:nvPr/>
        </p:nvGrpSpPr>
        <p:grpSpPr>
          <a:xfrm>
            <a:off x="2268360" y="1557360"/>
            <a:ext cx="4607280" cy="1871640"/>
            <a:chOff x="2268360" y="1557360"/>
            <a:chExt cx="4607280" cy="1871640"/>
          </a:xfrm>
        </p:grpSpPr>
        <p:pic>
          <p:nvPicPr>
            <p:cNvPr id="49" name="Рисунок 5" descr="к-4"/>
            <p:cNvPicPr/>
            <p:nvPr/>
          </p:nvPicPr>
          <p:blipFill>
            <a:blip r:embed="rId2"/>
            <a:stretch/>
          </p:blipFill>
          <p:spPr>
            <a:xfrm>
              <a:off x="2268360" y="1557360"/>
              <a:ext cx="1458000" cy="1871640"/>
            </a:xfrm>
            <a:prstGeom prst="rect">
              <a:avLst/>
            </a:prstGeom>
            <a:ln w="38160">
              <a:solidFill>
                <a:srgbClr val="993300"/>
              </a:solidFill>
              <a:miter/>
            </a:ln>
          </p:spPr>
        </p:pic>
        <p:sp>
          <p:nvSpPr>
            <p:cNvPr id="50" name="TextBox 14"/>
            <p:cNvSpPr/>
            <p:nvPr/>
          </p:nvSpPr>
          <p:spPr>
            <a:xfrm>
              <a:off x="3835080" y="2025000"/>
              <a:ext cx="304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Лжедмитрий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(июнь1605-май 1606гг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23"/>
          <p:cNvGrpSpPr/>
          <p:nvPr/>
        </p:nvGrpSpPr>
        <p:grpSpPr>
          <a:xfrm>
            <a:off x="3924360" y="2781360"/>
            <a:ext cx="4932360" cy="1814400"/>
            <a:chOff x="3924360" y="2781360"/>
            <a:chExt cx="4932360" cy="1814400"/>
          </a:xfrm>
        </p:grpSpPr>
        <p:pic>
          <p:nvPicPr>
            <p:cNvPr id="52" name="Picture 4" descr="&amp;Vcy;&amp;acy;&amp;scy;&amp;icy;&amp;lcy;&amp;icy;&amp;jcy; &amp;Icy;&amp;vcy;&amp;acy;&amp;ncy;&amp;ocy;&amp;vcy;&amp;icy;&amp;chcy; &amp;SHcy;&amp;ucy;&amp;jcy;&amp;scy;&amp;kcy;&amp;icy;&amp;jcy;"/>
            <p:cNvPicPr/>
            <p:nvPr/>
          </p:nvPicPr>
          <p:blipFill>
            <a:blip r:embed="rId3"/>
            <a:stretch/>
          </p:blipFill>
          <p:spPr>
            <a:xfrm>
              <a:off x="3924360" y="2781360"/>
              <a:ext cx="152568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21"/>
            <p:cNvSpPr/>
            <p:nvPr/>
          </p:nvSpPr>
          <p:spPr>
            <a:xfrm>
              <a:off x="5616000" y="3357360"/>
              <a:ext cx="32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Василий Шуйский (май1606-июль1607гг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24"/>
          <p:cNvGrpSpPr/>
          <p:nvPr/>
        </p:nvGrpSpPr>
        <p:grpSpPr>
          <a:xfrm>
            <a:off x="5867280" y="4221000"/>
            <a:ext cx="3025800" cy="2360160"/>
            <a:chOff x="5867280" y="4221000"/>
            <a:chExt cx="3025800" cy="2360160"/>
          </a:xfrm>
        </p:grpSpPr>
        <p:sp>
          <p:nvSpPr>
            <p:cNvPr id="55" name="TextBox 22"/>
            <p:cNvSpPr/>
            <p:nvPr/>
          </p:nvSpPr>
          <p:spPr>
            <a:xfrm>
              <a:off x="6587640" y="5877360"/>
              <a:ext cx="230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Семибоярщи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(1610-1613 гг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6" descr="http://www.tinlib.ru/istorija/tainy_smutnyh_yepoh/any2fbimgloader15.jpeg"/>
            <p:cNvPicPr/>
            <p:nvPr/>
          </p:nvPicPr>
          <p:blipFill>
            <a:blip r:embed="rId4"/>
            <a:stretch/>
          </p:blipFill>
          <p:spPr>
            <a:xfrm>
              <a:off x="5867280" y="4221000"/>
              <a:ext cx="2673720" cy="17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25"/>
          <p:cNvGrpSpPr/>
          <p:nvPr/>
        </p:nvGrpSpPr>
        <p:grpSpPr>
          <a:xfrm>
            <a:off x="250920" y="549360"/>
            <a:ext cx="5243400" cy="2179440"/>
            <a:chOff x="250920" y="549360"/>
            <a:chExt cx="5243400" cy="2179440"/>
          </a:xfrm>
        </p:grpSpPr>
        <p:sp>
          <p:nvSpPr>
            <p:cNvPr id="58" name="TextBox 13"/>
            <p:cNvSpPr/>
            <p:nvPr/>
          </p:nvSpPr>
          <p:spPr>
            <a:xfrm>
              <a:off x="2051280" y="621360"/>
              <a:ext cx="34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Борис Годунов (1598-1605гг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" descr="http://www.ros-istor.ru/system/files/godunov.jpg"/>
            <p:cNvPicPr/>
            <p:nvPr/>
          </p:nvPicPr>
          <p:blipFill>
            <a:blip r:embed="rId5"/>
            <a:stretch/>
          </p:blipFill>
          <p:spPr>
            <a:xfrm>
              <a:off x="250920" y="549360"/>
              <a:ext cx="1836000" cy="21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558720" y="5883120"/>
            <a:ext cx="53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бийство Фёдора Годунова. Картина К. Е. Маковского (186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&amp;Scy;&amp;mcy;&amp;ucy;&amp;tcy;&amp;ncy;&amp;ocy;&amp;iecy; &amp;vcy;&amp;rcy;&amp;iecy;&amp;mcy;&amp;yacy;"/>
          <p:cNvPicPr/>
          <p:nvPr/>
        </p:nvPicPr>
        <p:blipFill>
          <a:blip r:embed="rId1"/>
          <a:stretch/>
        </p:blipFill>
        <p:spPr>
          <a:xfrm rot="21199200">
            <a:off x="5169960" y="2650680"/>
            <a:ext cx="375300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1287360" y="6840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оярские заговоры и интри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File:Makovsky False Dmitrys agents murdering Feodor Godunov and his mother 1862.jpg"/>
          <p:cNvPicPr/>
          <p:nvPr/>
        </p:nvPicPr>
        <p:blipFill>
          <a:blip r:embed="rId2"/>
          <a:stretch/>
        </p:blipFill>
        <p:spPr>
          <a:xfrm>
            <a:off x="558720" y="692280"/>
            <a:ext cx="4386240" cy="516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ile:Golod.jpg"/>
          <p:cNvPicPr/>
          <p:nvPr/>
        </p:nvPicPr>
        <p:blipFill>
          <a:blip r:embed="rId1"/>
          <a:stretch/>
        </p:blipFill>
        <p:spPr>
          <a:xfrm>
            <a:off x="755640" y="1125360"/>
            <a:ext cx="7610400" cy="4680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270800" y="3333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ликий голод в Москве 1601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597240" y="333360"/>
            <a:ext cx="77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силие казачьих, польских, разбойничьих б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ww.artlib.ru/objects/gallery_148/artlib_gallery-74431-b.jpg"/>
          <p:cNvPicPr/>
          <p:nvPr/>
        </p:nvPicPr>
        <p:blipFill>
          <a:blip r:embed="rId1"/>
          <a:stretch/>
        </p:blipFill>
        <p:spPr>
          <a:xfrm>
            <a:off x="755640" y="2162160"/>
            <a:ext cx="678672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&amp;Scy;. &amp;Icy;&amp;vcy;&amp;acy;&amp;ncy;&amp;ocy;&amp;vcy;&amp;acy; &quot;&amp;Scy;&amp;mcy;&amp;ucy;&amp;tcy;&amp;ncy;&amp;ocy;&amp;iecy; &amp;vcy;&amp;rcy;&amp;iecy;&amp;mcy;&amp;yacy;&quot;"/>
          <p:cNvPicPr/>
          <p:nvPr/>
        </p:nvPicPr>
        <p:blipFill>
          <a:blip r:embed="rId1"/>
          <a:stretch/>
        </p:blipFill>
        <p:spPr>
          <a:xfrm>
            <a:off x="324000" y="476280"/>
            <a:ext cx="82152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оле 6"/>
          <p:cNvSpPr/>
          <p:nvPr/>
        </p:nvSpPr>
        <p:spPr>
          <a:xfrm>
            <a:off x="357120" y="6215040"/>
            <a:ext cx="73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ьская шляхта на русской земле. Ю. Кашт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к-1"/>
          <p:cNvPicPr/>
          <p:nvPr/>
        </p:nvPicPr>
        <p:blipFill>
          <a:blip r:embed="rId1"/>
          <a:stretch/>
        </p:blipFill>
        <p:spPr>
          <a:xfrm>
            <a:off x="357120" y="692280"/>
            <a:ext cx="7358040" cy="5113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566640" y="0"/>
            <a:ext cx="78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ада Троице-Сергиевой лавры(1608-16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547640" y="6237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силий Верещаги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«Осада Троице-Сергиевой лав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с вырезом 5"/>
          <p:cNvSpPr/>
          <p:nvPr/>
        </p:nvSpPr>
        <p:spPr>
          <a:xfrm>
            <a:off x="7885080" y="189000"/>
            <a:ext cx="647640" cy="431640"/>
          </a:xfrm>
          <a:custGeom>
            <a:avLst/>
            <a:gdLst>
              <a:gd name="textAreaLeft" fmla="*/ 108000 w 647640"/>
              <a:gd name="textAreaRight" fmla="*/ 540000 w 647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00" y="5400"/>
                </a:ln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14400" y="16200"/>
                </a:lnTo>
                <a:lnTo>
                  <a:pt x="0" y="16200"/>
                </a:lnTo>
                <a:lnTo>
                  <a:pt x="36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ile:AssedioMonasteroSanSergio.jpg"/>
          <p:cNvPicPr/>
          <p:nvPr/>
        </p:nvPicPr>
        <p:blipFill>
          <a:blip r:embed="rId2"/>
          <a:stretch/>
        </p:blipFill>
        <p:spPr>
          <a:xfrm>
            <a:off x="533520" y="1125360"/>
            <a:ext cx="77104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9:35:41Z</dcterms:created>
  <dc:creator>User</dc:creator>
  <dc:description/>
  <dc:language>en-US</dc:language>
  <cp:lastModifiedBy>sch18</cp:lastModifiedBy>
  <dcterms:modified xsi:type="dcterms:W3CDTF">2018-01-30T12:05:25Z</dcterms:modified>
  <cp:revision>134</cp:revision>
  <dc:subject/>
  <dc:title>Слайд 1</dc:title>
</cp:coreProperties>
</file>