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B92-75CA-4AB7-B0F2-B3685F81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387-4023-42F5-BC02-D72FED0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976-3B47-4C12-86F4-A208AD7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786-90CE-4AE5-9F7B-91C858C5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A05D-60E9-4BEF-BC8D-1EEEE6F9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6B60-9493-44DF-8B2C-041F68CC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FB9A-BC8C-459E-9FB4-AB54E30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2CE-A96F-449B-AD1B-6E91DB9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767-E055-47F2-A2C0-6C57767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62F-7BB5-4B98-9A4B-2A40815E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D9E-6076-4C1A-BB91-D1A552C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660-8EED-4FF8-9395-14FDE616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88C-C7E2-4123-A2E6-F678AD3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008-C26E-4FAF-9D81-9140817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21C-4D7A-434E-A1A8-1563664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9BC-2E8D-4824-B4AF-1ED1A51E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E91D-0E7B-446C-B124-B799B39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A4E-6BBC-42A5-85AF-6F4C999A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6A9-6401-4C4F-BCAA-6B6F60B0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413-040A-4EDB-B286-E760F456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1EB-8EC7-4FE9-ADDF-28E08122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C21-0E57-4EDA-BA84-038B29D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807-7F94-4E4D-AF4F-2423E1C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EAA-E6A6-4B4A-810B-CA22A2E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363E-4361-4AD3-BC16-C4DFD347ED6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2E6-3602-41BC-AA7E-94B70417938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ои социальные роли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в школе и дома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733920" y="510552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дготовила: Воронина Алена, ученица 7 класса Октябрьской СО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ВАЯ МОЯ СОЦИАЛЬНАЯ РОЛЬ –Я ЧЕЛОВЕК И НЕСУ ОТВЕТСТВЕНОСТЬ ЗА ПРИРОДУ  И ЗА БРАТЬЕВ И СЕСТЕР НАШИХ МЛАДШИХ(ЖИВОТНЫХ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 rot="359400">
            <a:off x="7324560" y="4876920"/>
            <a:ext cx="1819440" cy="1668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484960" y="4227480"/>
            <a:ext cx="36590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Я старшая сестра 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аршая сестра это очень ответствествено ! Ты должен не только следить за ней, но и не подавать дурной пример. так же надо уважать и не оскорблять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4303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ружб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руг-ведь это  тоже ответственность !надо довать совет,попровлять его когда он не прав.и заступиться если что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971800" cy="2400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3124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дноклассниц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ы всегда должен предложить помощь. И главное не отказать в ней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rot="20325000">
            <a:off x="4343040" y="22824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 rot="20984400">
            <a:off x="426708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 rot="1017000">
            <a:off x="5334120" y="190476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ч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583200">
            <a:off x="4965480" y="228240"/>
            <a:ext cx="2914560" cy="4038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любой ситуации ты должен поддержать своих (маму и папу)предложить им свою помощь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6165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8-01-30T17:06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