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D788-D878-4080-BB7E-FE6F1CDBC4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C8D5-F20D-4AA1-978D-4794B1AE9D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B310B-901C-404D-9FA8-26AC40331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6A420-0D90-4043-9072-7C2A0625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4449B-A809-4E56-BD49-BAED51887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F138-104B-4A38-B483-800F4EA19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3E42-085D-482E-AD65-0960BC44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0892-6212-4D9D-8BCC-565DBFBA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57A7-F5C1-42AD-B1D2-C03B4A2A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EF60-980A-46AF-B9A2-0F724C30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91C2-97B0-463C-A1CC-094613E4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43CB-7810-461A-BF6E-8FF7C76D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E8DF-F653-408A-B51E-91E7A1A1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AE5A-8EE2-40DB-AF57-F43026FEF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FBBE-A3C4-4870-A9F4-DCFAAA5A9B6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edsovet.su/"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ЕПИСТИНИЯ ФЕДОРОВНА СТЕПАНОВА </a:t>
            </a:r>
            <a:br>
              <a:rPr sz="4400"/>
            </a:br>
            <a:r>
              <a:rPr b="0" lang="ru-RU" sz="4400" spc="-1" strike="noStrike">
                <a:solidFill>
                  <a:srgbClr val="000000"/>
                </a:solidFill>
                <a:latin typeface="Times New Roman"/>
              </a:rPr>
              <a:t>(1874 — 1969)</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зентация учителя МБОУ СО школы п.Уральский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убановой Ю.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Филипп Михайлович Степанов (1910 – 1945)</a:t>
            </a:r>
            <a:br>
              <a:rPr sz="4400"/>
            </a:br>
            <a:endParaRPr b="0" lang="en-US" sz="4400" spc="-1" strike="noStrike">
              <a:solidFill>
                <a:srgbClr val="000000"/>
              </a:solidFill>
              <a:latin typeface="Times New Roman"/>
            </a:endParaRPr>
          </a:p>
        </p:txBody>
      </p:sp>
      <p:sp>
        <p:nvSpPr>
          <p:cNvPr id="67" name=""/>
          <p:cNvSpPr txBox="1"/>
          <p:nvPr/>
        </p:nvSpPr>
        <p:spPr>
          <a:xfrm>
            <a:off x="4427280" y="1600200"/>
            <a:ext cx="4537080" cy="452592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ядовой Филипп Степанов воевал в 699-м стрелковом полку, в первой пулеметной роте. Свой последний бой с фашистами он принял в районе Харькова. В апреле 1943 года, будучи тяжело раненым, был пленен. Чуть оправился – бежал из концлагеря. Гитлеровцы его схватили, зверски избили и отправили в глубь Германии.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Уже после победы Епистиния Федоровна узнала о последнем часе своего сына. Исполком Общества Красного Креста и Красного Полумесяца СССР прислал ей из Москвы официальный документ. «По имеющимся сведениям, - говорилось в нем, - гр. Степанов Филипп Михайлович… умер 10 февраля 1945 года в Германии, в лагере № 326…» Гитлеровцы замучили советского солдата.</a:t>
            </a:r>
            <a:endParaRPr b="0" lang="en-US" sz="1600" spc="-1" strike="noStrike">
              <a:solidFill>
                <a:srgbClr val="000000"/>
              </a:solidFill>
              <a:latin typeface="Times New Roman"/>
            </a:endParaRPr>
          </a:p>
        </p:txBody>
      </p:sp>
      <p:pic>
        <p:nvPicPr>
          <p:cNvPr id="68" name="Picture 2" descr=""/>
          <p:cNvPicPr/>
          <p:nvPr/>
        </p:nvPicPr>
        <p:blipFill>
          <a:blip r:embed="rId1"/>
          <a:stretch/>
        </p:blipFill>
        <p:spPr>
          <a:xfrm>
            <a:off x="179280" y="2060640"/>
            <a:ext cx="4251600" cy="295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едор Михайлович Степанов (1912 – 1939)</a:t>
            </a:r>
            <a:endParaRPr b="0" lang="en-US" sz="4400" spc="-1" strike="noStrike">
              <a:solidFill>
                <a:srgbClr val="000000"/>
              </a:solidFill>
              <a:latin typeface="Times New Roman"/>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й Краснознаменный мотострелковый полк, в который прибыл Федор, находился на окраине атаки в Центральной группе войск, в районе реки Халкин-Гол. Полку было приказано овладеть высотами песчаной и Ремезовской. Ранним утром 20 августа 1939 года под звуки «Интернационала» бойцы поднялись в атаку. Мелодия лилась из мощных репродукторов, установленных политработниками на переднем крае. Несокрушимой лавиной пехота ринулась вперед и овладела стратегически важными высотами, отбросив японских агрессоров. В том жестоком бою, подняв взвод в атаку, младший лейтенант Ф.М.Степанов пал смертью храбры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Иван Михайлович Степанов (1915 – 1943)</a:t>
            </a:r>
            <a:br>
              <a:rPr sz="4400"/>
            </a:br>
            <a:endParaRPr b="0" lang="en-US" sz="4400" spc="-1" strike="noStrike">
              <a:solidFill>
                <a:srgbClr val="000000"/>
              </a:solidFill>
              <a:latin typeface="Times New Roman"/>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ликая Отечественная война застала его на западной границе, в Белоруссии. После нескольких дней тяжелых боев полк Ивана оказался в окружении. Советские воины дрались с фашистами до последнего патрона. Ночью пошли на прорыв, но из окружения вышли не все. Многие погибли, а лейтенант Степанов, тяжело раненный, был схвачен гитлеровцами. Едва поправившись – бежал. Его снова схватили, жестоко избили и бросили за колючую проволоку. Неудачей закончился и второй побег. И только в третий раз он вырвался на свободу.</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Осенью 1942 года Иван Степанов, обессиленный, изнуренный голодом, добрался до деревни Великий Лес Смолевичского района, что северо-восточнее Минска. Его укрыли в семье колхозника сельхозартели «Добрая воля» П.И. Норейко. Там он встретился с девушкой, полюбил, женился…</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чти год сражался Иван в партизанском отряде. Ходил в разведку, писал листовки, распространял их среди жителей белорусских деревень, уничтожал врагов. Однажды фашисты выследили Ивана Степанова и на глазах жены Марии, которая ждала ребенка, расстреляли. Эта трагедия произошла в ноябре 1943 год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42920" y="549360"/>
            <a:ext cx="4038840" cy="4525920"/>
          </a:xfrm>
          <a:prstGeom prst="rect">
            <a:avLst/>
          </a:prstGeom>
          <a:noFill/>
          <a:ln w="0">
            <a:noFill/>
          </a:ln>
        </p:spPr>
        <p:txBody>
          <a:bodyPr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охранились фронтовые письма Александра. Вот одно из них: «Скоро, мама, мы возвратимся с победой. А если суждено будет нам погибнуть, то знайте, что мы погибли за счастье советских людей, за мир и счастье на земле. До свидания. Ваш Саша».</a:t>
            </a:r>
            <a:endParaRPr b="0" lang="en-US" sz="2800" spc="-1" strike="noStrike">
              <a:solidFill>
                <a:srgbClr val="000000"/>
              </a:solidFill>
              <a:latin typeface="Times New Roman"/>
            </a:endParaRPr>
          </a:p>
        </p:txBody>
      </p:sp>
      <p:pic>
        <p:nvPicPr>
          <p:cNvPr id="74" name="Picture 3" descr=""/>
          <p:cNvPicPr/>
          <p:nvPr/>
        </p:nvPicPr>
        <p:blipFill>
          <a:blip r:embed="rId1"/>
          <a:stretch/>
        </p:blipFill>
        <p:spPr>
          <a:xfrm>
            <a:off x="250920" y="2060640"/>
            <a:ext cx="439560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Илья Михайлович Степанов (1917 – 1943)</a:t>
            </a:r>
            <a:br>
              <a:rPr sz="4400"/>
            </a:br>
            <a:endParaRPr b="0" lang="en-US" sz="4400" spc="-1" strike="noStrike">
              <a:solidFill>
                <a:srgbClr val="000000"/>
              </a:solidFill>
              <a:latin typeface="Times New Roman"/>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гда в октябре 1937 года Илью призвали на действительную службу в армию, в Тимашевском райвоенкомате он заявил, что желает учиться на танкиста. Через два года выпускник 10го Саратовского автобронетанкового училища лейтенант Илья Степанов был назначен командиром 250-й танковой бригады в Прибалтике. Там и принял боевое крещение в первый день Великой Отечественной войны. В бою против фашистских захватчиков был ранен. Долго находился в госпитале в Ростове, а осенью 41-го приехал к матери долечиваться. Вскоре Илья снова ушел на фронт.</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 снова жестокие бои. В декабре 42-го Илья Степанов был ранен в третий раз. В мае 1943 года он писал Епистинии Федоровне: «Много думаю о Вас, живу мысленно с Вами, родная мама… Ваш сын Илюша».</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Это было последнее письмо.</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14 июля 1943 года командир 1-й танковой роты 70-й танковой бригады гвардии капитан И.М. Степанов пал смертью храбрых на Курской дуге, в ожесточенном танковом бою за переправу на реке Вытебель. Он похоронен в братской могиле в селе Афонасово.</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Павел Михайлович Степанов (1919-1941)</a:t>
            </a:r>
            <a:br>
              <a:rPr sz="4400"/>
            </a:br>
            <a:endParaRPr b="0" lang="en-US" sz="4400" spc="-1" strike="noStrike">
              <a:solidFill>
                <a:srgbClr val="000000"/>
              </a:solidFill>
              <a:latin typeface="Times New Roman"/>
            </a:endParaRPr>
          </a:p>
        </p:txBody>
      </p:sp>
      <p:sp>
        <p:nvSpPr>
          <p:cNvPr id="78" name=""/>
          <p:cNvSpPr txBox="1"/>
          <p:nvPr/>
        </p:nvSpPr>
        <p:spPr>
          <a:xfrm>
            <a:off x="457200" y="1484280"/>
            <a:ext cx="8229600" cy="464184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2 июня 1941 года. В грохоте разрывов бомб и снарядов на западной границе встретил этот день артиллерийский взвод лейтенанта П.М.Степанова. Поднятые по тревоге, воины сходу вступили в бой с гитлеровскими захватчиками. Били их до последнего снаряда, патрона, гранаты. И отходили на восток.</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погиб и захоронен Павел – сведений нет. Из официального же документа, присланного Министерством обороны СССР в музей семьи Степановых в 1975 году, стало известно, что командир взвода 141-го гаубичного артиллерийского полка 55-й стрелковой дивизии лейтенант Степанов Павел Михайлович «значится пропавшим без вести в 1941 году на Брянском фронт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Александр Михайлович Степанов (1923 – 1943)</a:t>
            </a:r>
            <a:br>
              <a:rPr sz="4400"/>
            </a:br>
            <a:endParaRPr b="0" lang="en-US" sz="4400" spc="-1" strike="noStrike">
              <a:solidFill>
                <a:srgbClr val="000000"/>
              </a:solidFill>
              <a:latin typeface="Times New Roman"/>
            </a:endParaRPr>
          </a:p>
        </p:txBody>
      </p:sp>
      <p:sp>
        <p:nvSpPr>
          <p:cNvPr id="80" name=""/>
          <p:cNvSpPr txBox="1"/>
          <p:nvPr/>
        </p:nvSpPr>
        <p:spPr>
          <a:xfrm>
            <a:off x="468360" y="1484280"/>
            <a:ext cx="8229600" cy="4525920"/>
          </a:xfrm>
          <a:prstGeom prst="rect">
            <a:avLst/>
          </a:prstGeom>
          <a:noFill/>
          <a:ln w="0">
            <a:noFill/>
          </a:ln>
        </p:spPr>
        <p:txBody>
          <a:bodyPr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лужбу в армию он ушел добровольцем. После окончания курсов в Орджоникидзенском военном училище лейтенант Александр Степанов был направлен под Сталинград. В двадцать лет Александр становится кавалером ордена Красной Звезды. Рядом с боевым орденом – две нашивки за ранения. Воевал младший из братьев Степановых в составе 9-й механизированной бригады 3-го гвардейского Сталинградского механизированного корпуса.</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 снова бои. На этот раз в составе стрелкового подразделения. Командир роты гвардии старший лейтенант Александр Степанов одним из первых форсировал Днепр и ценой невероятных усилий вместе со своими бойцами удерживал плацдарм на правом берегу. 2 октября 1943 года на участке Селище – Бобрицы, на подступах к Киеву, было отбито шесть яростных атак фашистов. Степанов остался один, один отражал и седьмую атаку. Последней противотанковой гранатой взорвал себя и окруживших его врагов. За этот подвиг двадцатилетний Александр Степанов был удостоен звания Героя Советского Союза. </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Его похоронили на высоком берегу Днепра, недалеко от города Киева. Именем Александра Степанова названа улица в городе Тимашевске. Здесь у вечного огня установлен бюст Геро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250920" y="2060640"/>
            <a:ext cx="3914640" cy="2892240"/>
          </a:xfrm>
          <a:prstGeom prst="rect">
            <a:avLst/>
          </a:prstGeom>
          <a:ln w="0">
            <a:noFill/>
          </a:ln>
        </p:spPr>
      </p:pic>
      <p:sp>
        <p:nvSpPr>
          <p:cNvPr id="82" name=""/>
          <p:cNvSpPr txBox="1"/>
          <p:nvPr/>
        </p:nvSpPr>
        <p:spPr>
          <a:xfrm>
            <a:off x="4066920" y="1341360"/>
            <a:ext cx="4614840" cy="452592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ильное, мужественное, героическое сердце было у Епистинии Федоровны Степановой. Маршал Советского Союза А.А. Гречко и генерал армии А.А.Епишев в 1966 году писали ей:         « Девять сыновей вырастили и воспитали Вы, девять самых дорогих для Вас людей благословили на ратные подвиги во имя Советской Отчизны. Своими боевыми делами они приблизили день нашей Великой Победы над врагами, прославили свои имена</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ас, мать солдатскую, называют воины своей матерью. Вам шлют они сыновнее тепло своих сердец, пред Вами, простой русской женщиной, преклоняют колени».</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250920" y="1916280"/>
            <a:ext cx="3841560" cy="2881080"/>
          </a:xfrm>
          <a:prstGeom prst="rect">
            <a:avLst/>
          </a:prstGeom>
          <a:ln w="0">
            <a:noFill/>
          </a:ln>
        </p:spPr>
      </p:pic>
      <p:sp>
        <p:nvSpPr>
          <p:cNvPr id="84" name=""/>
          <p:cNvSpPr txBox="1"/>
          <p:nvPr/>
        </p:nvSpPr>
        <p:spPr>
          <a:xfrm>
            <a:off x="4859280" y="1341360"/>
            <a:ext cx="375624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дние годы Епистиния Федоровна, персональная пенсионерка союзного значения, жила в Ростове-на-Дону, в семье единственной дочери – учительницы Валентины Михайловны Коржовой.</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642920" y="1197000"/>
            <a:ext cx="403884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7 февраля 1969 года Епистинии Федоровны не стало. Ей было 94 года. Солдатскую мать похоронили в станице Днепровской Тимашевского района Краснодарского края со всеми воинскими почестями</a:t>
            </a:r>
            <a:endParaRPr b="0" lang="en-US" sz="2800" spc="-1" strike="noStrike">
              <a:solidFill>
                <a:srgbClr val="000000"/>
              </a:solidFill>
              <a:latin typeface="Times New Roman"/>
            </a:endParaRPr>
          </a:p>
        </p:txBody>
      </p:sp>
      <p:pic>
        <p:nvPicPr>
          <p:cNvPr id="86" name="Picture 2" descr=""/>
          <p:cNvPicPr/>
          <p:nvPr/>
        </p:nvPicPr>
        <p:blipFill>
          <a:blip r:embed="rId1"/>
          <a:stretch/>
        </p:blipFill>
        <p:spPr>
          <a:xfrm>
            <a:off x="468360" y="1773360"/>
            <a:ext cx="3956040" cy="351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788000" y="907920"/>
            <a:ext cx="40384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пистиния Фёдоровна Степанова (1882—1969) — русская женщина, девять сыновей которой погибли на войне, кавалер орденов «Мать-героиня» и Отечественной войны I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Содержимое 4" descr=""/>
          <p:cNvPicPr/>
          <p:nvPr/>
        </p:nvPicPr>
        <p:blipFill>
          <a:blip r:embed="rId1"/>
          <a:stretch/>
        </p:blipFill>
        <p:spPr>
          <a:xfrm>
            <a:off x="324000" y="620640"/>
            <a:ext cx="4535280" cy="554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404640"/>
            <a:ext cx="820908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20000"/>
              </a:solidFill>
              <a:latin typeface="Times New Roman"/>
            </a:endParaRPr>
          </a:p>
        </p:txBody>
      </p:sp>
      <p:sp>
        <p:nvSpPr>
          <p:cNvPr id="88" name="PlaceHolder 2"/>
          <p:cNvSpPr>
            <a:spLocks noGrp="1"/>
          </p:cNvSpPr>
          <p:nvPr>
            <p:ph/>
          </p:nvPr>
        </p:nvSpPr>
        <p:spPr>
          <a:xfrm>
            <a:off x="395280" y="1773360"/>
            <a:ext cx="8424720" cy="403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pic>
        <p:nvPicPr>
          <p:cNvPr id="89" name="Рисунок 5" descr=""/>
          <p:cNvPicPr/>
          <p:nvPr/>
        </p:nvPicPr>
        <p:blipFill>
          <a:blip r:embed="rId1"/>
          <a:stretch/>
        </p:blipFill>
        <p:spPr>
          <a:xfrm>
            <a:off x="755640" y="1557360"/>
            <a:ext cx="727236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Times New Roman"/>
              </a:rPr>
              <a:t>Тимашевский музей</a:t>
            </a:r>
            <a:endParaRPr b="0" lang="en-US" sz="6600" spc="-1" strike="noStrike">
              <a:solidFill>
                <a:srgbClr val="000000"/>
              </a:solidFill>
              <a:latin typeface="Times New Roman"/>
            </a:endParaRPr>
          </a:p>
        </p:txBody>
      </p:sp>
      <p:sp>
        <p:nvSpPr>
          <p:cNvPr id="9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машевский музей семьи Степановых – это единственный в России мемориальный музей, рассказывающий о жизни простой русской крестьянской семь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Содержимое 6" descr=""/>
          <p:cNvPicPr/>
          <p:nvPr/>
        </p:nvPicPr>
        <p:blipFill>
          <a:blip r:embed="rId1"/>
          <a:stretch/>
        </p:blipFill>
        <p:spPr>
          <a:xfrm>
            <a:off x="395280" y="1916280"/>
            <a:ext cx="4248000" cy="324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333000"/>
            <a:ext cx="8229600" cy="5792760"/>
          </a:xfrm>
          <a:prstGeom prst="rect">
            <a:avLst/>
          </a:prstGeom>
          <a:noFill/>
          <a:ln w="0">
            <a:noFill/>
          </a:ln>
        </p:spPr>
        <p:txBody>
          <a:bodyPr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ле войны о семье Степановых узнала вся страна. О русской Матери написана книга, создан музей ее имени. И еще есть фильм. Он снят при жизни Епистинии Федоровны, когда она шагнула на свой девятый десяток. Его показывают на маленьком экране в музее. Фильм документальный. В нем нет ярких режиссерских находок и броских приемов оператора. Его героиня — уже очень немолодая женщина в белом платке, повязанном аккуратно, по-деревенски. Она говорит негромко, и каждому, кто слушает ее, кажется, что только к нему обращено ее слово. Тихо рассказывает она о тех годах, когда рядом росли дети. Вся она в том далеком счастливом времени, и разглаживаются ее морщинки, и светлым становится взгляд, а рука, кажется, так и ищет мягко волосую голову сына, чтобы приласкать... Всем, кто слушает ее, верится в хорошее, и хочется, чтобы ничего не случилось с ее дорогими мальчиками.</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А потом голос матери прерывается, и тогда становится трудно смотреть на экран из-за нахлынувших слез, трудно слушать женщину и невозможно справиться с волнением. Звучит живой ее голос: «Все сыны идут, а моих нет и нет...» Молчит экран, и плачут люди в зале. Никто не может ответить матери, где могилы Павла, Филиппа, Василия. Некуда ей прийти выплакать свою боль, негде посадить белоствольную березку—символ русской земли и русской души. Только одну сыновнюю могилу видела она—памятник младшему Саше на Украин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63280" y="549000"/>
            <a:ext cx="6769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20000"/>
                </a:solidFill>
                <a:latin typeface="Times New Roman"/>
              </a:rPr>
              <a:t>Интернет – ресурсы</a:t>
            </a:r>
            <a:endParaRPr b="0" lang="en-US" sz="4400" spc="-1" strike="noStrike">
              <a:solidFill>
                <a:srgbClr val="000000"/>
              </a:solidFill>
              <a:latin typeface="Times New Roman"/>
            </a:endParaRPr>
          </a:p>
        </p:txBody>
      </p:sp>
      <p:sp>
        <p:nvSpPr>
          <p:cNvPr id="95" name="Прямоугольник 5"/>
          <p:cNvSpPr/>
          <p:nvPr/>
        </p:nvSpPr>
        <p:spPr>
          <a:xfrm>
            <a:off x="924120" y="1628640"/>
            <a:ext cx="2631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айт: </a:t>
            </a:r>
            <a:r>
              <a:rPr b="0" lang="ru-RU" sz="1800" spc="-1" strike="noStrike" u="sng">
                <a:solidFill>
                  <a:srgbClr val="800000"/>
                </a:solidFill>
                <a:uFillTx/>
                <a:latin typeface="Times New Roman"/>
                <a:hlinkClick r:id="rId1"/>
              </a:rPr>
              <a:t>http://pedsovet.su/</a:t>
            </a:r>
            <a:r>
              <a:rPr b="1" i="1"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6" name="Прямоугольник 6"/>
          <p:cNvSpPr/>
          <p:nvPr/>
        </p:nvSpPr>
        <p:spPr>
          <a:xfrm>
            <a:off x="978840" y="2133720"/>
            <a:ext cx="350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timashevsk.ru/stepano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395280" y="1844640"/>
            <a:ext cx="4235400" cy="3176640"/>
          </a:xfrm>
          <a:prstGeom prst="rect">
            <a:avLst/>
          </a:prstGeom>
          <a:ln w="0">
            <a:noFill/>
          </a:ln>
        </p:spPr>
      </p:pic>
      <p:sp>
        <p:nvSpPr>
          <p:cNvPr id="53" name=""/>
          <p:cNvSpPr txBox="1"/>
          <p:nvPr/>
        </p:nvSpPr>
        <p:spPr>
          <a:xfrm>
            <a:off x="4716000" y="907920"/>
            <a:ext cx="4038840" cy="452592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одилась на Украине, но с детских лет жила на Кубани. У нее было редкое имя — Епистиния. В переводе с греческого — «знающая». Вместе с родителями, гонимыми нуждой, приехала на Северный Кавказ. Здесь вышла замуж за крестьянского парня Михаила Степанова. 15 детей было в их семье. </a:t>
            </a:r>
            <a:endParaRPr b="0" lang="en-US" sz="24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42920" y="1052640"/>
            <a:ext cx="403884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Дети Епистинии Федоровны росли дружными, работящими, веселыми. Их любили на селе. Все они прошли школу комсомольской закалки, семеро из них стали коммунис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Picture 4" descr=""/>
          <p:cNvPicPr/>
          <p:nvPr/>
        </p:nvPicPr>
        <p:blipFill>
          <a:blip r:embed="rId1"/>
          <a:stretch/>
        </p:blipFill>
        <p:spPr>
          <a:xfrm>
            <a:off x="611280" y="260280"/>
            <a:ext cx="2665440" cy="599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052280"/>
            <a:ext cx="8229600" cy="5073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Епистинии Федоровне Степановой выпало на долю проводить на лихие дороги войны всех своих сыновей. Домой вернулся лишь один. Девять раз выходила она за калитку, держась за вещмешок сына. Дорога из хутора 1-е Мая, что на Кубани, шла сначала полем, а потом забирала чуть в гору, и тогда человек в солдатской шинели был отчетливо виден. Так и запомнила Епистиния Федоровна своих сыновей—уходящи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755640" y="981000"/>
            <a:ext cx="7631280" cy="469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Times New Roman"/>
              </a:rPr>
              <a:t>Александр Михайлович Степанов (1901 – 1918)</a:t>
            </a:r>
            <a:br>
              <a:rPr sz="4000"/>
            </a:br>
            <a:endParaRPr b="0" lang="en-US" sz="4000" spc="-1" strike="noStrike">
              <a:solidFill>
                <a:srgbClr val="000000"/>
              </a:solidFill>
              <a:latin typeface="Times New Roman"/>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В 1918 году белогвардейцы зверски убили старшего сына Александра. Ему было тогда семнадцат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Times New Roman"/>
              </a:rPr>
              <a:t>Николай Михайлович Степанов (1903 – 1963)</a:t>
            </a:r>
            <a:br>
              <a:rPr sz="4000"/>
            </a:br>
            <a:endParaRPr b="0" lang="en-US" sz="4000" spc="-1" strike="noStrike">
              <a:solidFill>
                <a:srgbClr val="000000"/>
              </a:solidFill>
              <a:latin typeface="Times New Roman"/>
            </a:endParaRPr>
          </a:p>
        </p:txBody>
      </p:sp>
      <p:sp>
        <p:nvSpPr>
          <p:cNvPr id="61" name=""/>
          <p:cNvSpPr txBox="1"/>
          <p:nvPr/>
        </p:nvSpPr>
        <p:spPr>
          <a:xfrm>
            <a:off x="468360" y="1413000"/>
            <a:ext cx="8229600" cy="4525920"/>
          </a:xfrm>
          <a:prstGeom prst="rect">
            <a:avLst/>
          </a:prstGeom>
          <a:noFill/>
          <a:ln w="0">
            <a:noFill/>
          </a:ln>
        </p:spPr>
        <p:txBody>
          <a:bodyPr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иколай ушел на фронт в августе 1941 года в составе 5-го гвардейского Донского кавалерийского корпуса. Гвардии рядовой сражался на Северном Кавказе, освобождал от фашистских захватчиков Украину, несколько раз был ранен, очень тяжело в октябре 1944 года. Осколки повредили правую ногу. Часть их извлекли хирурги, а некоторые так и носил в своем теле до последнего часа. Восемь месяцев боролись за его жизнь врачи в Кисловодском эвакогоспитале.</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августе 45-го он вернулся домой.</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963 году от ран, полученных на фронте, умер единственный вернувшийся с войны сын Епистинии Федоровны – Николай.</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Василий Михайлович Степанов (1908 – 1943)</a:t>
            </a:r>
            <a:br>
              <a:rPr sz="4400"/>
            </a:br>
            <a:endParaRPr b="0" lang="en-US" sz="4400" spc="-1" strike="noStrike">
              <a:solidFill>
                <a:srgbClr val="000000"/>
              </a:solidFill>
              <a:latin typeface="Times New Roman"/>
            </a:endParaRPr>
          </a:p>
        </p:txBody>
      </p:sp>
      <p:sp>
        <p:nvSpPr>
          <p:cNvPr id="6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txBox="1"/>
          <p:nvPr/>
        </p:nvSpPr>
        <p:spPr>
          <a:xfrm>
            <a:off x="3059280" y="1413000"/>
            <a:ext cx="5905440" cy="452592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фронт Василий ушел в первые дни Великой Отечественной войны. Воевал в Крыму в составе 553-го артиллерийского полка, под Керчью, выполнял важное задание командования в тылу врага. В 1942-м его схватили фашисты и бросили за колючую проволоку в лагерь военнопленных. Немного окреп – бежал. В Никольском районе на Днепропетровщине связался с подпольщиками, а через них с партизанами. </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2 ноября 1943 года во время выполнения задания командования партизанского отряда «За Родину» Василий был вновь схвачен фашистами и брошен в тюрьму. Его жестоко пытали, но он держался стойко. </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Через две недели на окраине города Никополя гитлеровцы расстреляли 78 патриотов. В числе расстрелянных был и сержант Советской Армии Василий Михайлович Степанов.</a:t>
            </a:r>
            <a:endParaRPr b="0" lang="en-US" sz="1800" spc="-1" strike="noStrike">
              <a:solidFill>
                <a:srgbClr val="000000"/>
              </a:solidFill>
              <a:latin typeface="Times New Roman"/>
            </a:endParaRPr>
          </a:p>
        </p:txBody>
      </p:sp>
      <p:pic>
        <p:nvPicPr>
          <p:cNvPr id="65" name="Picture 2" descr=""/>
          <p:cNvPicPr/>
          <p:nvPr/>
        </p:nvPicPr>
        <p:blipFill>
          <a:blip r:embed="rId1"/>
          <a:stretch/>
        </p:blipFill>
        <p:spPr>
          <a:xfrm>
            <a:off x="395280" y="1628640"/>
            <a:ext cx="2592360" cy="409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Алексей</cp:lastModifiedBy>
  <dcterms:modified xsi:type="dcterms:W3CDTF">2018-01-28T13:46:18Z</dcterms:modified>
  <cp:revision>7</cp:revision>
  <dc:subject/>
  <dc:title>Слайд 1</dc:title>
</cp:coreProperties>
</file>