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47E-6C9C-4E8A-83E5-8AC0878F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E5D-A87A-4723-AD14-2D8615E3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04D-DB95-457F-8F86-A73CA759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7DC-7776-42D2-B9AF-8515E1C3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4834-0BEB-428F-83F1-45147B25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52EE-84D9-41FA-BDCE-629963F6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15F8-E8E0-42F2-9C84-581A936E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BCF8-BD71-456B-B9F3-79322C35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52F9-089C-490F-8415-C98446BB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A736-8317-482A-82C8-A354EEC2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410E-9F8E-4244-BCFC-ABFBC039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8F3-6E99-4D54-A2D3-A6887D14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50D4-7A10-4468-932B-339E2C6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F43F-C16D-4AD8-A0CB-BBD09290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8643-6F3B-408F-8A40-6D6F3E2B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1825-10B5-4B12-B62B-A32371E1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B7C3-D56E-4568-A69A-F61EEF24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B187-4C75-4E4F-813C-1E9AEE38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DB45-BC92-4547-9ACA-C445C7C8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18E8-BF17-45AF-AEA9-B83140F9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5521-48A2-4D7E-88F2-829F9CB8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CEC7-AED6-4904-9680-6406F0A0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645-A1E5-435D-B0D5-22B8FBEF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48C0-F98A-4302-BBBD-54C6A9B2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6CE8-9478-4764-A1FD-7FFE0884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1966-0307-4F53-83A4-0D500CF8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6326-19DA-427D-A213-E4D511E5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12F9-6971-4AA2-B523-36D58AB3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D7F9-F746-46AB-AA2A-5F706042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1572-51FA-4CAF-9833-31B609AE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BF31C-7782-449E-8597-121D81A7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E24F-A960-4A56-AB8C-60BEB4DE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C3BCD-EA7C-4FE8-9791-5E714DD4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4DD-BF42-4168-8071-1C549799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E4648-6258-4787-BCAF-8CBD3AD4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B5F2-9144-4789-83DD-7203E62F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805A-27F5-4944-9E71-C2F0846D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5EDE-C8C4-4F2A-82B1-26DCB6F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CB57C-BE24-454C-87CA-951EE8D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6AD25-572B-465D-90AA-D32156A2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0EDF8-991D-494A-BB2A-0D9A0A89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1682B-2A46-40BA-AADE-8D67619B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51A53-2280-4999-A0FF-266173DE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D62CF-1797-42FC-963A-D6F24093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802-0E1A-4172-BECA-0A639241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95834-CA63-4916-97D9-55281BAC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50260-8231-4627-982B-2C83E9CF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88FB1-964A-472F-8FA6-F1662BA7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765C8-C828-465C-A607-A4062D75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8B4A-EFAD-4AA7-808E-087E5FBB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AB72F-D284-405F-98F5-C0800D44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63A47-457F-4EE6-98A1-ED0AE68E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E440B-78E4-456B-9A9C-6B56056D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940E-0105-4CAE-9606-5BA3EC2C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2870F-B0DA-4A19-87A9-4343F757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49D-F5CD-494B-8DD2-977B9A88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1CE50-439A-4C32-BDFF-804AB8BB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978E9-B937-42BD-9DFA-165219A2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A888B-6973-4DD1-A4D7-E76D8DA7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8948C-17B7-4F40-80EA-B45A10D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0CAA1-C700-4B32-9285-186F2E49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2526-1696-4E63-8A2B-4F74AF52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FDDDF-EB52-4F8C-A038-D38FD152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6844B-9A72-4A36-A295-81579845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0D033-58CE-41DC-84AA-E994141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50072-EFD9-40E1-BCDC-98185F53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256-166B-4629-B728-8B378281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C5A88-31CB-4CBD-8CE6-655E4A5A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2799-6D37-47D6-AB0D-DDB8DDE8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F6019-C0FC-4708-A67D-01B59741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23D73-CDD3-4F5D-8F75-B942F93C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3C649-9756-46C6-B757-8DEC717F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8419F-EEE4-472D-9F06-9F8AA3F1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DB68E-2384-4B05-A467-0C7C6C8B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38FE3-53AE-4332-B2C3-689EE6A3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DACD7-543D-40D2-8E6C-46076A88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7232C-3DF5-4966-AAC4-FD9CF0FB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67E-29A0-4942-8937-44ED8D7B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4F576-6355-4DBC-AD90-B0B5031C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88C9C-8741-4780-B048-9A4AA31E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A66E1-8423-41F9-A38B-D06AF323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340B-392D-4B62-9F9B-5BD1B8B8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D58AE-5020-48B0-BA42-5427120E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4FE-71F3-417C-8385-50C7EEE3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4320" y="-816120"/>
            <a:ext cx="1638360" cy="1638360"/>
          </a:xfrm>
          <a:custGeom>
            <a:avLst/>
            <a:gdLst/>
            <a:ahLst/>
            <a:rect l="l" t="t" r="r" b="b"/>
            <a:pathLst>
              <a:path w="1638301" h="1638301">
                <a:moveTo>
                  <a:pt x="1638301" y="819151"/>
                </a:moveTo>
                <a:cubicBezTo>
                  <a:pt x="1638301" y="1036491"/>
                  <a:pt x="1551928" y="1244922"/>
                  <a:pt x="1398199" y="1398557"/>
                </a:cubicBezTo>
                <a:cubicBezTo>
                  <a:pt x="1244469" y="1552192"/>
                  <a:pt x="1035985" y="1638436"/>
                  <a:pt x="818645" y="1638302"/>
                </a:cubicBezTo>
                <a:cubicBezTo>
                  <a:pt x="818814" y="1365252"/>
                  <a:pt x="818982" y="1092201"/>
                  <a:pt x="819151" y="819151"/>
                </a:cubicBezTo>
                <a:lnTo>
                  <a:pt x="1638301" y="819151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6680" y="20520"/>
            <a:ext cx="170496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59B6-03E3-48ED-BCB4-60E8D6CCC9F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4320" y="-816120"/>
            <a:ext cx="1638360" cy="1638360"/>
          </a:xfrm>
          <a:custGeom>
            <a:avLst/>
            <a:gdLst/>
            <a:ahLst/>
            <a:rect l="l" t="t" r="r" b="b"/>
            <a:pathLst>
              <a:path w="1638301" h="1638301">
                <a:moveTo>
                  <a:pt x="1638301" y="819151"/>
                </a:moveTo>
                <a:cubicBezTo>
                  <a:pt x="1638301" y="1036491"/>
                  <a:pt x="1551928" y="1244922"/>
                  <a:pt x="1398199" y="1398557"/>
                </a:cubicBezTo>
                <a:cubicBezTo>
                  <a:pt x="1244469" y="1552192"/>
                  <a:pt x="1035985" y="1638436"/>
                  <a:pt x="818645" y="1638302"/>
                </a:cubicBezTo>
                <a:cubicBezTo>
                  <a:pt x="818814" y="1365252"/>
                  <a:pt x="818982" y="1092201"/>
                  <a:pt x="819151" y="819151"/>
                </a:cubicBezTo>
                <a:lnTo>
                  <a:pt x="1638301" y="819151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6680" y="20520"/>
            <a:ext cx="170496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DB45-D8C9-47A1-BC59-F57C0FEBDB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45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4F24-0ED4-43E4-B67D-4819B4DDEA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DD07-984B-4751-871B-DDC7D56330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6209-52E4-4238-AE27-66704B8168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3CFE-C5D4-4FAE-8622-25212F4649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49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228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7C26-FF5C-4687-981D-58BA441514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462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alibri"/>
              </a:rPr>
              <a:t>Профессиональный стандарт педагога в соответствии с ФГОС ДО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105160" y="4800600"/>
            <a:ext cx="3576600" cy="14479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Мартьянова М.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МАДОУ №4 п.Новоорск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Calibri"/>
              </a:rPr>
              <a:t>Рекомендации по внедрению профессионального стандарта в ДОУ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70160" y="1827360"/>
            <a:ext cx="7315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ация ознакомления педагогических работников учреждения с содержанием профессионального стандарта «Педагог»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ация обсуждения на педагогических, методических советах, методических объединениях, стажерских практиках ресурсных центров и 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мещение информации на стендах в учреждении, сайте учреждени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работка, согласование и утверждение локальных правовых актов детского сада в области формирования кадровой политики, трудовых отношений с  воспитателями, нормирования, оценки качества труда воспитателей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ация и проведение процедуры самооценки педагогами своей квалификации в соответствии с уровнями профессионального стандарта педагога в учрежден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ставление дифференцированной программы профессионального развития педагогов детского сада на основе самоанализа (самооценки)  уровня соответствия компетенций педагога содержанию трудовых функций профессионального стандарта «Педагог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alibri"/>
              </a:rPr>
              <a:t>Индивидуальный образовательный маршрут педагог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130e"/>
                </a:solidFill>
                <a:latin typeface="Calibri"/>
              </a:rPr>
              <a:t>Представляет собой целенаправленно проектируемую дифференцированную образовательную программу, обеспечивающую педагогу позиции субъекта выбора, разработки и реализации личной программы развития профессиональной компетентности при осуществлении научно-методического сопровождения его профессионального развит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alibri"/>
              </a:rPr>
              <a:t>Основные направления проектирования ИО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Содержимое 3" descr=""/>
          <p:cNvPicPr/>
          <p:nvPr/>
        </p:nvPicPr>
        <p:blipFill>
          <a:blip r:embed="rId1"/>
          <a:stretch/>
        </p:blipFill>
        <p:spPr>
          <a:xfrm>
            <a:off x="1401840" y="1736640"/>
            <a:ext cx="75769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alibri"/>
              </a:rPr>
              <a:t>Алгоритм разработки ИОМ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Содержимое 3" descr=""/>
          <p:cNvPicPr/>
          <p:nvPr/>
        </p:nvPicPr>
        <p:blipFill>
          <a:blip r:embed="rId1"/>
          <a:stretch/>
        </p:blipFill>
        <p:spPr>
          <a:xfrm>
            <a:off x="1352520" y="1292400"/>
            <a:ext cx="766296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alibri"/>
              </a:rPr>
              <a:t>Методы повышения мотивации и профессиональной мобильности педагого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71600" y="1676520"/>
            <a:ext cx="7499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ы экономического стимулирования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плата за активное участие, высокие  показате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овые прем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дминистративные методы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циональная расстановка кадро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сихолого-педагогические методы воздействия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ет, просьба, пожел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яция творческой активности, инициативности сотрудни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11617"/>
                </a:solidFill>
                <a:latin typeface="Corbel"/>
              </a:rPr>
              <a:t>Меняйтесь раньше, чем Вас заставят это делать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47560" y="1981080"/>
            <a:ext cx="74991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чество системы образования не может быть выше качества работающих в ней педагог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фессиональный стандарт способствует повышению профессиональной подготовки педагога и необходимости постоянного профессионального рост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фессиональный стандарт  повышает ответственность педагога за результаты своего труда, а соответственно повышает качество образ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313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</a:rPr>
              <a:t>Профессиональный стандарт педагог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70160" y="1827360"/>
            <a:ext cx="731520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фессиональный стандарт «Педагог (педагогическа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ятельность в сфере дошкольного, начального общего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го общего, среднего общего образования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спитатель, учитель)»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 приказом Министерства труда и соцзащиты Российской Федерации от 18 октября 2013 г. N 544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 Министерством юсти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. 12. 2013 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ся в массовое применение с 1 января 2017 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 2016 г.– режим апробаци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-1600200" y="-36360"/>
            <a:ext cx="1219212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456840"/>
            <a:ext cx="7239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654c"/>
                </a:solidFill>
                <a:latin typeface="Calibri"/>
              </a:rPr>
              <a:t>Профессиональный стандарт педагога</a:t>
            </a:r>
            <a:r>
              <a:rPr b="0" lang="ru-RU" sz="2800" spc="-1" strike="noStrike">
                <a:solidFill>
                  <a:srgbClr val="c0654c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кумент, включающий перечень профессиональных и личностных требований к учителю (воспитателю), действующий на всей территории Российской Федерации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7408800" cy="17524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товность учить всех без исключения детей, вне зависимости от их склонностей, способностей, особенностей развития, ограниченных возможнос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orbel"/>
              </a:rPr>
              <a:t>Область применения Профессионального стандар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Содержимое 3" descr=""/>
          <p:cNvPicPr/>
          <p:nvPr/>
        </p:nvPicPr>
        <p:blipFill>
          <a:blip r:embed="rId1"/>
          <a:stretch/>
        </p:blipFill>
        <p:spPr>
          <a:xfrm>
            <a:off x="1305000" y="1670040"/>
            <a:ext cx="7607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rbel"/>
              </a:rPr>
              <a:t>ХАРАКТЕРИСТИКА СТАНДАР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920"/>
            <a:ext cx="749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ем определяются основные требования к квалификации педаго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жет дополнятся региональными требования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жет быть дополнен внутренним стандартом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вляется уровневым, учитывающим специфику работы педагогов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ражает структуру профессиона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двигает требования к личностным качествам педаго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3333cc"/>
                </a:solidFill>
                <a:latin typeface="Corbel"/>
                <a:ea typeface="Calibri"/>
              </a:rPr>
              <a:t> </a:t>
            </a:r>
            <a:r>
              <a:rPr b="1" lang="ru-RU" sz="3200" spc="-1" strike="noStrike">
                <a:solidFill>
                  <a:srgbClr val="922223"/>
                </a:solidFill>
                <a:latin typeface="Corbel"/>
                <a:ea typeface="Calibri"/>
              </a:rPr>
              <a:t>Требования к образованию и обучению </a:t>
            </a: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47560" y="1142640"/>
            <a:ext cx="749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сшее профессиональное образование или среднее профессиональное образование по направлениям подготовки "Образование и педагогика" или в области, соответствующей преподаваемому предмету (с последующей профессиональной переподготовкой по профилю педагогической деятельности), либо высшее профессиональное образование или среднее профессиональное образование и дополнительное профессиональное образование по направлению деятельности в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Требования к опыту практической работы  не предъявляются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8000" y="304560"/>
            <a:ext cx="804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orbel"/>
              </a:rPr>
              <a:t>Особые условия допуска к работ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Объект 3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3088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1617"/>
                </a:solidFill>
                <a:latin typeface="Calibri"/>
              </a:rPr>
              <a:t>ПРОФЕССИОНАЛЬНЫЕ КОМПЕТЕНЦИИ ВОСПИТАТЕЛЯ, ОТРАЖАЮЩИЕ СПЕЦИФИКУ РАБОТЫ НА ДОШКОЛЬНОМ УРОВНЕ ОБРАЗОВАНИЯ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4264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c00000"/>
                </a:solidFill>
                <a:uFillTx/>
                <a:latin typeface="Times New Roman"/>
              </a:rPr>
              <a:t>должен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нать специфику дошкольного образовани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нать общие закономерности развития де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меть организовывать ведущие виды деятельнос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ладеть теорией и методиками развития детей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меть планировать, реализовывать и анализировать образовательную работу с деть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ладеть методами и средствами психолого-педагогического просвещения родител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ладеть ИКТ- компетенция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Admin</cp:lastModifiedBy>
  <cp:lastPrinted>2017-11-29T05:04:02Z</cp:lastPrinted>
  <dcterms:modified xsi:type="dcterms:W3CDTF">2017-12-04T06:17:13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