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247A-934F-4D33-8B40-C14C47A8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31B5-AA45-4771-994D-42AD18F9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62C-7A49-4DB1-AFFA-28EEADEC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7626-EB9B-4C15-84BA-933A443A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7483-55FC-47EE-9B47-04F7EF2D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E38D-C8A4-47D1-989F-6F9CDD4B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3D69-04C0-4899-8109-88B4EA96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63BD-5A99-424F-8400-A0BC424D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7A93-0547-4694-8496-A3706F21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97FB-DF97-492A-B595-FF2A3E80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4C8D-923F-40C5-A975-9239F223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A3C-37CB-4CEE-BC8B-8128E76A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1F76-3F3B-44D4-9E35-D37DB4C9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5812-2E00-4E47-BEBA-4205B966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8C05-AA57-4F9F-A76D-0CE371BF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9170-17D8-40EC-B0A1-A6E84E78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274C-8D0E-4C73-81C6-C10DE3AE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C5190-28D5-44A2-B8ED-106DE03F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EE20E-D9C7-4254-AD67-05673E56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B175F-E583-47C5-B9CD-81CD719C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A67DE-401B-41C0-B9A6-1527EC20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DEB56-58BB-478E-A9F2-08AE5BE8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6F4-9270-41F8-9530-28471728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A6D431-1A37-4537-9C52-BD7853D9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12DBC-857F-4AB5-8371-CBF1D6E6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8362F-481A-45B5-A675-2C84446C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27E69-8CED-437F-A8B4-B943DBC8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EF7A8-7437-438F-A05A-96C87AA9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76221-B48E-4F63-A165-D75E3700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B5E7F-FE22-48DC-ACD5-9FE7A557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38504-90AC-42A6-A3B8-B535C7A5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35F00-1E33-471B-A64D-76514665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BB24B-3E3A-432E-8EBA-3009B115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6E6-8516-4F2D-8365-119EEFE0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A21A8-6D9E-4C7F-A3ED-F9679903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D3C47-4500-4F44-8085-8B2C6C9A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0A55F-5A13-4009-B26C-3F898040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02D6F-4EA7-447E-BC35-62CA2FEF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BEE70-06EA-424D-915A-5AE95290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8188B-DB4B-4189-9207-7D6F75CD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53B23-4BE5-4863-B056-E5FF48F7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6FF28-BC5F-4C8C-8AF1-A3361E7E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6FFF7-2F6B-42B2-A86C-544E2662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21CF-8E16-4E38-B3FA-DF818DE8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53D8-0055-44F7-8811-BD0C3C45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5326-2FD3-4F08-B0E6-6EF50B07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EDB-E2B9-4C4B-96B2-470E8177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D257-8147-4A9B-AF9E-5E200D58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BF30-AAB2-489F-8B88-2D79317F5FC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81B9-F0FD-4625-A663-257F567F1C9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EB9E-A699-4C28-89CE-8A4DC62E0C5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4B85-0FEE-490B-871A-526CA541736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335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Segoe Print"/>
              </a:rPr>
              <a:t>Условия благополучного перехода школьника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Segoe Print"/>
              </a:rPr>
              <a:t>из начальной школы в основную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6" descr="http://sp.life123.com/bm.pix/art-pencils.s600x600.jpg"/>
          <p:cNvPicPr/>
          <p:nvPr/>
        </p:nvPicPr>
        <p:blipFill>
          <a:blip r:embed="rId1"/>
          <a:stretch/>
        </p:blipFill>
        <p:spPr>
          <a:xfrm rot="19478400">
            <a:off x="6149880" y="4767120"/>
            <a:ext cx="3305160" cy="3295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C:\Users\hyena\Desktop\paper-note-background.jpg"/>
          <p:cNvPicPr/>
          <p:nvPr/>
        </p:nvPicPr>
        <p:blipFill>
          <a:blip r:embed="rId2"/>
          <a:stretch/>
        </p:blipFill>
        <p:spPr>
          <a:xfrm rot="1354800">
            <a:off x="-1797120" y="5232240"/>
            <a:ext cx="5429160" cy="2514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C:\Users\hyena\Desktop\ChildrenDrawing.jpg"/>
          <p:cNvPicPr/>
          <p:nvPr/>
        </p:nvPicPr>
        <p:blipFill>
          <a:blip r:embed="rId3"/>
          <a:stretch/>
        </p:blipFill>
        <p:spPr>
          <a:xfrm>
            <a:off x="2905200" y="4071960"/>
            <a:ext cx="3809880" cy="279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Содержимое 3" descr="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84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902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3 этапа переход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288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готовительны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даптационны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абилизационны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11" descr="C:\Users\hyena\Desktop\paper-note-background.jpg"/>
          <p:cNvPicPr/>
          <p:nvPr/>
        </p:nvPicPr>
        <p:blipFill>
          <a:blip r:embed="rId1"/>
          <a:stretch/>
        </p:blipFill>
        <p:spPr>
          <a:xfrm rot="1354800">
            <a:off x="-1797120" y="5232240"/>
            <a:ext cx="5429160" cy="2514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http://sp.life123.com/bm.pix/art-pencils.s600x600.jpg"/>
          <p:cNvPicPr/>
          <p:nvPr/>
        </p:nvPicPr>
        <p:blipFill>
          <a:blip r:embed="rId2"/>
          <a:stretch/>
        </p:blipFill>
        <p:spPr>
          <a:xfrm rot="19478400">
            <a:off x="6149880" y="4867200"/>
            <a:ext cx="3305160" cy="3295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http://sp.life123.com/bm.pix/art-pencils.s600x600.jpg"/>
          <p:cNvPicPr/>
          <p:nvPr/>
        </p:nvPicPr>
        <p:blipFill>
          <a:blip r:embed="rId1"/>
          <a:stretch/>
        </p:blipFill>
        <p:spPr>
          <a:xfrm rot="19478400">
            <a:off x="6149880" y="4867200"/>
            <a:ext cx="3305160" cy="32958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одготовительны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2852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Проверка техники чтения, собеседование по тексту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Анализ контрольных работ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Подбор педагогических кадров, составление учебного плана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Посещение уроков учителями-предметниками, анкетирование, согласование требований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Совещание классных руководителей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Собеседование с учителями русского языка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Изучение личных дел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Проведение родительских собраний в 4-х классах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Подготовка и проведение выпускного вечера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Динамическое наблюдение за самочувствием школьник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Оценка состояния здоровья и физического развития школьник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Адаптационны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2852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Заседание учителей-предметников, классных руководителей, творческой группы «Выработка единства требований в обучении»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Собеседование с классными руководителями по учебно-воспитательной концепции класса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Организация и проведение входных срезов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Посещение  уроков с целью изучения адаптационного периода: осмотр внешнего вида, тетрадей,  дневник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Подготовка и проведение дня открытых дверей для родителей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Педагогический совет «Итоги адаптации»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Проведение классных часов и родительских собраний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Итоговый педагогический совет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Психологические тренинг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Оценка физического состояния школьник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Picture 6" descr="http://sp.life123.com/bm.pix/art-pencils.s600x600.jpg"/>
          <p:cNvPicPr/>
          <p:nvPr/>
        </p:nvPicPr>
        <p:blipFill>
          <a:blip r:embed="rId1"/>
          <a:stretch/>
        </p:blipFill>
        <p:spPr>
          <a:xfrm rot="19478400">
            <a:off x="6149880" y="4867200"/>
            <a:ext cx="3305160" cy="3295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табилизационны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2852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 мере получения позитивных данных психолога, учителей, классных руководителе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2" name="Picture 11" descr="C:\Users\hyena\Desktop\paper-note-background.jpg"/>
          <p:cNvPicPr/>
          <p:nvPr/>
        </p:nvPicPr>
        <p:blipFill>
          <a:blip r:embed="rId1"/>
          <a:stretch/>
        </p:blipFill>
        <p:spPr>
          <a:xfrm rot="1354800">
            <a:off x="-1797120" y="5232240"/>
            <a:ext cx="5429160" cy="2514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ехнология проблемного диалог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4" name="Содержимое 8" descr="IMG_0096.JPG"/>
          <p:cNvPicPr/>
          <p:nvPr/>
        </p:nvPicPr>
        <p:blipFill>
          <a:blip r:embed="rId1"/>
          <a:stretch/>
        </p:blipFill>
        <p:spPr>
          <a:xfrm>
            <a:off x="628560" y="2090880"/>
            <a:ext cx="3962520" cy="4419360"/>
          </a:xfrm>
          <a:prstGeom prst="rect">
            <a:avLst/>
          </a:prstGeom>
          <a:ln w="0">
            <a:noFill/>
          </a:ln>
        </p:spPr>
      </p:pic>
      <p:pic>
        <p:nvPicPr>
          <p:cNvPr id="235" name="Содержимое 10" descr="IMG_0061.JPG"/>
          <p:cNvPicPr/>
          <p:nvPr/>
        </p:nvPicPr>
        <p:blipFill>
          <a:blip r:embed="rId2"/>
          <a:stretch/>
        </p:blipFill>
        <p:spPr>
          <a:xfrm>
            <a:off x="4724280" y="3664080"/>
            <a:ext cx="3938760" cy="4394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http://sp.life123.com/bm.pix/art-pencils.s600x600.jpg"/>
          <p:cNvPicPr/>
          <p:nvPr/>
        </p:nvPicPr>
        <p:blipFill>
          <a:blip r:embed="rId1"/>
          <a:stretch/>
        </p:blipFill>
        <p:spPr>
          <a:xfrm rot="19478400">
            <a:off x="6149880" y="4767120"/>
            <a:ext cx="3305160" cy="32958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Georgia"/>
              </a:rPr>
              <a:t>«Дети должны жить в мире красоты, игры, сказки, музыки, рисунка, фантазии, творчества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4517280" y="492912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.А.Сухомл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2:11:26Z</dcterms:created>
  <dc:creator>hyena</dc:creator>
  <dc:description/>
  <dc:language>en-US</dc:language>
  <cp:lastModifiedBy>Asus</cp:lastModifiedBy>
  <dcterms:modified xsi:type="dcterms:W3CDTF">2018-01-30T12:04:10Z</dcterms:modified>
  <cp:revision>116</cp:revision>
  <dc:subject/>
  <dc:title>Условия благополучного перехода школьника из начальной школы в основную</dc:title>
</cp:coreProperties>
</file>