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D034-8DAB-4899-BA91-57EB8F52012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6C7E-DA4D-467F-9111-C0D816DC9B4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B1E-D5A3-441F-AE33-37CBD64F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F01-CFDE-48E3-8F85-92EF1E53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320-C01D-4CEB-8BCB-5C242CE9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8A2-48A2-413D-9BB6-B08EBA9F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E859B-0591-481A-9E35-F676FE19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4BFCF-A81D-4274-98CB-D0AD1BAF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499F1-9883-4962-96CE-BE8978F9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D7A97-78EB-4B7A-AA4F-EE549D01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BFC19-DF5F-4A89-A3D9-15D36939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EC642-8868-40FC-ADA1-E0E5F3F7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123DA-6179-40D0-9F67-FF9380D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ADF-7927-46E3-B91B-0B23E3ED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2F1F3-6A84-45A0-AF09-4E1C9211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2A6DE-ABC6-492C-A1AE-D042B418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F4FC7-945E-40CF-A566-A57FECC2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ABC94-0AD0-4759-ACD1-C6B7D7E2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FB1C0-2AAA-4B09-8F66-AA7287E6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BD1-B674-4192-898F-8D5C659B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A9B-B4AC-4658-AB6A-1B3EA852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323-3F23-4B0D-A0D8-93F7C290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16A-C42D-438A-9158-E7A9DF05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591-5D0C-4413-91D9-3E42E0A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C08-A0DC-4CCE-8430-DE29861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99A-7697-4579-8E4F-C466EF71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E27C-86A9-4537-A886-3B6FB653B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C675-F0F3-45BE-9720-F6B4653029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6"/>
          <p:cNvSpPr/>
          <p:nvPr/>
        </p:nvSpPr>
        <p:spPr>
          <a:xfrm>
            <a:off x="714240" y="714240"/>
            <a:ext cx="73580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е игры и упражнения по теме «Звуковой анализ слов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русского языка и литературы МБОУ «ООШ № 49» г. Владивостока Милько Людмила Александровн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УПРАЖНЕНИЕ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на развитие фонематического восприя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жмите  уши руками, произнесите звуки: б – п, з – с, д – т. Если в ушах звенит, значит это звонкий соглас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е звенит – глухо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85680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Игра «Город звуков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дифференциация гласных и согласных (твёрдых и мягких, звонких и глух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ru-RU" sz="3100" spc="-1" strike="noStrike">
                <a:solidFill>
                  <a:srgbClr val="ffffff"/>
                </a:solidFill>
                <a:latin typeface="Tahoma"/>
              </a:rPr>
              <a:t>Однажды звуки потерялись…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100" spc="-1" strike="noStrike">
                <a:solidFill>
                  <a:srgbClr val="ffffff"/>
                </a:solidFill>
                <a:latin typeface="Tahoma"/>
              </a:rPr>
              <a:t>Поможем им добраться домой. Потерялся звук </a:t>
            </a:r>
            <a:r>
              <a:rPr b="0" i="1" lang="en-US" sz="31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i="1" lang="ru-RU" sz="31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i="1" lang="en-US" sz="31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i="1" lang="ru-RU" sz="3100" spc="-1" strike="noStrike">
                <a:solidFill>
                  <a:srgbClr val="ffffff"/>
                </a:solidFill>
                <a:latin typeface="Tahoma"/>
              </a:rPr>
              <a:t>. Куда ему идти? Потерялся звук </a:t>
            </a:r>
            <a:r>
              <a:rPr b="0" i="1" lang="en-US" sz="31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i="1" lang="ru-RU" sz="31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i="1" lang="en-US" sz="3100" spc="-1" strike="noStrike">
                <a:solidFill>
                  <a:srgbClr val="ffffff"/>
                </a:solidFill>
                <a:latin typeface="Tahoma"/>
              </a:rPr>
              <a:t>’]</a:t>
            </a:r>
            <a:r>
              <a:rPr b="0" i="1" lang="ru-RU" sz="3100" spc="-1" strike="noStrike">
                <a:solidFill>
                  <a:srgbClr val="ffffff"/>
                </a:solidFill>
                <a:latin typeface="Tahoma"/>
              </a:rPr>
              <a:t>. Куда ему идти? И т. д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C:\Documents and Settings\User\Рабочий стол\город букв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Сказка о Хитром зву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л-был 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Он любил важничать, потому что для него придумали отдельную букву. Но и этого ему было ма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 зву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]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ятаться за другие букв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, ё, ю, я. «Ведь ты же согласный,» - говорили ему. Но Хитрый звук продолжал прятаться за гласные. Когда его не видно, его называют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йот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обозначаю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i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Игра «Хитрый звук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развитие фонематического  слуха, навыков звукового анали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:\Documents and Settings\User\Рабочий стол\презентация\картинки\Image551.gif"/>
          <p:cNvPicPr/>
          <p:nvPr/>
        </p:nvPicPr>
        <p:blipFill>
          <a:blip r:embed="rId1"/>
          <a:stretch/>
        </p:blipFill>
        <p:spPr>
          <a:xfrm>
            <a:off x="6357960" y="642960"/>
            <a:ext cx="1928880" cy="20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Documents and Settings\User\Рабочий стол\img38.jpg"/>
          <p:cNvPicPr/>
          <p:nvPr/>
        </p:nvPicPr>
        <p:blipFill>
          <a:blip r:embed="rId2"/>
          <a:stretch/>
        </p:blipFill>
        <p:spPr>
          <a:xfrm>
            <a:off x="6357960" y="364320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C:\Documents and Settings\User\Рабочий стол\презентация\картинки\Image1214.jpg"/>
          <p:cNvPicPr/>
          <p:nvPr/>
        </p:nvPicPr>
        <p:blipFill>
          <a:blip r:embed="rId3"/>
          <a:stretch/>
        </p:blipFill>
        <p:spPr>
          <a:xfrm>
            <a:off x="571680" y="3714840"/>
            <a:ext cx="1971360" cy="2000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Documents and Settings\User\Рабочий стол\презентация\картинки\Image1266.jpg"/>
          <p:cNvPicPr/>
          <p:nvPr/>
        </p:nvPicPr>
        <p:blipFill>
          <a:blip r:embed="rId4"/>
          <a:stretch/>
        </p:blipFill>
        <p:spPr>
          <a:xfrm>
            <a:off x="3143160" y="642960"/>
            <a:ext cx="2428920" cy="20718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2"/>
          <p:cNvSpPr/>
          <p:nvPr/>
        </p:nvSpPr>
        <p:spPr>
          <a:xfrm>
            <a:off x="492912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15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23"/>
          <p:cNvSpPr/>
          <p:nvPr/>
        </p:nvSpPr>
        <p:spPr>
          <a:xfrm>
            <a:off x="3500280" y="3000240"/>
            <a:ext cx="35748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24"/>
          <p:cNvSpPr/>
          <p:nvPr/>
        </p:nvSpPr>
        <p:spPr>
          <a:xfrm>
            <a:off x="385776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оугольник 25"/>
          <p:cNvSpPr/>
          <p:nvPr/>
        </p:nvSpPr>
        <p:spPr>
          <a:xfrm>
            <a:off x="457200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15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оугольник 26"/>
          <p:cNvSpPr/>
          <p:nvPr/>
        </p:nvSpPr>
        <p:spPr>
          <a:xfrm>
            <a:off x="421488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27"/>
          <p:cNvSpPr/>
          <p:nvPr/>
        </p:nvSpPr>
        <p:spPr>
          <a:xfrm>
            <a:off x="650088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Прямоугольник 28"/>
          <p:cNvSpPr/>
          <p:nvPr/>
        </p:nvSpPr>
        <p:spPr>
          <a:xfrm>
            <a:off x="685800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Прямоугольник 29"/>
          <p:cNvSpPr/>
          <p:nvPr/>
        </p:nvSpPr>
        <p:spPr>
          <a:xfrm>
            <a:off x="721512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7572240" y="3000240"/>
            <a:ext cx="35748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Прямоугольник 31"/>
          <p:cNvSpPr/>
          <p:nvPr/>
        </p:nvSpPr>
        <p:spPr>
          <a:xfrm>
            <a:off x="792972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Прямоугольник 32"/>
          <p:cNvSpPr/>
          <p:nvPr/>
        </p:nvSpPr>
        <p:spPr>
          <a:xfrm>
            <a:off x="714240" y="600084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33"/>
          <p:cNvSpPr/>
          <p:nvPr/>
        </p:nvSpPr>
        <p:spPr>
          <a:xfrm>
            <a:off x="1071720" y="600084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4"/>
          <p:cNvSpPr/>
          <p:nvPr/>
        </p:nvSpPr>
        <p:spPr>
          <a:xfrm>
            <a:off x="1428840" y="600084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35"/>
          <p:cNvSpPr/>
          <p:nvPr/>
        </p:nvSpPr>
        <p:spPr>
          <a:xfrm>
            <a:off x="2143080" y="600084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36"/>
          <p:cNvSpPr/>
          <p:nvPr/>
        </p:nvSpPr>
        <p:spPr>
          <a:xfrm>
            <a:off x="1785960" y="600084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37"/>
          <p:cNvSpPr/>
          <p:nvPr/>
        </p:nvSpPr>
        <p:spPr>
          <a:xfrm>
            <a:off x="6357960" y="6072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Прямоугольник 38"/>
          <p:cNvSpPr/>
          <p:nvPr/>
        </p:nvSpPr>
        <p:spPr>
          <a:xfrm>
            <a:off x="6715080" y="6072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оугольник 39"/>
          <p:cNvSpPr/>
          <p:nvPr/>
        </p:nvSpPr>
        <p:spPr>
          <a:xfrm>
            <a:off x="7072200" y="607212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40"/>
          <p:cNvSpPr/>
          <p:nvPr/>
        </p:nvSpPr>
        <p:spPr>
          <a:xfrm>
            <a:off x="7429680" y="6072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Прямоугольник 41"/>
          <p:cNvSpPr/>
          <p:nvPr/>
        </p:nvSpPr>
        <p:spPr>
          <a:xfrm>
            <a:off x="7786800" y="6072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Овал 42"/>
          <p:cNvSpPr/>
          <p:nvPr/>
        </p:nvSpPr>
        <p:spPr>
          <a:xfrm>
            <a:off x="3929040" y="307188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Овал 43"/>
          <p:cNvSpPr/>
          <p:nvPr/>
        </p:nvSpPr>
        <p:spPr>
          <a:xfrm>
            <a:off x="6572160" y="3071880"/>
            <a:ext cx="21456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Овал 44"/>
          <p:cNvSpPr/>
          <p:nvPr/>
        </p:nvSpPr>
        <p:spPr>
          <a:xfrm>
            <a:off x="7500960" y="6143760"/>
            <a:ext cx="214200" cy="214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Овал 45"/>
          <p:cNvSpPr/>
          <p:nvPr/>
        </p:nvSpPr>
        <p:spPr>
          <a:xfrm>
            <a:off x="785880" y="6072120"/>
            <a:ext cx="214200" cy="21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9" descr="C:\Documents and Settings\User\Рабочий стол\презентация\картинки\Image1285.gif"/>
          <p:cNvPicPr/>
          <p:nvPr/>
        </p:nvPicPr>
        <p:blipFill>
          <a:blip r:embed="rId5"/>
          <a:stretch/>
        </p:blipFill>
        <p:spPr>
          <a:xfrm>
            <a:off x="3214800" y="3714840"/>
            <a:ext cx="2357280" cy="207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:\Documents and Settings\User\Рабочий стол\презентация\картинки\Image1269.gif"/>
          <p:cNvPicPr/>
          <p:nvPr/>
        </p:nvPicPr>
        <p:blipFill>
          <a:blip r:embed="rId6"/>
          <a:stretch/>
        </p:blipFill>
        <p:spPr>
          <a:xfrm>
            <a:off x="428760" y="642960"/>
            <a:ext cx="2071440" cy="21430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9"/>
          <p:cNvSpPr/>
          <p:nvPr/>
        </p:nvSpPr>
        <p:spPr>
          <a:xfrm>
            <a:off x="85716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Прямоугольник 50"/>
          <p:cNvSpPr/>
          <p:nvPr/>
        </p:nvSpPr>
        <p:spPr>
          <a:xfrm>
            <a:off x="1214280" y="3000240"/>
            <a:ext cx="35748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Прямоугольник 51"/>
          <p:cNvSpPr/>
          <p:nvPr/>
        </p:nvSpPr>
        <p:spPr>
          <a:xfrm>
            <a:off x="157176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52"/>
          <p:cNvSpPr/>
          <p:nvPr/>
        </p:nvSpPr>
        <p:spPr>
          <a:xfrm>
            <a:off x="1928880" y="300024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Прямоугольник 53"/>
          <p:cNvSpPr/>
          <p:nvPr/>
        </p:nvSpPr>
        <p:spPr>
          <a:xfrm>
            <a:off x="3786120" y="600084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Прямоугольник 54"/>
          <p:cNvSpPr/>
          <p:nvPr/>
        </p:nvSpPr>
        <p:spPr>
          <a:xfrm>
            <a:off x="4143240" y="600084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Прямоугольник 55"/>
          <p:cNvSpPr/>
          <p:nvPr/>
        </p:nvSpPr>
        <p:spPr>
          <a:xfrm>
            <a:off x="4500720" y="600084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1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16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16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CMNTY_01.MID" descr=""/>
          <p:cNvPicPr/>
          <p:nvPr/>
        </p:nvPicPr>
        <p:blipFill>
          <a:blip r:embed="rId1"/>
          <a:stretch/>
        </p:blipFill>
        <p:spPr>
          <a:xfrm>
            <a:off x="357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сные звуки</a:t>
            </a: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а  о  у  ы  и  э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857680"/>
            <a:ext cx="82296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роизнесении гласных  нам ничто не мешает: ни губы, ни зубы, ни язык. Воздух проходит свободно, не встречая прегр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сные ударные и безударны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ношение гласных зависит от места ударения в сло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дарение – выделение голосом одного из гласных звуков в слове: более длительное и отчётливое произнош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Игра «Назови ударный звук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развитие фонематического слуха, умения определять ударный глас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5560" y="2786040"/>
            <a:ext cx="500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28" descr="zeb1"/>
          <p:cNvPicPr/>
          <p:nvPr/>
        </p:nvPicPr>
        <p:blipFill>
          <a:blip r:embed="rId1"/>
          <a:stretch/>
        </p:blipFill>
        <p:spPr>
          <a:xfrm>
            <a:off x="500040" y="3714840"/>
            <a:ext cx="2214720" cy="200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owl"/>
          <p:cNvPicPr/>
          <p:nvPr/>
        </p:nvPicPr>
        <p:blipFill>
          <a:blip r:embed="rId2"/>
          <a:stretch/>
        </p:blipFill>
        <p:spPr>
          <a:xfrm>
            <a:off x="6143760" y="42876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торт"/>
          <p:cNvPicPr/>
          <p:nvPr/>
        </p:nvPicPr>
        <p:blipFill>
          <a:blip r:embed="rId3"/>
          <a:stretch/>
        </p:blipFill>
        <p:spPr>
          <a:xfrm>
            <a:off x="500040" y="500040"/>
            <a:ext cx="221472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торт"/>
          <p:cNvPicPr/>
          <p:nvPr/>
        </p:nvPicPr>
        <p:blipFill>
          <a:blip r:embed="rId4"/>
          <a:stretch/>
        </p:blipFill>
        <p:spPr>
          <a:xfrm>
            <a:off x="500040" y="1500120"/>
            <a:ext cx="2214720" cy="107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Documents and Settings\User\Рабочий стол\презентация\картинки\Image1043.gif"/>
          <p:cNvPicPr/>
          <p:nvPr/>
        </p:nvPicPr>
        <p:blipFill>
          <a:blip r:embed="rId5"/>
          <a:stretch/>
        </p:blipFill>
        <p:spPr>
          <a:xfrm>
            <a:off x="3286080" y="42876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Documents and Settings\User\Рабочий стол\презентация\картинки\Image1214.jpg"/>
          <p:cNvPicPr/>
          <p:nvPr/>
        </p:nvPicPr>
        <p:blipFill>
          <a:blip r:embed="rId6"/>
          <a:stretch/>
        </p:blipFill>
        <p:spPr>
          <a:xfrm>
            <a:off x="3357720" y="3714840"/>
            <a:ext cx="1971360" cy="200016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12"/>
          <p:cNvSpPr/>
          <p:nvPr/>
        </p:nvSpPr>
        <p:spPr>
          <a:xfrm>
            <a:off x="4071960" y="3000240"/>
            <a:ext cx="50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Заголовок 12"/>
          <p:cNvSpPr/>
          <p:nvPr/>
        </p:nvSpPr>
        <p:spPr>
          <a:xfrm>
            <a:off x="6643800" y="2928960"/>
            <a:ext cx="50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Заголовок 12"/>
          <p:cNvSpPr/>
          <p:nvPr/>
        </p:nvSpPr>
        <p:spPr>
          <a:xfrm>
            <a:off x="4000680" y="27860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Заголовок 12"/>
          <p:cNvSpPr/>
          <p:nvPr/>
        </p:nvSpPr>
        <p:spPr>
          <a:xfrm>
            <a:off x="7072200" y="278604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Заголовок 12"/>
          <p:cNvSpPr/>
          <p:nvPr/>
        </p:nvSpPr>
        <p:spPr>
          <a:xfrm>
            <a:off x="1357200" y="5929200"/>
            <a:ext cx="50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Заголовок 12"/>
          <p:cNvSpPr/>
          <p:nvPr/>
        </p:nvSpPr>
        <p:spPr>
          <a:xfrm>
            <a:off x="4143240" y="5929200"/>
            <a:ext cx="50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Заголовок 12"/>
          <p:cNvSpPr/>
          <p:nvPr/>
        </p:nvSpPr>
        <p:spPr>
          <a:xfrm>
            <a:off x="7072200" y="5857920"/>
            <a:ext cx="50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C:\Documents and Settings\User\Рабочий стол\презентация\картинки\Image1273.jpg"/>
          <p:cNvPicPr/>
          <p:nvPr/>
        </p:nvPicPr>
        <p:blipFill>
          <a:blip r:embed="rId7"/>
          <a:stretch/>
        </p:blipFill>
        <p:spPr>
          <a:xfrm>
            <a:off x="6215040" y="3714840"/>
            <a:ext cx="221472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гласные звук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произнесении согласных воздух встречает преграду, которую создают губы, зубы, язык, мягкое нёб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4296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3071880"/>
          <a:ext cx="9215280" cy="1584360"/>
        </p:xfrm>
        <a:graphic>
          <a:graphicData uri="http://schemas.openxmlformats.org/drawingml/2006/table">
            <a:tbl>
              <a:tblPr/>
              <a:tblGrid>
                <a:gridCol w="785880"/>
                <a:gridCol w="1500120"/>
                <a:gridCol w="357120"/>
                <a:gridCol w="500040"/>
                <a:gridCol w="571680"/>
                <a:gridCol w="3929040"/>
                <a:gridCol w="357120"/>
                <a:gridCol w="500040"/>
                <a:gridCol w="714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вёр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б  в </a:t>
                      </a:r>
                      <a:r>
                        <a:rPr b="1" lang="en-US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г 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л  м  н  п  р  с  т  ф</a:t>
                      </a:r>
                      <a:r>
                        <a:rPr b="1" lang="en-US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 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3d5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яг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 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 л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 н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 п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 р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 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 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 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r>
                        <a:rPr b="1" lang="en-US" sz="28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Прямоугольник 6"/>
          <p:cNvSpPr/>
          <p:nvPr/>
        </p:nvSpPr>
        <p:spPr>
          <a:xfrm>
            <a:off x="1500120" y="714240"/>
            <a:ext cx="611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ые зву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ёрдые и мягк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ая соединительная линия 35"/>
          <p:cNvSpPr/>
          <p:nvPr/>
        </p:nvSpPr>
        <p:spPr>
          <a:xfrm>
            <a:off x="1714680" y="4643280"/>
            <a:ext cx="914400" cy="914400"/>
          </a:xfrm>
          <a:prstGeom prst="line">
            <a:avLst/>
          </a:prstGeom>
          <a:ln w="9360">
            <a:solidFill>
              <a:srgbClr val="94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854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УПРАЖН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на развитие фонематического восприя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ройте глаза и произнесите зву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 – 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 б – 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Почувствуйте, что при произнесении твёрдых согласных язык спокоен, а при произнесении мягких – язык напрягается, приближается к зубам, поднимается к нёбу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убы также более напряжё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357120"/>
            <a:ext cx="82296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гласные звонкие и глух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Звонкие согласные состоят из голоса и шу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лухие – только из шу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2920" y="3786120"/>
          <a:ext cx="8786880" cy="2133720"/>
        </p:xfrm>
        <a:graphic>
          <a:graphicData uri="http://schemas.openxmlformats.org/drawingml/2006/table">
            <a:tbl>
              <a:tblPr/>
              <a:tblGrid>
                <a:gridCol w="842760"/>
                <a:gridCol w="703440"/>
                <a:gridCol w="633240"/>
                <a:gridCol w="631800"/>
                <a:gridCol w="546120"/>
                <a:gridCol w="500400"/>
                <a:gridCol w="571320"/>
                <a:gridCol w="500040"/>
                <a:gridCol w="571680"/>
                <a:gridCol w="571320"/>
                <a:gridCol w="500040"/>
                <a:gridCol w="571680"/>
                <a:gridCol w="500040"/>
                <a:gridCol w="500040"/>
                <a:gridCol w="642960"/>
              </a:tblGrid>
              <a:tr h="1556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 в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г г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д д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й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ж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з з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 л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 м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 н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 р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п п</a:t>
                      </a:r>
                      <a:r>
                        <a:rPr b="0" lang="en-US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ф ф</a:t>
                      </a:r>
                      <a:r>
                        <a:rPr b="0" lang="en-US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к к</a:t>
                      </a:r>
                      <a:r>
                        <a:rPr b="0" lang="en-US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т т</a:t>
                      </a:r>
                      <a:r>
                        <a:rPr b="0" lang="en-US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ш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с с</a:t>
                      </a:r>
                      <a:r>
                        <a:rPr b="0" lang="en-US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х х</a:t>
                      </a:r>
                      <a:r>
                        <a:rPr b="0" lang="en-US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ч</a:t>
                      </a:r>
                      <a:r>
                        <a:rPr b="0" lang="en-US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щ</a:t>
                      </a:r>
                      <a:r>
                        <a:rPr b="0" lang="en-US" sz="3200" spc="-1" strike="noStrike">
                          <a:solidFill>
                            <a:srgbClr val="780a1c"/>
                          </a:solidFill>
                          <a:latin typeface="Tahoma"/>
                        </a:rPr>
                        <a:t>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5:02:59Z</dcterms:created>
  <dc:creator>User</dc:creator>
  <dc:description/>
  <dc:language>en-US</dc:language>
  <cp:lastModifiedBy>шк№49</cp:lastModifiedBy>
  <dcterms:modified xsi:type="dcterms:W3CDTF">2018-01-30T02:29:34Z</dcterms:modified>
  <cp:revision>192</cp:revision>
  <dc:subject/>
  <dc:title>В интересном мире звуков</dc:title>
</cp:coreProperties>
</file>