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00FCB-A5FC-4C3C-B3FA-F6E0E8E68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8BB20-D7EC-4EBE-BE9F-B80AC581F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C0173-9F2C-43A7-ADEA-3D986D448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F2CEE-ADAC-42DB-BF28-50FD906CD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D3EF39-385E-4577-A31A-70AD4BC930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26ABEC-017A-48C8-BC35-8431E69C6E2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C2F0A9-74B4-4570-8773-FD127B7ADE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3AA00A-417F-4C7B-BC66-0D7285555A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D20765-9F8C-4DA6-9D17-5105254FA0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D8E8D1-D9B0-4284-883C-AB065526CE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FEAAE-390E-44C1-BAAE-03524709A1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3BA85-5759-493F-9BB9-D0C8ED273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27397-39F4-4CE7-9759-8D42631D2C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4DFB2C-9399-49A7-B094-31893FA700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5CA33C-CE7F-4E4D-A35E-DD67668BE5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8758C3-DB8B-445D-9144-3F07F9A517C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113342-1F1D-42E1-A8EE-8550C15274B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FECFB-8C39-4A63-8B11-67ED6D13F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8924A-E9AF-4C0C-9187-A5064DA67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DD155-FC20-46D6-81F4-8242B0878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E626E-3B75-4E78-98BE-7050A9733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D54F-BEC9-4A59-A555-65E82977A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474F-E7F5-4BB9-9398-7F404BE7A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2C26-1C4E-40BF-A50C-8855E6A59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9670-573A-4B7B-983F-B5B251DC09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60F7-3D82-4597-99C8-2B016E66A4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Живой символ Арктики</a:t>
            </a:r>
            <a:endParaRPr b="0" lang="en-US" sz="4400" spc="-1" strike="noStrike">
              <a:solidFill>
                <a:srgbClr val="ffffff"/>
              </a:solidFill>
              <a:latin typeface="Tahoma"/>
            </a:endParaRPr>
          </a:p>
        </p:txBody>
      </p:sp>
      <p:pic>
        <p:nvPicPr>
          <p:cNvPr id="83" name="" descr=""/>
          <p:cNvPicPr/>
          <p:nvPr/>
        </p:nvPicPr>
        <p:blipFill>
          <a:blip r:embed="rId2"/>
          <a:stretch/>
        </p:blipFill>
        <p:spPr>
          <a:xfrm>
            <a:off x="3132000" y="2565360"/>
            <a:ext cx="5832720" cy="410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fltVal val="0"/>
                                          </p:val>
                                        </p:tav>
                                        <p:tav tm="100000">
                                          <p:val>
                                            <p:strVal val="#ppt_w"/>
                                          </p:val>
                                        </p:tav>
                                      </p:tavLst>
                                    </p:anim>
                                    <p:anim calcmode="lin" valueType="num">
                                      <p:cBhvr additive="repl">
                                        <p:cTn id="8" dur="500" fill="hold"/>
                                        <p:tgtEl>
                                          <p:spTgt spid="82"/>
                                        </p:tgtEl>
                                        <p:attrNameLst>
                                          <p:attrName>ppt_h</p:attrName>
                                        </p:attrNameLst>
                                      </p:cBhvr>
                                      <p:tavLst>
                                        <p:tav tm="0">
                                          <p:val>
                                            <p:fltVal val="0"/>
                                          </p:val>
                                        </p:tav>
                                        <p:tav tm="100000">
                                          <p:val>
                                            <p:strVal val="#ppt_h"/>
                                          </p:val>
                                        </p:tav>
                                      </p:tavLst>
                                    </p:anim>
                                    <p:animEffect filter="fade" transition="in">
                                      <p:cBhvr additive="repl">
                                        <p:cTn id="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rPr>
              <a:t>Причины сокращения популяции</a:t>
            </a:r>
            <a:endParaRPr b="0" lang="en-US" sz="2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ложности с добычей пропитания усугубляются климатическими измениями на Земле. Вследствие потепления климата лед в заливах начинает таять раньше обычного, лето становится год от года все длиннее, зима - все мягче, а проблемы белых медведей становятся все острее. Лето, вообще, трудное время для белых медведей. Льда остается совсем мало и подобраться к тюленям почти невозможно. За последние 20 лет охотничий сезон белых медведей сократился на две-три недели. В результате снизился вес животных: если раньше самец весил около 1000 кг, то теперь, в среднем на 100 килограммов меньше. Похудели и самки. Это, в свою очередь, крайне отрицательно сказывается на воспроизведении популяции. Все чаще у самок рождается всего один медвежонок...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108000" y="404640"/>
            <a:ext cx="8785080" cy="619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ahoma"/>
              </a:rPr>
              <a:t> </a:t>
            </a:r>
            <a:r>
              <a:rPr b="1" lang="en-US" sz="2400" spc="-1" strike="noStrike">
                <a:solidFill>
                  <a:srgbClr val="ff0066"/>
                </a:solidFill>
                <a:latin typeface="Tahoma"/>
              </a:rPr>
              <a:t>Человек – убийца Белых медведей</a:t>
            </a:r>
            <a:r>
              <a:rPr b="0" lang="en-US" sz="2400" spc="-1" strike="noStrike">
                <a:solidFill>
                  <a:srgbClr val="ff0066"/>
                </a:solidFill>
                <a:latin typeface="Tahoma"/>
              </a:rPr>
              <a:t>.</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днако белые медведи страдают не только от потепления и сокращения охотничьего сезона. В недавнем прошлом белый медведь был важным объектом промысла. Мех и медвежьи лапы, являющиеся важнейшим компонентом популярных и дорогих восточных супов, толкали членов полярных экспедиций на безжалостное истребление этого красивого зверя. Прибыли от такого бизнеса настолько велики, что международный черный рынок продолжает процветать, несмотря на все попытки его пресечь. Борьба в этой области достигла такого же накала, как и борьба с контрабандой наркотиков.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азмножение</a:t>
            </a:r>
            <a:endParaRPr b="0" lang="en-US" sz="32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амки производят потомство каждые три года. Благодаря естественному отбору процесс беременности удивительным образом синхронизировался с периодом зимней спячки. В октябре или ноябре беременные медведицы уходят с морского льда и направляются на ближайшую сушу в поисках места для берлоги, где они растят свое потомство во время долгой полярной ночи. Достигнув суши, медведица долго ищет подходящее место, пока не выберет углубление или пещеру в сугробе старого снега. Постепенно метели заметают берлогу и заносят следы, выдающие ее местонахождение. Через несколько месяцев внутри снежной берлоги появляются крошечные медвежата размером не больше крысы. Новорожденные мишки, зарывшись в мех матери, сразу же ищут соски и начинают сосать. Когти медвежонка-младенца изогнуты и остры - это помогает ему держаться за мягкий мех на брюхе медведицы.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468360" y="333360"/>
            <a:ext cx="8496360" cy="619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Забота о потомстве</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Тем временем самка голодает, и ее вес падает почти в два раза. Но отправится на охоту она сможет только, когда ее дети подрастут и наберутся сил. Медвежатам нужно время, чтобы привыкнуть к арктической температуре после нескольких месяцев жизни в теплой от материнского тела берлоге. Через 2-3 месяца вес медвежат увеличивается в 4-5 раз, и семья начинает совершать короткие прогулки в непосредственной близости от жилища. Медведица знакомит медвежат с новой для них окружающей средой, учит навыкам охоты и проявляет удивительное терпение к резвым играм и любопытству медвежат. Заботы медведицы о медвежатах не прекращаются до тех пор, пока они не станут самостоятельными.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Заключение</a:t>
            </a:r>
            <a:endParaRPr b="0" lang="en-US" sz="28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оголовье белых мишек, оказавшееся на грани вымирания в 60-е годы, благодаря работе обществ по охране природы, постепенно восстанавливается. И сейчас в полярной области бродит около 20000 белых медведей, подлинных хозяев снежных полей и арктических льдов.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85" name="" descr=""/>
          <p:cNvPicPr/>
          <p:nvPr/>
        </p:nvPicPr>
        <p:blipFill>
          <a:blip r:embed="rId2"/>
          <a:stretch/>
        </p:blipFill>
        <p:spPr>
          <a:xfrm>
            <a:off x="457200" y="333360"/>
            <a:ext cx="8229600" cy="56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лан</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нешний вид</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ста обитания</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хота</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ичины сокращения популяции</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Человек – убийца Белых медведей</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Размножение</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Забота о потомстве</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Заключение</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1916280"/>
            <a:ext cx="82296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нешний вид</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елый медведь - самый крупный представитель земных хищников. Некоторые самцы имеют тело длиной до 3 метров и массу до тонны. Несмотря на такие размеры и кажущуюся неповоротливость, белые мишки даже на суше быстры и ловки, а в воде легко и далеко плавают. С поразительной ловкостью медведь передвигается по самым тяжелым льдам, проходя 30-40 км в день. При этом он легко преодолевает ляденые торосы почти 2-х метровой высоты. Огромная мощь столбообразных ног и размеры ступни позволяют медведю в случае надобности передвигаться по глубокому снегу быстрее, нежели любому другому полярному животном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171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188640"/>
            <a:ext cx="4402080" cy="5830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Полярный медведь обладает несравнимой устойчивостью к холоду. Его густой длинный мех состоит из полых в середине волосков, содержащих воздух. Многие млекопитающие имеют подобные защитные полые волосы - эффективное изоляционное средство, но те, что у медведя, имеют свои особенности. Мех белого медведя так хорошо сохраняет тепло, что его невозможно обнаружить воздушной инфракрасной съемкой. Отличную теплоизоляцию обеспечивает и подкожный слой жира, достигающий с наступлением зимы 10 см в толщину. Без него мишки вряд ли смогли бы проплывать по 80 км в ледяной арктической воде. </a:t>
            </a:r>
            <a:endParaRPr b="0" lang="en-US" sz="2000" spc="-1" strike="noStrike">
              <a:solidFill>
                <a:srgbClr val="ffffff"/>
              </a:solidFill>
              <a:latin typeface="Tahoma"/>
            </a:endParaRPr>
          </a:p>
        </p:txBody>
      </p:sp>
      <p:pic>
        <p:nvPicPr>
          <p:cNvPr id="93" name="" descr=""/>
          <p:cNvPicPr/>
          <p:nvPr/>
        </p:nvPicPr>
        <p:blipFill>
          <a:blip r:embed="rId2"/>
          <a:stretch/>
        </p:blipFill>
        <p:spPr>
          <a:xfrm>
            <a:off x="4643280" y="189000"/>
            <a:ext cx="432144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Места обитания</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Белых медведей можно встретить на российском побережье Северного Ледовитого океана, на севере Норвегии, в Гренландии, в Канаде, на Аляске. Кстати, белые медведи - единственные крупные хищники на Земле, которые до сих пор живут на своей исконной территории, в естественных условиях. В немалой степени благодаря тому, что в Арктике на дрейфующих льдах обитают тюлени, их излюбленная и основная пища. На каждого медведя приходится приблизительно 50 тюленей в год. Однако, охотится на тюленей не просто. Состояние льдов меняется год от года, и поведение тюленей непредсказуемо. Медведям приходится проходить тысячи километров в поисках лучших мест для охоты.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Охота</a:t>
            </a:r>
            <a:endParaRPr b="0" lang="en-US" sz="4400" spc="-1" strike="noStrike">
              <a:solidFill>
                <a:srgbClr val="ffffff"/>
              </a:solidFill>
              <a:latin typeface="Tahoma"/>
            </a:endParaRPr>
          </a:p>
        </p:txBody>
      </p:sp>
      <p:sp>
        <p:nvSpPr>
          <p:cNvPr id="97" name="PlaceHolder 2"/>
          <p:cNvSpPr>
            <a:spLocks noGrp="1"/>
          </p:cNvSpPr>
          <p:nvPr>
            <p:ph/>
          </p:nvPr>
        </p:nvSpPr>
        <p:spPr>
          <a:xfrm>
            <a:off x="457200" y="1487160"/>
            <a:ext cx="8229600" cy="46782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роме того, сама охота требует навыков и терпения. Медведь часами караулит тюленя у лунки, ожидая когда тот всплывет подышать воздухом. Он моментально наносит удар лапой по появившейся из воды голове морского зверя и тут же выбрасывает его на лед. В первую очередь хищник пожирает шкуру и сало, а остальную тушу - лишь в случае большого голода. Охотящегося на тюленя медведя обычно сопровождает один или несколько песцов, жаждущих воспользоваться остатками убитых животных. Белые мишки и сами не брезгают падалью, компенсируя таким образом недостаток тюленьего жира и мяса. Падаль хозяева ледяного царства способны учуять за несколько километров. И если вдруг кит, попав на мелководье, обсохнет и погибнет, тут же со всех сторон сбежится целая компания белых вечно голодных медведей.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847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99" name="" descr=""/>
          <p:cNvPicPr/>
          <p:nvPr/>
        </p:nvPicPr>
        <p:blipFill>
          <a:blip r:embed="rId2"/>
          <a:stretch/>
        </p:blipFill>
        <p:spPr>
          <a:xfrm>
            <a:off x="755640" y="549360"/>
            <a:ext cx="7704000" cy="590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14:58:50Z</dcterms:created>
  <dc:creator>1</dc:creator>
  <dc:description/>
  <dc:language>en-US</dc:language>
  <cp:lastModifiedBy>1</cp:lastModifiedBy>
  <dcterms:modified xsi:type="dcterms:W3CDTF">2012-11-05T15:11:13Z</dcterms:modified>
  <cp:revision>3</cp:revision>
  <dc:subject/>
  <dc:title>Живой символ Арктики</dc:title>
</cp:coreProperties>
</file>