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5CA-4894-4C34-B80B-6C0B72FC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904-9694-4BDD-BEC9-708679B6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A12-9843-40D5-A730-D188FDBB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4E5-07B8-4893-9E01-64310A58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246E-89BB-4383-B1D5-1D92E848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7A32-2CA3-4C55-9CD6-BBE81526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45BA-70D8-4B72-98ED-D46F2D59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45A6-24C0-4C2B-9BFC-C347DD74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3429-4414-4EF8-A855-D77FE961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8A8C-2A5B-4C1C-A979-6DFD1BD9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0BCE-C648-47E1-B03F-8C28459F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0C3-AD6E-4C2F-8E64-133D144B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0529-CF82-43C6-A058-2661404B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8CAE-AA5D-4538-9804-B54AD258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B846-76E4-476B-A778-8C0BE23E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30B1-1367-4C39-A242-10F0DCA7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3AC6-5858-48BC-BC6E-1F8387A6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CE22-8DC3-4C0F-B7CF-E0B30382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9E80F-D443-47D2-BAE0-F807919F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1E43-233F-47D0-BB45-DC0246C1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35C1A-A77B-430A-AE7A-50F8BF78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0999B-D304-4366-9CD9-B550502E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C82B-5559-427C-A7A5-E87C1A04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C520E-7182-4EDA-8B2B-566B012A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A7346-7153-4EC6-B5BC-B6C89CDC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A0865-76FF-400E-8C63-859F5CBD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A95D9-090F-4407-B7F4-98ADD13C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DB357-4B0F-41EC-9A05-6F7B6F98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0B863-2DFD-4440-B6B5-54D59B47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7BF20-10C1-415C-B0D1-8C934A05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458C9-CD3F-4EAD-A08B-9E3D212C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E81A2-7FF9-4C7E-9FD7-ABE99497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C6EBB-B457-42F0-B488-133D8D0C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C9F-445C-4132-8555-212093C2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A6F5E-C1C1-4396-A488-A981494F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E1B09-3165-4859-BB44-8120F866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3BCB4-B178-48CC-AA7F-F84D46AB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55651-A1D5-4BD5-82FA-3130153F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30BEB-8822-4C11-AD94-67F34F6E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F44FC-1FF4-4461-9D8B-6878A19D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F26DE-DAA5-4284-BFB8-AD36877F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66E06-57FF-4B2A-B215-C478BA90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54BFC-1522-44D6-B10E-9F674790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E84-8BEA-4DEE-B8A5-EE1B6F81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C01-B285-4C8B-B529-BE33DEB8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1FAD-98FC-407A-B612-C8A5D431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6B19-FFC7-4C8C-8F39-4F2F2E45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FA5-D656-41E9-BF49-7F15A751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9B10-E8F4-4918-824C-19AF86C2083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8E6C-2198-4D8A-9040-A8229AF7571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96A4-6A4B-464B-ACFD-D3913D75B4E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48C1-215E-4165-B302-483C2B8990D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826920" y="1784160"/>
            <a:ext cx="803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Calibri"/>
              </a:rPr>
              <a:t>Изобразительное творчество в опорных схемах и таблиц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609120" y="1052280"/>
            <a:ext cx="634860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4330c"/>
                </a:solidFill>
                <a:latin typeface="Trebuchet MS"/>
              </a:rPr>
              <a:t>Материал представлен в виде опорных схем, и таблиц. Они помогут структурировать обширный материал, устанавливать взаимосвязь между педагогикой, частными методиками и эстетикой, систематизировать и обобщать знания о содержании и методах обучения дошкольников изобразительной и конструктивной деятельности, рисованию, лепке, аппликаци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662472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74330c"/>
                </a:solidFill>
                <a:latin typeface="Trebuchet MS"/>
              </a:rPr>
              <a:t>Значение изобразительной деятельности и конструирования для всестороннего развития личности ребёнка – дошкольник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Рисунок 31" descr=""/>
          <p:cNvPicPr/>
          <p:nvPr/>
        </p:nvPicPr>
        <p:blipFill>
          <a:blip r:embed="rId1"/>
          <a:stretch/>
        </p:blipFill>
        <p:spPr>
          <a:xfrm>
            <a:off x="771480" y="1268280"/>
            <a:ext cx="558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5516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32313"/>
                </a:solidFill>
                <a:latin typeface="Trebuchet MS"/>
              </a:rPr>
              <a:t>Обучение детей дошкольного возраста проведению формообразующих лини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a5010"/>
                </a:solidFill>
                <a:latin typeface="Trebuchet MS"/>
              </a:rPr>
              <a:t>Рисование цветными карандашами, фломастерами.</a:t>
            </a: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42560" y="1773000"/>
            <a:ext cx="6348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ямые линии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а) вертикальные лини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б) вертикальные прямые лини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) вертикальные ограниченные линии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г) горизонтальные линии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д) горизонтальные ограниченные лини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пиралевидные линии;       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ерывистая (штрих) линия;    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ересекающиеся линии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.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аклонные линии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6.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круглые линии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7.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Ломаные линии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8.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олнистые линии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3910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32313"/>
                </a:solidFill>
                <a:latin typeface="Trebuchet MS"/>
              </a:rPr>
              <a:t>Элементы декоративного рисова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a5010"/>
                </a:solidFill>
                <a:latin typeface="Trebuchet MS"/>
              </a:rPr>
              <a:t>Младший дошкольный возраст</a:t>
            </a:r>
            <a:r>
              <a:rPr b="0" lang="ru-RU" sz="2000" spc="-1" strike="noStrike">
                <a:solidFill>
                  <a:srgbClr val="3f7819"/>
                </a:solidFill>
                <a:latin typeface="Trebuchet MS"/>
              </a:rPr>
              <a:t>.</a:t>
            </a:r>
            <a:br>
              <a:rPr sz="18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11280" y="1916280"/>
            <a:ext cx="634824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Тонкая линия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Толстая линия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Наклонная ли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Прерывистая линия (штрих, пунктир)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Пересекающиеся лин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Округлые лин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больш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точки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пиралевидные линии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155160"/>
            <a:ext cx="648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932313"/>
                </a:solidFill>
                <a:latin typeface="Trebuchet MS"/>
              </a:rPr>
              <a:t>Элементы декоративного рисования.</a:t>
            </a:r>
            <a:br>
              <a:rPr sz="2000"/>
            </a:br>
            <a:r>
              <a:rPr b="0" lang="ru-RU" sz="2000" spc="-1" strike="noStrike">
                <a:solidFill>
                  <a:srgbClr val="932313"/>
                </a:solidFill>
                <a:latin typeface="Trebuchet MS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3f7819"/>
                </a:solidFill>
                <a:latin typeface="Trebuchet MS"/>
              </a:rPr>
              <a:t>Средний дошкольный возраст.</a:t>
            </a:r>
            <a:br>
              <a:rPr sz="24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1. Округлые лин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гороше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2. Дугообразные прерывные лин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3. Дугообразные непрерывные лин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4. Волнистые лин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5. Ломаная ли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6. Пересекающиеся наклонные лин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55160"/>
            <a:ext cx="648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rebuchet MS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8360" y="1628280"/>
            <a:ext cx="74167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Материалы и оборудование занятий по изобразительной деятельности и конструированию в детском саду. (таблица 1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знакомление с искусством в детском саду по возрастам. (знания, умения, содержание занятий, конец года) (таблица 2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исование в деском саду. (таблица 3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ппликация. (таблица 4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Техника вырезывания (таблица 5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Лепка в детском саду (таблица 6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емы и способы лепки по возрастам. (таблица 7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2:04:25Z</dcterms:created>
  <dc:creator>Metodist</dc:creator>
  <dc:description/>
  <dc:language>en-US</dc:language>
  <cp:lastModifiedBy>RePack by Diakov</cp:lastModifiedBy>
  <dcterms:modified xsi:type="dcterms:W3CDTF">2018-01-31T04:37:12Z</dcterms:modified>
  <cp:revision>94</cp:revision>
  <dc:subject/>
  <dc:title>Слайд 1</dc:title>
</cp:coreProperties>
</file>