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5.png" ContentType="image/png"/>
  <Override PartName="/ppt/media/image24.png" ContentType="image/png"/>
  <Override PartName="/ppt/media/image3.png" ContentType="image/png"/>
  <Override PartName="/ppt/media/image26.png" ContentType="image/png"/>
  <Override PartName="/ppt/media/image27.png" ContentType="image/png"/>
  <Override PartName="/ppt/media/image4.png" ContentType="image/png"/>
  <Override PartName="/ppt/media/image6.png" ContentType="image/png"/>
  <Override PartName="/ppt/media/image31.png" ContentType="image/png"/>
  <Override PartName="/ppt/media/image7.png" ContentType="image/png"/>
  <Override PartName="/ppt/media/image12.png" ContentType="image/png"/>
  <Override PartName="/ppt/media/image8.wmf" ContentType="image/x-wmf"/>
  <Override PartName="/ppt/media/image13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11.png" ContentType="image/png"/>
  <Override PartName="/ppt/media/image9.jpeg" ContentType="image/jpeg"/>
  <Override PartName="/ppt/media/image29.png" ContentType="image/png"/>
  <Override PartName="/ppt/media/image2.wmf" ContentType="image/x-wmf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21BA5-28F6-4289-ABD5-36B467ECE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90523-4B2F-4AB9-8F16-F655F6AA8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C8088-578C-404D-9323-CEF6A125A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FA4B2-FC6E-46C6-BD24-1FBED12DE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E4206-2A06-4DAF-B501-262B64E9F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90FB4-38EA-4E27-ACC4-D433C20E6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9F6C0-2D39-47C4-BF77-C713F0FC4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35274-E827-4443-9538-C828A5E1E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13F29-B02C-41C6-8742-66DA43653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D60BB-22AF-4BDC-87C3-CE7E86658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F26F1-0AE4-4515-A083-40D0E4FAF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26F90-095C-4555-93B7-B2966FE66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70610-5C04-459B-B844-7574775B1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849F3-8749-4B0D-9806-428411696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8B6D7-F84A-4041-AF45-11C2D0AFF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E1A8C-A35C-45C5-B2FA-8B4D9B4BC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3BAD2-B019-4F9B-A554-C9E9BF480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7CC57-8872-43C2-B930-BC8FEBC35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B29EC-0C0A-45D8-9A5D-6B5560237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23733-C4B8-41D8-84BF-A26598C04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64E1D-91DB-4318-BEE8-EF8A9B0C5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44CE7-C102-4A33-AA83-39E98E67F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5D351-081E-4DE1-BF61-7D7863F98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B7D66-3F80-446A-AAA8-BA24A3702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51816-BA5B-4648-8AFD-736DE685804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0E7FC-3488-41E2-B449-B85F99499A6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250920" y="404640"/>
            <a:ext cx="2376360" cy="176076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6516720" y="4005360"/>
            <a:ext cx="2278080" cy="172548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1692360" y="1989000"/>
            <a:ext cx="6119640" cy="30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imes New Roman"/>
              </a:rPr>
              <a:t>КЛЕТОЧНАЯ ТЕОРИЯ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imes New Roman"/>
              </a:rPr>
              <a:t>ОСОБЕННОСТ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imes New Roman"/>
              </a:rPr>
              <a:t>СТРОЕНИЯ КЛЕТК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79280" y="5805360"/>
            <a:ext cx="360360" cy="289080"/>
          </a:xfrm>
          <a:prstGeom prst="ellipse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29920" y="5805360"/>
            <a:ext cx="6476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Тувинский государственный университет, естественно-географический факультет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79280" y="6165720"/>
            <a:ext cx="360360" cy="289080"/>
          </a:xfrm>
          <a:prstGeom prst="ellipse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13000" y="6164280"/>
            <a:ext cx="426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Оюн Шенне Михайловна студентка 5 курса 1 группы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66ccff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-360" y="1699920"/>
            <a:ext cx="442764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</a:rPr>
              <a:t>Клеточное ядро- это важнейшая часть клетки. Оно есть почти во всех клетках многоклеточных организмов. Клетки организмов, которые содержат ядро называют эукариотами. Клеточное ядро содержит ДНК- вещество наследственности, в котором зашифрованы все свойства клетк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"/>
          <p:cNvSpPr/>
          <p:nvPr/>
        </p:nvSpPr>
        <p:spPr>
          <a:xfrm>
            <a:off x="179280" y="333360"/>
            <a:ext cx="8713800" cy="1295280"/>
          </a:xfrm>
          <a:custGeom>
            <a:avLst/>
            <a:gdLst>
              <a:gd name="textAreaLeft" fmla="*/ 1089000 w 8713800"/>
              <a:gd name="textAreaRight" fmla="*/ 7624800 w 8713800"/>
              <a:gd name="textAreaTop" fmla="*/ 326880 h 1295280"/>
              <a:gd name="textAreaBottom" fmla="*/ 129564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4725" y="0"/>
                </a:lnTo>
                <a:arcTo wR="675" hR="1363" stAng="16200000" swAng="5400000"/>
                <a:lnTo>
                  <a:pt x="5400" y="5453"/>
                </a:lnTo>
                <a:lnTo>
                  <a:pt x="16200" y="5453"/>
                </a:lnTo>
                <a:lnTo>
                  <a:pt x="16200" y="1363"/>
                </a:lnTo>
                <a:arcTo wR="675" hR="1363" stAng="10800000" swAng="5400000"/>
                <a:lnTo>
                  <a:pt x="21600" y="0"/>
                </a:lnTo>
                <a:lnTo>
                  <a:pt x="18900" y="8074"/>
                </a:lnTo>
                <a:lnTo>
                  <a:pt x="21600" y="16147"/>
                </a:lnTo>
                <a:lnTo>
                  <a:pt x="18900" y="16147"/>
                </a:lnTo>
                <a:lnTo>
                  <a:pt x="18900" y="20237"/>
                </a:lnTo>
                <a:arcTo wR="675" hR="1363" stAng="0" swAng="5400000"/>
                <a:lnTo>
                  <a:pt x="3375" y="21600"/>
                </a:lnTo>
                <a:arcTo wR="675" hR="1363" stAng="5400000" swAng="5400000"/>
                <a:lnTo>
                  <a:pt x="2700" y="16147"/>
                </a:lnTo>
                <a:lnTo>
                  <a:pt x="0" y="16147"/>
                </a:lnTo>
                <a:lnTo>
                  <a:pt x="2700" y="8074"/>
                </a:lnTo>
                <a:close/>
              </a:path>
              <a:path fill="none" w="21600" h="21600">
                <a:moveTo>
                  <a:pt x="5400" y="1363"/>
                </a:moveTo>
                <a:arcTo wR="675" hR="1363" stAng="0" swAng="5400000"/>
                <a:lnTo>
                  <a:pt x="3375" y="2727"/>
                </a:lnTo>
                <a:arcTo wR="675" hR="1363" stAng="16200000" swAng="-5400000"/>
                <a:arcTo wR="675" hR="1363" stAng="10800000" swAng="-5400000"/>
                <a:lnTo>
                  <a:pt x="5400" y="5453"/>
                </a:lnTo>
              </a:path>
              <a:path fill="none" w="21600" h="21600">
                <a:moveTo>
                  <a:pt x="16200" y="1363"/>
                </a:moveTo>
                <a:arcTo wR="675" hR="1363" stAng="10800000" swAng="-5400000"/>
                <a:lnTo>
                  <a:pt x="18225" y="2727"/>
                </a:lnTo>
                <a:arcTo wR="675" hR="1363" stAng="16200000" swAng="5400000"/>
                <a:arcTo wR="675" hR="1363" stAng="0" swAng="5400000"/>
                <a:lnTo>
                  <a:pt x="16200" y="5453"/>
                </a:lnTo>
              </a:path>
              <a:path fill="none" w="21600" h="21600">
                <a:moveTo>
                  <a:pt x="2700" y="4090"/>
                </a:moveTo>
                <a:lnTo>
                  <a:pt x="2700" y="16147"/>
                </a:lnTo>
              </a:path>
              <a:path fill="none" w="21600" h="21600">
                <a:moveTo>
                  <a:pt x="18900" y="4090"/>
                </a:moveTo>
                <a:lnTo>
                  <a:pt x="18900" y="16147"/>
                </a:lnTo>
              </a:path>
            </a:pathLst>
          </a:custGeom>
          <a:gradFill rotWithShape="0">
            <a:gsLst>
              <a:gs pos="0">
                <a:srgbClr val="ff9900"/>
              </a:gs>
              <a:gs pos="50000">
                <a:srgbClr val="ffff00"/>
              </a:gs>
              <a:gs pos="100000">
                <a:srgbClr val="ff9900"/>
              </a:gs>
            </a:gsLst>
            <a:lin ang="5400000"/>
          </a:gra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800080"/>
                </a:solidFill>
                <a:uFillTx/>
                <a:latin typeface="Times New Roman"/>
              </a:rPr>
              <a:t>КЛЕТОЧНОЕ ЯДР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4427640" y="1700280"/>
            <a:ext cx="4457520" cy="279072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0" y="1676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179280" y="4581360"/>
          <a:ext cx="8785440" cy="2314800"/>
        </p:xfrm>
        <a:graphic>
          <a:graphicData uri="http://schemas.openxmlformats.org/drawingml/2006/table">
            <a:tbl>
              <a:tblPr/>
              <a:tblGrid>
                <a:gridCol w="1800360"/>
                <a:gridCol w="3278160"/>
                <a:gridCol w="3706920"/>
              </a:tblGrid>
              <a:tr h="4820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Структура ядр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Строение и состав структуры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Функции структуры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3834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Ядерная оболочк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Наружная и внутренняя мембран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Обмен веществ между ядром и цитоплазмо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Нуклеоплазм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Жидкое вещество, в его составе – белки , ферменты, нуклеиновые кислоты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Это внутренняя среда ядра – накопление веществ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834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Ядрышко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Содержит молекулы ДНК и белок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Синтез рибосомной РНК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Хроматин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Содержит хромосомы (см. цепь хранения наследственной информации, след.слайд) и белок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Содержит наследственную информацию, хранящуюся в молекулах ДНК (см. след.слайд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66ccff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394920" y="1699920"/>
            <a:ext cx="828036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ff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cc00ff"/>
                </a:solidFill>
                <a:latin typeface="Times New Roman"/>
              </a:rPr>
              <a:t>Схема строения наследственной информаци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"/>
          <p:cNvSpPr/>
          <p:nvPr/>
        </p:nvSpPr>
        <p:spPr>
          <a:xfrm>
            <a:off x="179280" y="333360"/>
            <a:ext cx="8713800" cy="1295280"/>
          </a:xfrm>
          <a:custGeom>
            <a:avLst/>
            <a:gdLst>
              <a:gd name="textAreaLeft" fmla="*/ 1089000 w 8713800"/>
              <a:gd name="textAreaRight" fmla="*/ 7624800 w 8713800"/>
              <a:gd name="textAreaTop" fmla="*/ 326880 h 1295280"/>
              <a:gd name="textAreaBottom" fmla="*/ 129564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4725" y="0"/>
                </a:lnTo>
                <a:arcTo wR="675" hR="1363" stAng="16200000" swAng="5400000"/>
                <a:lnTo>
                  <a:pt x="5400" y="5453"/>
                </a:lnTo>
                <a:lnTo>
                  <a:pt x="16200" y="5453"/>
                </a:lnTo>
                <a:lnTo>
                  <a:pt x="16200" y="1363"/>
                </a:lnTo>
                <a:arcTo wR="675" hR="1363" stAng="10800000" swAng="5400000"/>
                <a:lnTo>
                  <a:pt x="21600" y="0"/>
                </a:lnTo>
                <a:lnTo>
                  <a:pt x="18900" y="8074"/>
                </a:lnTo>
                <a:lnTo>
                  <a:pt x="21600" y="16147"/>
                </a:lnTo>
                <a:lnTo>
                  <a:pt x="18900" y="16147"/>
                </a:lnTo>
                <a:lnTo>
                  <a:pt x="18900" y="20237"/>
                </a:lnTo>
                <a:arcTo wR="675" hR="1363" stAng="0" swAng="5400000"/>
                <a:lnTo>
                  <a:pt x="3375" y="21600"/>
                </a:lnTo>
                <a:arcTo wR="675" hR="1363" stAng="5400000" swAng="5400000"/>
                <a:lnTo>
                  <a:pt x="2700" y="16147"/>
                </a:lnTo>
                <a:lnTo>
                  <a:pt x="0" y="16147"/>
                </a:lnTo>
                <a:lnTo>
                  <a:pt x="2700" y="8074"/>
                </a:lnTo>
                <a:close/>
              </a:path>
              <a:path fill="none" w="21600" h="21600">
                <a:moveTo>
                  <a:pt x="5400" y="1363"/>
                </a:moveTo>
                <a:arcTo wR="675" hR="1363" stAng="0" swAng="5400000"/>
                <a:lnTo>
                  <a:pt x="3375" y="2727"/>
                </a:lnTo>
                <a:arcTo wR="675" hR="1363" stAng="16200000" swAng="-5400000"/>
                <a:arcTo wR="675" hR="1363" stAng="10800000" swAng="-5400000"/>
                <a:lnTo>
                  <a:pt x="5400" y="5453"/>
                </a:lnTo>
              </a:path>
              <a:path fill="none" w="21600" h="21600">
                <a:moveTo>
                  <a:pt x="16200" y="1363"/>
                </a:moveTo>
                <a:arcTo wR="675" hR="1363" stAng="10800000" swAng="-5400000"/>
                <a:lnTo>
                  <a:pt x="18225" y="2727"/>
                </a:lnTo>
                <a:arcTo wR="675" hR="1363" stAng="16200000" swAng="5400000"/>
                <a:arcTo wR="675" hR="1363" stAng="0" swAng="5400000"/>
                <a:lnTo>
                  <a:pt x="16200" y="5453"/>
                </a:lnTo>
              </a:path>
              <a:path fill="none" w="21600" h="21600">
                <a:moveTo>
                  <a:pt x="2700" y="4090"/>
                </a:moveTo>
                <a:lnTo>
                  <a:pt x="2700" y="16147"/>
                </a:lnTo>
              </a:path>
              <a:path fill="none" w="21600" h="21600">
                <a:moveTo>
                  <a:pt x="18900" y="4090"/>
                </a:moveTo>
                <a:lnTo>
                  <a:pt x="18900" y="16147"/>
                </a:lnTo>
              </a:path>
            </a:pathLst>
          </a:custGeom>
          <a:gradFill rotWithShape="0">
            <a:gsLst>
              <a:gs pos="0">
                <a:srgbClr val="ff9900"/>
              </a:gs>
              <a:gs pos="50000">
                <a:srgbClr val="ffff00"/>
              </a:gs>
              <a:gs pos="100000">
                <a:srgbClr val="ff9900"/>
              </a:gs>
            </a:gsLst>
            <a:lin ang="5400000"/>
          </a:gra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800080"/>
                </a:solidFill>
                <a:uFillTx/>
                <a:latin typeface="Times New Roman"/>
              </a:rPr>
              <a:t>КЛЕТОЧНОЕ ЯДРО (продолжение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1676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1676520"/>
          <a:ext cx="182520" cy="258912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258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"/>
          <p:cNvSpPr/>
          <p:nvPr/>
        </p:nvSpPr>
        <p:spPr>
          <a:xfrm>
            <a:off x="179280" y="2349360"/>
            <a:ext cx="1224000" cy="719280"/>
          </a:xfrm>
          <a:prstGeom prst="rect">
            <a:avLst/>
          </a:prstGeom>
          <a:gradFill rotWithShape="0">
            <a:gsLst>
              <a:gs pos="0">
                <a:srgbClr val="00cc66"/>
              </a:gs>
              <a:gs pos="100000">
                <a:srgbClr val="99ff99"/>
              </a:gs>
            </a:gsLst>
            <a:lin ang="5400000"/>
          </a:gra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cc"/>
                </a:solidFill>
                <a:latin typeface="Times New Roman"/>
              </a:rPr>
              <a:t>Ядр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3640" y="2349360"/>
            <a:ext cx="1441440" cy="719280"/>
          </a:xfrm>
          <a:prstGeom prst="rect">
            <a:avLst/>
          </a:prstGeom>
          <a:gradFill rotWithShape="0">
            <a:gsLst>
              <a:gs pos="0">
                <a:srgbClr val="00cc66"/>
              </a:gs>
              <a:gs pos="100000">
                <a:srgbClr val="99ff99"/>
              </a:gs>
            </a:gsLst>
            <a:lin ang="5400000"/>
          </a:gra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cc"/>
                </a:solidFill>
                <a:latin typeface="Times New Roman"/>
              </a:rPr>
              <a:t>хромати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564000" y="2349360"/>
            <a:ext cx="1728720" cy="719280"/>
          </a:xfrm>
          <a:prstGeom prst="rect">
            <a:avLst/>
          </a:prstGeom>
          <a:gradFill rotWithShape="0">
            <a:gsLst>
              <a:gs pos="0">
                <a:srgbClr val="00cc66"/>
              </a:gs>
              <a:gs pos="100000">
                <a:srgbClr val="99ff99"/>
              </a:gs>
            </a:gsLst>
            <a:lin ang="5400000"/>
          </a:gra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cc"/>
                </a:solidFill>
                <a:latin typeface="Times New Roman"/>
              </a:rPr>
              <a:t>хромосом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00cc"/>
                </a:solidFill>
                <a:latin typeface="Times New Roman"/>
              </a:rPr>
              <a:t>(см след.слайд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651640" y="2349360"/>
            <a:ext cx="1368360" cy="719280"/>
          </a:xfrm>
          <a:prstGeom prst="rect">
            <a:avLst/>
          </a:prstGeom>
          <a:gradFill rotWithShape="0">
            <a:gsLst>
              <a:gs pos="0">
                <a:srgbClr val="00cc66"/>
              </a:gs>
              <a:gs pos="100000">
                <a:srgbClr val="99ff99"/>
              </a:gs>
            </a:gsLst>
            <a:lin ang="5400000"/>
          </a:gra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cc"/>
                </a:solidFill>
                <a:latin typeface="Times New Roman"/>
              </a:rPr>
              <a:t>молекул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cc"/>
                </a:solidFill>
                <a:latin typeface="Times New Roman"/>
              </a:rPr>
              <a:t>ДН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380360" y="2349360"/>
            <a:ext cx="1512720" cy="719280"/>
          </a:xfrm>
          <a:prstGeom prst="rect">
            <a:avLst/>
          </a:prstGeom>
          <a:gradFill rotWithShape="0">
            <a:gsLst>
              <a:gs pos="0">
                <a:srgbClr val="00cc66"/>
              </a:gs>
              <a:gs pos="100000">
                <a:srgbClr val="99ff99"/>
              </a:gs>
            </a:gsLst>
            <a:lin ang="5400000"/>
          </a:gra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cc"/>
                </a:solidFill>
                <a:latin typeface="Times New Roman"/>
              </a:rPr>
              <a:t>ген </a:t>
            </a:r>
            <a:r>
              <a:rPr b="0" lang="en-US" sz="2000" spc="-1" strike="noStrike">
                <a:solidFill>
                  <a:srgbClr val="9900cc"/>
                </a:solidFill>
                <a:latin typeface="Times New Roman"/>
              </a:rPr>
              <a:t>(участо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Times New Roman"/>
              </a:rPr>
              <a:t>ДНК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403280" y="2637000"/>
            <a:ext cx="360360" cy="144360"/>
          </a:xfrm>
          <a:prstGeom prst="rightArrow">
            <a:avLst>
              <a:gd name="adj1" fmla="val 50000"/>
              <a:gd name="adj2" fmla="val 62406"/>
            </a:avLst>
          </a:prstGeom>
          <a:solidFill>
            <a:srgbClr val="ffff00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3640" y="2637000"/>
            <a:ext cx="360360" cy="144360"/>
          </a:xfrm>
          <a:prstGeom prst="rightArrow">
            <a:avLst>
              <a:gd name="adj1" fmla="val 50000"/>
              <a:gd name="adj2" fmla="val 62406"/>
            </a:avLst>
          </a:prstGeom>
          <a:solidFill>
            <a:srgbClr val="ffff00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292720" y="2637000"/>
            <a:ext cx="360360" cy="144360"/>
          </a:xfrm>
          <a:prstGeom prst="rightArrow">
            <a:avLst>
              <a:gd name="adj1" fmla="val 50000"/>
              <a:gd name="adj2" fmla="val 62406"/>
            </a:avLst>
          </a:prstGeom>
          <a:solidFill>
            <a:srgbClr val="ffff00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020000" y="2637000"/>
            <a:ext cx="360360" cy="144360"/>
          </a:xfrm>
          <a:prstGeom prst="rightArrow">
            <a:avLst>
              <a:gd name="adj1" fmla="val 50000"/>
              <a:gd name="adj2" fmla="val 62406"/>
            </a:avLst>
          </a:prstGeom>
          <a:solidFill>
            <a:srgbClr val="ffff00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324000" y="3645000"/>
            <a:ext cx="8208720" cy="2808360"/>
            <a:chOff x="324000" y="3645000"/>
            <a:chExt cx="8208720" cy="2808360"/>
          </a:xfrm>
        </p:grpSpPr>
        <p:sp>
          <p:nvSpPr>
            <p:cNvPr id="176" name=""/>
            <p:cNvSpPr/>
            <p:nvPr/>
          </p:nvSpPr>
          <p:spPr>
            <a:xfrm>
              <a:off x="1835280" y="3645000"/>
              <a:ext cx="5257800" cy="936360"/>
            </a:xfrm>
            <a:custGeom>
              <a:avLst/>
              <a:gdLst>
                <a:gd name="textAreaLeft" fmla="*/ 1200240 w 5257800"/>
                <a:gd name="textAreaRight" fmla="*/ 4057560 w 5257800"/>
                <a:gd name="textAreaTop" fmla="*/ 213840 h 936360"/>
                <a:gd name="textAreaBottom" fmla="*/ 722520 h 93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900cc"/>
                  </a:solidFill>
                  <a:latin typeface="Tahoma"/>
                </a:rPr>
                <a:t>ФУНКЦИИ ЯДРА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24000" y="4653000"/>
              <a:ext cx="3168360" cy="1800360"/>
            </a:xfrm>
            <a:custGeom>
              <a:avLst/>
              <a:gdLst>
                <a:gd name="textAreaLeft" fmla="*/ 723240 w 3168360"/>
                <a:gd name="textAreaRight" fmla="*/ 2445120 w 3168360"/>
                <a:gd name="textAreaTop" fmla="*/ 410760 h 1800360"/>
                <a:gd name="textAreaBottom" fmla="*/ 1389600 h 180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562" y="11812"/>
                  </a:lnTo>
                  <a:lnTo>
                    <a:pt x="368" y="13595"/>
                  </a:lnTo>
                  <a:lnTo>
                    <a:pt x="3104" y="13909"/>
                  </a:lnTo>
                  <a:lnTo>
                    <a:pt x="1447" y="16200"/>
                  </a:lnTo>
                  <a:lnTo>
                    <a:pt x="4171" y="15795"/>
                  </a:lnTo>
                  <a:lnTo>
                    <a:pt x="3163" y="18437"/>
                  </a:lnTo>
                  <a:lnTo>
                    <a:pt x="5690" y="17340"/>
                  </a:lnTo>
                  <a:lnTo>
                    <a:pt x="5400" y="20153"/>
                  </a:lnTo>
                  <a:lnTo>
                    <a:pt x="7557" y="18440"/>
                  </a:lnTo>
                  <a:lnTo>
                    <a:pt x="8005" y="21232"/>
                  </a:lnTo>
                  <a:lnTo>
                    <a:pt x="9645" y="19019"/>
                  </a:lnTo>
                  <a:lnTo>
                    <a:pt x="10800" y="21600"/>
                  </a:lnTo>
                  <a:lnTo>
                    <a:pt x="11812" y="19038"/>
                  </a:lnTo>
                  <a:lnTo>
                    <a:pt x="13595" y="21232"/>
                  </a:lnTo>
                  <a:lnTo>
                    <a:pt x="13909" y="18496"/>
                  </a:lnTo>
                  <a:lnTo>
                    <a:pt x="16200" y="20153"/>
                  </a:lnTo>
                  <a:lnTo>
                    <a:pt x="15795" y="17429"/>
                  </a:lnTo>
                  <a:lnTo>
                    <a:pt x="18437" y="18437"/>
                  </a:lnTo>
                  <a:lnTo>
                    <a:pt x="17340" y="15910"/>
                  </a:lnTo>
                  <a:lnTo>
                    <a:pt x="20153" y="16200"/>
                  </a:lnTo>
                  <a:lnTo>
                    <a:pt x="18440" y="14043"/>
                  </a:lnTo>
                  <a:lnTo>
                    <a:pt x="21232" y="13595"/>
                  </a:lnTo>
                  <a:lnTo>
                    <a:pt x="19019" y="11955"/>
                  </a:lnTo>
                  <a:lnTo>
                    <a:pt x="21600" y="10800"/>
                  </a:lnTo>
                  <a:lnTo>
                    <a:pt x="19038" y="9788"/>
                  </a:lnTo>
                  <a:lnTo>
                    <a:pt x="21232" y="8005"/>
                  </a:lnTo>
                  <a:lnTo>
                    <a:pt x="18496" y="7691"/>
                  </a:lnTo>
                  <a:lnTo>
                    <a:pt x="20153" y="5400"/>
                  </a:lnTo>
                  <a:lnTo>
                    <a:pt x="17429" y="5805"/>
                  </a:lnTo>
                  <a:lnTo>
                    <a:pt x="18437" y="3163"/>
                  </a:lnTo>
                  <a:lnTo>
                    <a:pt x="15910" y="4260"/>
                  </a:lnTo>
                  <a:lnTo>
                    <a:pt x="16200" y="1447"/>
                  </a:lnTo>
                  <a:lnTo>
                    <a:pt x="14043" y="3160"/>
                  </a:lnTo>
                  <a:lnTo>
                    <a:pt x="13595" y="368"/>
                  </a:lnTo>
                  <a:lnTo>
                    <a:pt x="11955" y="2581"/>
                  </a:lnTo>
                  <a:lnTo>
                    <a:pt x="10800" y="0"/>
                  </a:lnTo>
                  <a:lnTo>
                    <a:pt x="9788" y="2562"/>
                  </a:lnTo>
                  <a:lnTo>
                    <a:pt x="8005" y="368"/>
                  </a:lnTo>
                  <a:lnTo>
                    <a:pt x="7691" y="3104"/>
                  </a:lnTo>
                  <a:lnTo>
                    <a:pt x="5400" y="1447"/>
                  </a:lnTo>
                  <a:lnTo>
                    <a:pt x="5805" y="4171"/>
                  </a:lnTo>
                  <a:lnTo>
                    <a:pt x="3163" y="3163"/>
                  </a:lnTo>
                  <a:lnTo>
                    <a:pt x="4260" y="5690"/>
                  </a:lnTo>
                  <a:lnTo>
                    <a:pt x="1447" y="5400"/>
                  </a:lnTo>
                  <a:lnTo>
                    <a:pt x="3160" y="7557"/>
                  </a:lnTo>
                  <a:lnTo>
                    <a:pt x="368" y="8005"/>
                  </a:lnTo>
                  <a:lnTo>
                    <a:pt x="2581" y="9645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99cc"/>
                </a:gs>
                <a:gs pos="50000">
                  <a:srgbClr val="ffffcc"/>
                </a:gs>
                <a:gs pos="100000">
                  <a:srgbClr val="ff99cc"/>
                </a:gs>
              </a:gsLst>
              <a:lin ang="5400000"/>
            </a:gradFill>
            <a:ln w="93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0808"/>
                  </a:solidFill>
                  <a:latin typeface="Times New Roman"/>
                </a:rPr>
                <a:t>Хранение наследственной информации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364000" y="4653000"/>
              <a:ext cx="3168720" cy="1800360"/>
            </a:xfrm>
            <a:custGeom>
              <a:avLst/>
              <a:gdLst>
                <a:gd name="textAreaLeft" fmla="*/ 723240 w 3168720"/>
                <a:gd name="textAreaRight" fmla="*/ 2445480 w 3168720"/>
                <a:gd name="textAreaTop" fmla="*/ 410760 h 1800360"/>
                <a:gd name="textAreaBottom" fmla="*/ 1389600 h 180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562" y="11812"/>
                  </a:lnTo>
                  <a:lnTo>
                    <a:pt x="368" y="13595"/>
                  </a:lnTo>
                  <a:lnTo>
                    <a:pt x="3104" y="13909"/>
                  </a:lnTo>
                  <a:lnTo>
                    <a:pt x="1447" y="16200"/>
                  </a:lnTo>
                  <a:lnTo>
                    <a:pt x="4171" y="15795"/>
                  </a:lnTo>
                  <a:lnTo>
                    <a:pt x="3163" y="18437"/>
                  </a:lnTo>
                  <a:lnTo>
                    <a:pt x="5690" y="17340"/>
                  </a:lnTo>
                  <a:lnTo>
                    <a:pt x="5400" y="20153"/>
                  </a:lnTo>
                  <a:lnTo>
                    <a:pt x="7557" y="18440"/>
                  </a:lnTo>
                  <a:lnTo>
                    <a:pt x="8005" y="21232"/>
                  </a:lnTo>
                  <a:lnTo>
                    <a:pt x="9645" y="19019"/>
                  </a:lnTo>
                  <a:lnTo>
                    <a:pt x="10800" y="21600"/>
                  </a:lnTo>
                  <a:lnTo>
                    <a:pt x="11812" y="19038"/>
                  </a:lnTo>
                  <a:lnTo>
                    <a:pt x="13595" y="21232"/>
                  </a:lnTo>
                  <a:lnTo>
                    <a:pt x="13909" y="18496"/>
                  </a:lnTo>
                  <a:lnTo>
                    <a:pt x="16200" y="20153"/>
                  </a:lnTo>
                  <a:lnTo>
                    <a:pt x="15795" y="17429"/>
                  </a:lnTo>
                  <a:lnTo>
                    <a:pt x="18437" y="18437"/>
                  </a:lnTo>
                  <a:lnTo>
                    <a:pt x="17340" y="15910"/>
                  </a:lnTo>
                  <a:lnTo>
                    <a:pt x="20153" y="16200"/>
                  </a:lnTo>
                  <a:lnTo>
                    <a:pt x="18440" y="14043"/>
                  </a:lnTo>
                  <a:lnTo>
                    <a:pt x="21232" y="13595"/>
                  </a:lnTo>
                  <a:lnTo>
                    <a:pt x="19019" y="11955"/>
                  </a:lnTo>
                  <a:lnTo>
                    <a:pt x="21600" y="10800"/>
                  </a:lnTo>
                  <a:lnTo>
                    <a:pt x="19038" y="9788"/>
                  </a:lnTo>
                  <a:lnTo>
                    <a:pt x="21232" y="8005"/>
                  </a:lnTo>
                  <a:lnTo>
                    <a:pt x="18496" y="7691"/>
                  </a:lnTo>
                  <a:lnTo>
                    <a:pt x="20153" y="5400"/>
                  </a:lnTo>
                  <a:lnTo>
                    <a:pt x="17429" y="5805"/>
                  </a:lnTo>
                  <a:lnTo>
                    <a:pt x="18437" y="3163"/>
                  </a:lnTo>
                  <a:lnTo>
                    <a:pt x="15910" y="4260"/>
                  </a:lnTo>
                  <a:lnTo>
                    <a:pt x="16200" y="1447"/>
                  </a:lnTo>
                  <a:lnTo>
                    <a:pt x="14043" y="3160"/>
                  </a:lnTo>
                  <a:lnTo>
                    <a:pt x="13595" y="368"/>
                  </a:lnTo>
                  <a:lnTo>
                    <a:pt x="11955" y="2581"/>
                  </a:lnTo>
                  <a:lnTo>
                    <a:pt x="10800" y="0"/>
                  </a:lnTo>
                  <a:lnTo>
                    <a:pt x="9788" y="2562"/>
                  </a:lnTo>
                  <a:lnTo>
                    <a:pt x="8005" y="368"/>
                  </a:lnTo>
                  <a:lnTo>
                    <a:pt x="7691" y="3104"/>
                  </a:lnTo>
                  <a:lnTo>
                    <a:pt x="5400" y="1447"/>
                  </a:lnTo>
                  <a:lnTo>
                    <a:pt x="5805" y="4171"/>
                  </a:lnTo>
                  <a:lnTo>
                    <a:pt x="3163" y="3163"/>
                  </a:lnTo>
                  <a:lnTo>
                    <a:pt x="4260" y="5690"/>
                  </a:lnTo>
                  <a:lnTo>
                    <a:pt x="1447" y="5400"/>
                  </a:lnTo>
                  <a:lnTo>
                    <a:pt x="3160" y="7557"/>
                  </a:lnTo>
                  <a:lnTo>
                    <a:pt x="368" y="8005"/>
                  </a:lnTo>
                  <a:lnTo>
                    <a:pt x="2581" y="9645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99cc"/>
                </a:gs>
                <a:gs pos="50000">
                  <a:srgbClr val="ffffcc"/>
                </a:gs>
                <a:gs pos="100000">
                  <a:srgbClr val="ff99cc"/>
                </a:gs>
              </a:gsLst>
              <a:lin ang="5400000"/>
            </a:gradFill>
            <a:ln w="93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0808"/>
                  </a:solidFill>
                  <a:latin typeface="Times New Roman"/>
                </a:rPr>
                <a:t>Регуляция обмена веществ в клетке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492360" y="4653000"/>
              <a:ext cx="2016360" cy="576360"/>
            </a:xfrm>
            <a:custGeom>
              <a:avLst/>
              <a:gdLst>
                <a:gd name="textAreaLeft" fmla="*/ 0 w 2016360"/>
                <a:gd name="textAreaRight" fmla="*/ 2016720 w 201636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00" y="0"/>
                  </a:moveTo>
                  <a:lnTo>
                    <a:pt x="14117" y="4355"/>
                  </a:lnTo>
                  <a:lnTo>
                    <a:pt x="12280" y="4355"/>
                  </a:lnTo>
                  <a:lnTo>
                    <a:pt x="12280" y="9320"/>
                  </a:lnTo>
                  <a:lnTo>
                    <a:pt x="17245" y="9320"/>
                  </a:lnTo>
                  <a:lnTo>
                    <a:pt x="17245" y="7483"/>
                  </a:lnTo>
                  <a:lnTo>
                    <a:pt x="21600" y="10800"/>
                  </a:lnTo>
                  <a:lnTo>
                    <a:pt x="17245" y="14117"/>
                  </a:lnTo>
                  <a:lnTo>
                    <a:pt x="17245" y="12280"/>
                  </a:lnTo>
                  <a:lnTo>
                    <a:pt x="4355" y="12280"/>
                  </a:lnTo>
                  <a:lnTo>
                    <a:pt x="4355" y="14117"/>
                  </a:lnTo>
                  <a:lnTo>
                    <a:pt x="0" y="10800"/>
                  </a:lnTo>
                  <a:lnTo>
                    <a:pt x="4355" y="7483"/>
                  </a:lnTo>
                  <a:lnTo>
                    <a:pt x="4355" y="9320"/>
                  </a:lnTo>
                  <a:lnTo>
                    <a:pt x="9320" y="9320"/>
                  </a:lnTo>
                  <a:lnTo>
                    <a:pt x="9320" y="4355"/>
                  </a:lnTo>
                  <a:lnTo>
                    <a:pt x="7483" y="4355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66ccff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4356000" y="907560"/>
            <a:ext cx="4788000" cy="25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00ff"/>
                </a:solidFill>
                <a:latin typeface="Times New Roman"/>
              </a:rPr>
              <a:t>       </a:t>
            </a:r>
            <a:r>
              <a:rPr b="0" lang="ru-RU" sz="1800" spc="-1" strike="noStrike">
                <a:solidFill>
                  <a:srgbClr val="080808"/>
                </a:solidFill>
                <a:latin typeface="Times New Roman"/>
              </a:rPr>
              <a:t>Хромосома состоит из двух хроматид и после деления ядра становится однохроматидной. К началу следующего деления у каждой хромосомы достраивается вторая хроматида. Хромосомы имеют первичную перетяжку, на которой расположена центромера; перетяжка делит хромосому на два плеча одинаковой или разной длины.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"/>
          <p:cNvSpPr/>
          <p:nvPr/>
        </p:nvSpPr>
        <p:spPr>
          <a:xfrm>
            <a:off x="250920" y="4076640"/>
            <a:ext cx="5761080" cy="23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Times New Roman"/>
              </a:rPr>
              <a:t>В зависимости от расположения перетяжки выделяют </a:t>
            </a:r>
            <a:r>
              <a:rPr b="0" lang="en-US" sz="2000" spc="-1" strike="noStrike" u="sng">
                <a:solidFill>
                  <a:srgbClr val="00cc00"/>
                </a:solidFill>
                <a:uFillTx/>
                <a:latin typeface="Times New Roman"/>
              </a:rPr>
              <a:t>три основных вида хромосом</a:t>
            </a:r>
            <a:r>
              <a:rPr b="0" lang="en-US" sz="2000" spc="-1" strike="noStrike">
                <a:solidFill>
                  <a:srgbClr val="9900cc"/>
                </a:solidFill>
                <a:latin typeface="Times New Roman"/>
              </a:rPr>
              <a:t>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Times New Roman"/>
              </a:rPr>
              <a:t>1) равноплечие — с плечами равной длины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Times New Roman"/>
              </a:rPr>
              <a:t>2) неравноплечие — с плечами неравной длины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Times New Roman"/>
              </a:rPr>
              <a:t>3) одноплечие (палочковидные) — с одним длинным и другим очень коротким, едва заметным плечо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979640" y="189000"/>
            <a:ext cx="50767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00ff"/>
                </a:solidFill>
                <a:uFillTx/>
                <a:latin typeface="Times New Roman"/>
              </a:rPr>
              <a:t>ХРОМОСОМ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179280" y="907920"/>
            <a:ext cx="4486320" cy="227664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179280" y="3213000"/>
            <a:ext cx="864072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80808"/>
                </a:solidFill>
                <a:latin typeface="Times New Roman"/>
              </a:rPr>
              <a:t>       </a:t>
            </a:r>
            <a:r>
              <a:rPr b="0" lang="ru-RU" sz="1600" spc="-1" strike="noStrike">
                <a:solidFill>
                  <a:srgbClr val="080808"/>
                </a:solidFill>
                <a:latin typeface="Times New Roman"/>
              </a:rPr>
              <a:t>Хроматиновые структуры — носители ДНК - ДНК состоит из участков — генов, несущих наследственную информацию и передающихся от предков к потомкам через половые клетки. В хромосомах синтезируются ДНК, РНК, что служит необходимым фактором передачи наследственной информации при делении клеток и построении молекул белка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8101080" y="4797360"/>
            <a:ext cx="503280" cy="112716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3"/>
          <a:stretch/>
        </p:blipFill>
        <p:spPr>
          <a:xfrm>
            <a:off x="7164360" y="4508640"/>
            <a:ext cx="838080" cy="1008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4"/>
          <a:stretch/>
        </p:blipFill>
        <p:spPr>
          <a:xfrm>
            <a:off x="6227640" y="4221000"/>
            <a:ext cx="887400" cy="9018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5292720" y="4869000"/>
            <a:ext cx="934920" cy="142560"/>
          </a:xfrm>
          <a:prstGeom prst="rightArrow">
            <a:avLst>
              <a:gd name="adj1" fmla="val 50000"/>
              <a:gd name="adj2" fmla="val 163952"/>
            </a:avLst>
          </a:prstGeom>
          <a:solidFill>
            <a:srgbClr val="ffff00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724360" y="5300640"/>
            <a:ext cx="1440000" cy="144360"/>
          </a:xfrm>
          <a:prstGeom prst="rightArrow">
            <a:avLst>
              <a:gd name="adj1" fmla="val 50000"/>
              <a:gd name="adj2" fmla="val 249377"/>
            </a:avLst>
          </a:prstGeom>
          <a:solidFill>
            <a:srgbClr val="ffff00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651640" y="5734080"/>
            <a:ext cx="2376360" cy="142920"/>
          </a:xfrm>
          <a:prstGeom prst="rightArrow">
            <a:avLst>
              <a:gd name="adj1" fmla="val 50000"/>
              <a:gd name="adj2" fmla="val 415680"/>
            </a:avLst>
          </a:prstGeom>
          <a:solidFill>
            <a:srgbClr val="ffff00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66ccff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0" y="1700280"/>
            <a:ext cx="4643280" cy="26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ff"/>
                </a:solidFill>
                <a:latin typeface="Times New Roman"/>
              </a:rPr>
              <a:t>      </a:t>
            </a:r>
            <a:r>
              <a:rPr b="0" lang="en-US" sz="2000" spc="-1" strike="noStrike" u="sng">
                <a:solidFill>
                  <a:srgbClr val="080808"/>
                </a:solidFill>
                <a:uFillTx/>
                <a:latin typeface="Times New Roman"/>
              </a:rPr>
              <a:t>Клеточный центр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</a:rPr>
              <a:t> состоит из двух центриолей (дочерняя, материнская). Каждая имеет цилиндрическую форму, стенки образованы девятью триплетами трубочек, а в середине находится однородное вещество. Центриоли расположены перпендикулярно друг к другу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"/>
          <p:cNvSpPr/>
          <p:nvPr/>
        </p:nvSpPr>
        <p:spPr>
          <a:xfrm>
            <a:off x="179280" y="333360"/>
            <a:ext cx="8713800" cy="1295280"/>
          </a:xfrm>
          <a:custGeom>
            <a:avLst/>
            <a:gdLst>
              <a:gd name="textAreaLeft" fmla="*/ 1089000 w 8713800"/>
              <a:gd name="textAreaRight" fmla="*/ 7624800 w 8713800"/>
              <a:gd name="textAreaTop" fmla="*/ 326880 h 1295280"/>
              <a:gd name="textAreaBottom" fmla="*/ 129564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4725" y="0"/>
                </a:lnTo>
                <a:arcTo wR="675" hR="1363" stAng="16200000" swAng="5400000"/>
                <a:lnTo>
                  <a:pt x="5400" y="5453"/>
                </a:lnTo>
                <a:lnTo>
                  <a:pt x="16200" y="5453"/>
                </a:lnTo>
                <a:lnTo>
                  <a:pt x="16200" y="1363"/>
                </a:lnTo>
                <a:arcTo wR="675" hR="1363" stAng="10800000" swAng="5400000"/>
                <a:lnTo>
                  <a:pt x="21600" y="0"/>
                </a:lnTo>
                <a:lnTo>
                  <a:pt x="18900" y="8074"/>
                </a:lnTo>
                <a:lnTo>
                  <a:pt x="21600" y="16147"/>
                </a:lnTo>
                <a:lnTo>
                  <a:pt x="18900" y="16147"/>
                </a:lnTo>
                <a:lnTo>
                  <a:pt x="18900" y="20237"/>
                </a:lnTo>
                <a:arcTo wR="675" hR="1363" stAng="0" swAng="5400000"/>
                <a:lnTo>
                  <a:pt x="3375" y="21600"/>
                </a:lnTo>
                <a:arcTo wR="675" hR="1363" stAng="5400000" swAng="5400000"/>
                <a:lnTo>
                  <a:pt x="2700" y="16147"/>
                </a:lnTo>
                <a:lnTo>
                  <a:pt x="0" y="16147"/>
                </a:lnTo>
                <a:lnTo>
                  <a:pt x="2700" y="8074"/>
                </a:lnTo>
                <a:close/>
              </a:path>
              <a:path fill="none" w="21600" h="21600">
                <a:moveTo>
                  <a:pt x="5400" y="1363"/>
                </a:moveTo>
                <a:arcTo wR="675" hR="1363" stAng="0" swAng="5400000"/>
                <a:lnTo>
                  <a:pt x="3375" y="2727"/>
                </a:lnTo>
                <a:arcTo wR="675" hR="1363" stAng="16200000" swAng="-5400000"/>
                <a:arcTo wR="675" hR="1363" stAng="10800000" swAng="-5400000"/>
                <a:lnTo>
                  <a:pt x="5400" y="5453"/>
                </a:lnTo>
              </a:path>
              <a:path fill="none" w="21600" h="21600">
                <a:moveTo>
                  <a:pt x="16200" y="1363"/>
                </a:moveTo>
                <a:arcTo wR="675" hR="1363" stAng="10800000" swAng="-5400000"/>
                <a:lnTo>
                  <a:pt x="18225" y="2727"/>
                </a:lnTo>
                <a:arcTo wR="675" hR="1363" stAng="16200000" swAng="5400000"/>
                <a:arcTo wR="675" hR="1363" stAng="0" swAng="5400000"/>
                <a:lnTo>
                  <a:pt x="16200" y="5453"/>
                </a:lnTo>
              </a:path>
              <a:path fill="none" w="21600" h="21600">
                <a:moveTo>
                  <a:pt x="2700" y="4090"/>
                </a:moveTo>
                <a:lnTo>
                  <a:pt x="2700" y="16147"/>
                </a:lnTo>
              </a:path>
              <a:path fill="none" w="21600" h="21600">
                <a:moveTo>
                  <a:pt x="18900" y="4090"/>
                </a:moveTo>
                <a:lnTo>
                  <a:pt x="18900" y="16147"/>
                </a:lnTo>
              </a:path>
            </a:pathLst>
          </a:custGeom>
          <a:gradFill rotWithShape="0">
            <a:gsLst>
              <a:gs pos="0">
                <a:srgbClr val="ff9900"/>
              </a:gs>
              <a:gs pos="50000">
                <a:srgbClr val="ffff00"/>
              </a:gs>
              <a:gs pos="100000">
                <a:srgbClr val="ff9900"/>
              </a:gs>
            </a:gsLst>
            <a:lin ang="5400000"/>
          </a:gra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800080"/>
                </a:solidFill>
                <a:uFillTx/>
                <a:latin typeface="Times New Roman"/>
              </a:rPr>
              <a:t>КЛЕТОЧНЫЙ ЦЕНТ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4716360" y="1695600"/>
            <a:ext cx="3911760" cy="271116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179280" y="5084640"/>
            <a:ext cx="1656000" cy="792360"/>
          </a:xfrm>
          <a:custGeom>
            <a:avLst/>
            <a:gdLst>
              <a:gd name="textAreaLeft" fmla="*/ 0 w 1656000"/>
              <a:gd name="textAreaRight" fmla="*/ 1656360 w 1656000"/>
              <a:gd name="textAreaTop" fmla="*/ 0 h 792360"/>
              <a:gd name="textAreaBottom" fmla="*/ 792720 h 79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50000">
                <a:srgbClr val="ff7c80"/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Times New Roman"/>
              </a:rPr>
              <a:t>ФУНКЦ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908000" y="4724280"/>
            <a:ext cx="2374920" cy="1511280"/>
          </a:xfrm>
          <a:custGeom>
            <a:avLst/>
            <a:gdLst>
              <a:gd name="textAreaLeft" fmla="*/ 0 w 2374920"/>
              <a:gd name="textAreaRight" fmla="*/ 2374920 w 2374920"/>
              <a:gd name="textAreaTop" fmla="*/ 0 h 1511280"/>
              <a:gd name="textAreaBottom" fmla="*/ 1511640 h 1511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6699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Участие в делении клеток животных и низших растен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4508640"/>
            <a:ext cx="4464000" cy="2016000"/>
          </a:xfrm>
          <a:prstGeom prst="roundRect">
            <a:avLst>
              <a:gd name="adj" fmla="val 16667"/>
            </a:avLst>
          </a:prstGeom>
          <a:solidFill>
            <a:srgbClr val="ff9999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80808"/>
                </a:solidFill>
                <a:latin typeface="Times New Roman"/>
              </a:rPr>
              <a:t>В начале деления ( в профазе) центроили расходятся к разным полюсам клетки. От центриолей к центромерам хромосом отходят нити веретена деления. В анафазе эти нити притягивают хроматиды к полюсам. После окончания деления центриоли остаются в дочерних клетках, удваиваются и образуют клеточный центр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66ccff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4427280" y="1700280"/>
            <a:ext cx="453708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</a:rPr>
              <a:t>РИБОСОМЫ – ультрамикроскопические органеллы округлой или грибовидной формы, состоящие из двух частей — субчастиц. Они не имеют мембранного строения и состоят из белка и РНК. Субчастицы образуются в ядрышке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"/>
          <p:cNvSpPr/>
          <p:nvPr/>
        </p:nvSpPr>
        <p:spPr>
          <a:xfrm>
            <a:off x="179280" y="333360"/>
            <a:ext cx="8713800" cy="1295280"/>
          </a:xfrm>
          <a:custGeom>
            <a:avLst/>
            <a:gdLst>
              <a:gd name="textAreaLeft" fmla="*/ 1089000 w 8713800"/>
              <a:gd name="textAreaRight" fmla="*/ 7624800 w 8713800"/>
              <a:gd name="textAreaTop" fmla="*/ 326880 h 1295280"/>
              <a:gd name="textAreaBottom" fmla="*/ 129564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4725" y="0"/>
                </a:lnTo>
                <a:arcTo wR="675" hR="1363" stAng="16200000" swAng="5400000"/>
                <a:lnTo>
                  <a:pt x="5400" y="5453"/>
                </a:lnTo>
                <a:lnTo>
                  <a:pt x="16200" y="5453"/>
                </a:lnTo>
                <a:lnTo>
                  <a:pt x="16200" y="1363"/>
                </a:lnTo>
                <a:arcTo wR="675" hR="1363" stAng="10800000" swAng="5400000"/>
                <a:lnTo>
                  <a:pt x="21600" y="0"/>
                </a:lnTo>
                <a:lnTo>
                  <a:pt x="18900" y="8074"/>
                </a:lnTo>
                <a:lnTo>
                  <a:pt x="21600" y="16147"/>
                </a:lnTo>
                <a:lnTo>
                  <a:pt x="18900" y="16147"/>
                </a:lnTo>
                <a:lnTo>
                  <a:pt x="18900" y="20237"/>
                </a:lnTo>
                <a:arcTo wR="675" hR="1363" stAng="0" swAng="5400000"/>
                <a:lnTo>
                  <a:pt x="3375" y="21600"/>
                </a:lnTo>
                <a:arcTo wR="675" hR="1363" stAng="5400000" swAng="5400000"/>
                <a:lnTo>
                  <a:pt x="2700" y="16147"/>
                </a:lnTo>
                <a:lnTo>
                  <a:pt x="0" y="16147"/>
                </a:lnTo>
                <a:lnTo>
                  <a:pt x="2700" y="8074"/>
                </a:lnTo>
                <a:close/>
              </a:path>
              <a:path fill="none" w="21600" h="21600">
                <a:moveTo>
                  <a:pt x="5400" y="1363"/>
                </a:moveTo>
                <a:arcTo wR="675" hR="1363" stAng="0" swAng="5400000"/>
                <a:lnTo>
                  <a:pt x="3375" y="2727"/>
                </a:lnTo>
                <a:arcTo wR="675" hR="1363" stAng="16200000" swAng="-5400000"/>
                <a:arcTo wR="675" hR="1363" stAng="10800000" swAng="-5400000"/>
                <a:lnTo>
                  <a:pt x="5400" y="5453"/>
                </a:lnTo>
              </a:path>
              <a:path fill="none" w="21600" h="21600">
                <a:moveTo>
                  <a:pt x="16200" y="1363"/>
                </a:moveTo>
                <a:arcTo wR="675" hR="1363" stAng="10800000" swAng="-5400000"/>
                <a:lnTo>
                  <a:pt x="18225" y="2727"/>
                </a:lnTo>
                <a:arcTo wR="675" hR="1363" stAng="16200000" swAng="5400000"/>
                <a:arcTo wR="675" hR="1363" stAng="0" swAng="5400000"/>
                <a:lnTo>
                  <a:pt x="16200" y="5453"/>
                </a:lnTo>
              </a:path>
              <a:path fill="none" w="21600" h="21600">
                <a:moveTo>
                  <a:pt x="2700" y="4090"/>
                </a:moveTo>
                <a:lnTo>
                  <a:pt x="2700" y="16147"/>
                </a:lnTo>
              </a:path>
              <a:path fill="none" w="21600" h="21600">
                <a:moveTo>
                  <a:pt x="18900" y="4090"/>
                </a:moveTo>
                <a:lnTo>
                  <a:pt x="18900" y="16147"/>
                </a:lnTo>
              </a:path>
            </a:pathLst>
          </a:custGeom>
          <a:gradFill rotWithShape="0">
            <a:gsLst>
              <a:gs pos="0">
                <a:srgbClr val="ff9900"/>
              </a:gs>
              <a:gs pos="50000">
                <a:srgbClr val="ffff00"/>
              </a:gs>
              <a:gs pos="100000">
                <a:srgbClr val="ff9900"/>
              </a:gs>
            </a:gsLst>
            <a:lin ang="5400000"/>
          </a:gra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800080"/>
                </a:solidFill>
                <a:uFillTx/>
                <a:latin typeface="Times New Roman"/>
              </a:rPr>
              <a:t>РИБОСОМ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427640" y="4365720"/>
            <a:ext cx="4537080" cy="21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</a:rPr>
              <a:t>Рибосомы - универсальные органеллы всех клеток животных и растений. Находятся в цитоплазме в свободном состоянии или на мембранах эндоплазматической сети; кроме того, содержатся в митохондриях и хлоропластах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2987640" y="1844640"/>
            <a:ext cx="1428840" cy="234324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468360" y="1844640"/>
            <a:ext cx="1512720" cy="503280"/>
          </a:xfrm>
          <a:prstGeom prst="rect">
            <a:avLst/>
          </a:prstGeom>
          <a:solidFill>
            <a:srgbClr val="00cc00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00cc"/>
                </a:solidFill>
                <a:latin typeface="Times New Roman"/>
              </a:rPr>
              <a:t>МАЛАЯ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00cc"/>
                </a:solidFill>
                <a:latin typeface="Times New Roman"/>
              </a:rPr>
              <a:t>СУБЧАСТИЦ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68360" y="3429000"/>
            <a:ext cx="1512720" cy="503280"/>
          </a:xfrm>
          <a:prstGeom prst="rect">
            <a:avLst/>
          </a:prstGeom>
          <a:solidFill>
            <a:srgbClr val="00cc00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00cc"/>
                </a:solidFill>
                <a:latin typeface="Times New Roman"/>
              </a:rPr>
              <a:t>БОЛЬШАЯ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00cc"/>
                </a:solidFill>
                <a:latin typeface="Times New Roman"/>
              </a:rPr>
              <a:t>СУБЧАСТИЦ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24000" y="2565360"/>
            <a:ext cx="1944360" cy="503280"/>
          </a:xfrm>
          <a:prstGeom prst="rect">
            <a:avLst/>
          </a:prstGeom>
          <a:solidFill>
            <a:srgbClr val="00cc00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00cc"/>
                </a:solidFill>
                <a:latin typeface="Times New Roman"/>
              </a:rPr>
              <a:t>ФУНКЦИОНАЛЬНЫЙ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00cc"/>
                </a:solidFill>
                <a:latin typeface="Times New Roman"/>
              </a:rPr>
              <a:t>ЦЕНТР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979640" y="2133720"/>
            <a:ext cx="1440000" cy="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oval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979640" y="3645000"/>
            <a:ext cx="1440000" cy="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oval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268360" y="2781360"/>
            <a:ext cx="1151280" cy="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oval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39640" y="5157720"/>
            <a:ext cx="3888000" cy="1224000"/>
          </a:xfrm>
          <a:prstGeom prst="ellipse">
            <a:avLst/>
          </a:prstGeom>
          <a:gradFill rotWithShape="0">
            <a:gsLst>
              <a:gs pos="0">
                <a:srgbClr val="cc99ff"/>
              </a:gs>
              <a:gs pos="50000">
                <a:srgbClr val="ffffcc"/>
              </a:gs>
              <a:gs pos="100000">
                <a:srgbClr val="cc99ff"/>
              </a:gs>
            </a:gsLst>
            <a:lin ang="5400000"/>
          </a:gra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Синтез белка в функциональном центр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042920" y="4508640"/>
            <a:ext cx="2952720" cy="649080"/>
          </a:xfrm>
          <a:prstGeom prst="downArrowCallout">
            <a:avLst>
              <a:gd name="adj1" fmla="val 113738"/>
              <a:gd name="adj2" fmla="val 113727"/>
              <a:gd name="adj3" fmla="val 16667"/>
              <a:gd name="adj4" fmla="val 66667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ФУНКЦ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66ccff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3276720" y="1700280"/>
            <a:ext cx="56880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</a:rPr>
              <a:t>Митохондрии - микроскопические органеллы, имеющие двухмембранное строение. Внешняя мембрана гладкая, внутренняя — образует различной формы выросты — кристы. В матриксе митохондрии (полужидком веществе) находятся ферменты, рибосомы, ДНК, РНК. Число митохондрий в одной клетке от единиц до нескольких тысяч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"/>
          <p:cNvSpPr/>
          <p:nvPr/>
        </p:nvSpPr>
        <p:spPr>
          <a:xfrm>
            <a:off x="179280" y="333360"/>
            <a:ext cx="8713800" cy="1295280"/>
          </a:xfrm>
          <a:custGeom>
            <a:avLst/>
            <a:gdLst>
              <a:gd name="textAreaLeft" fmla="*/ 1089000 w 8713800"/>
              <a:gd name="textAreaRight" fmla="*/ 7624800 w 8713800"/>
              <a:gd name="textAreaTop" fmla="*/ 326880 h 1295280"/>
              <a:gd name="textAreaBottom" fmla="*/ 129564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4725" y="0"/>
                </a:lnTo>
                <a:arcTo wR="675" hR="1363" stAng="16200000" swAng="5400000"/>
                <a:lnTo>
                  <a:pt x="5400" y="5453"/>
                </a:lnTo>
                <a:lnTo>
                  <a:pt x="16200" y="5453"/>
                </a:lnTo>
                <a:lnTo>
                  <a:pt x="16200" y="1363"/>
                </a:lnTo>
                <a:arcTo wR="675" hR="1363" stAng="10800000" swAng="5400000"/>
                <a:lnTo>
                  <a:pt x="21600" y="0"/>
                </a:lnTo>
                <a:lnTo>
                  <a:pt x="18900" y="8074"/>
                </a:lnTo>
                <a:lnTo>
                  <a:pt x="21600" y="16147"/>
                </a:lnTo>
                <a:lnTo>
                  <a:pt x="18900" y="16147"/>
                </a:lnTo>
                <a:lnTo>
                  <a:pt x="18900" y="20237"/>
                </a:lnTo>
                <a:arcTo wR="675" hR="1363" stAng="0" swAng="5400000"/>
                <a:lnTo>
                  <a:pt x="3375" y="21600"/>
                </a:lnTo>
                <a:arcTo wR="675" hR="1363" stAng="5400000" swAng="5400000"/>
                <a:lnTo>
                  <a:pt x="2700" y="16147"/>
                </a:lnTo>
                <a:lnTo>
                  <a:pt x="0" y="16147"/>
                </a:lnTo>
                <a:lnTo>
                  <a:pt x="2700" y="8074"/>
                </a:lnTo>
                <a:close/>
              </a:path>
              <a:path fill="none" w="21600" h="21600">
                <a:moveTo>
                  <a:pt x="5400" y="1363"/>
                </a:moveTo>
                <a:arcTo wR="675" hR="1363" stAng="0" swAng="5400000"/>
                <a:lnTo>
                  <a:pt x="3375" y="2727"/>
                </a:lnTo>
                <a:arcTo wR="675" hR="1363" stAng="16200000" swAng="-5400000"/>
                <a:arcTo wR="675" hR="1363" stAng="10800000" swAng="-5400000"/>
                <a:lnTo>
                  <a:pt x="5400" y="5453"/>
                </a:lnTo>
              </a:path>
              <a:path fill="none" w="21600" h="21600">
                <a:moveTo>
                  <a:pt x="16200" y="1363"/>
                </a:moveTo>
                <a:arcTo wR="675" hR="1363" stAng="10800000" swAng="-5400000"/>
                <a:lnTo>
                  <a:pt x="18225" y="2727"/>
                </a:lnTo>
                <a:arcTo wR="675" hR="1363" stAng="16200000" swAng="5400000"/>
                <a:arcTo wR="675" hR="1363" stAng="0" swAng="5400000"/>
                <a:lnTo>
                  <a:pt x="16200" y="5453"/>
                </a:lnTo>
              </a:path>
              <a:path fill="none" w="21600" h="21600">
                <a:moveTo>
                  <a:pt x="2700" y="4090"/>
                </a:moveTo>
                <a:lnTo>
                  <a:pt x="2700" y="16147"/>
                </a:lnTo>
              </a:path>
              <a:path fill="none" w="21600" h="21600">
                <a:moveTo>
                  <a:pt x="18900" y="4090"/>
                </a:moveTo>
                <a:lnTo>
                  <a:pt x="18900" y="16147"/>
                </a:lnTo>
              </a:path>
            </a:pathLst>
          </a:custGeom>
          <a:gradFill rotWithShape="0">
            <a:gsLst>
              <a:gs pos="0">
                <a:srgbClr val="ff9900"/>
              </a:gs>
              <a:gs pos="50000">
                <a:srgbClr val="ffff00"/>
              </a:gs>
              <a:gs pos="100000">
                <a:srgbClr val="ff9900"/>
              </a:gs>
            </a:gsLst>
            <a:lin ang="5400000"/>
          </a:gra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800080"/>
                </a:solidFill>
                <a:uFillTx/>
                <a:latin typeface="Times New Roman"/>
              </a:rPr>
              <a:t>МИТОХОНДР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11280" y="4941720"/>
            <a:ext cx="8893080" cy="17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511920" indent="-51192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Times New Roman"/>
              </a:rPr>
              <a:t>Митохондрия - универсальная органелла, являющаяся дыхательным и</a:t>
            </a:r>
            <a:br>
              <a:rPr sz="1800"/>
            </a:br>
            <a:r>
              <a:rPr b="0" lang="ru-RU" sz="1800" spc="-1" strike="noStrike">
                <a:solidFill>
                  <a:srgbClr val="000099"/>
                </a:solidFill>
                <a:latin typeface="Times New Roman"/>
              </a:rPr>
              <a:t>энергетическим центро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11920" indent="-51192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Times New Roman"/>
              </a:rPr>
              <a:t>В процессе кислородного (окислительного) этапа диссимиляции в</a:t>
            </a:r>
            <a:br>
              <a:rPr sz="1800"/>
            </a:br>
            <a:r>
              <a:rPr b="0" lang="ru-RU" sz="1800" spc="-1" strike="noStrike">
                <a:solidFill>
                  <a:srgbClr val="000099"/>
                </a:solidFill>
                <a:latin typeface="Times New Roman"/>
              </a:rPr>
              <a:t>матриксе с помощью ферментов происходит расщепление органических</a:t>
            </a:r>
            <a:br>
              <a:rPr sz="1800"/>
            </a:br>
            <a:r>
              <a:rPr b="0" lang="ru-RU" sz="1800" spc="-1" strike="noStrike">
                <a:solidFill>
                  <a:srgbClr val="000099"/>
                </a:solidFill>
                <a:latin typeface="Times New Roman"/>
              </a:rPr>
              <a:t>веществ с освобождением энергии, которая идет на синтез АТФ (на</a:t>
            </a:r>
            <a:br>
              <a:rPr sz="1800"/>
            </a:br>
            <a:r>
              <a:rPr b="0" lang="ru-RU" sz="1800" spc="-1" strike="noStrike">
                <a:solidFill>
                  <a:srgbClr val="000099"/>
                </a:solidFill>
                <a:latin typeface="Times New Roman"/>
              </a:rPr>
              <a:t>кристах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324000" y="1916280"/>
            <a:ext cx="3240000" cy="198252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1042920" y="4292640"/>
            <a:ext cx="6842160" cy="720720"/>
          </a:xfrm>
          <a:custGeom>
            <a:avLst/>
            <a:gdLst>
              <a:gd name="textAreaLeft" fmla="*/ 1562040 w 6842160"/>
              <a:gd name="textAreaRight" fmla="*/ 5280120 w 6842160"/>
              <a:gd name="textAreaTop" fmla="*/ 164520 h 720720"/>
              <a:gd name="textAreaBottom" fmla="*/ 5562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800080"/>
            </a:solidFill>
            <a:miter/>
          </a:ln>
          <a:effectLst>
            <a:outerShdw dist="153753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66"/>
                </a:solidFill>
                <a:latin typeface="Times New Roman"/>
              </a:rPr>
              <a:t>Функции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660066"/>
                </a:solidFill>
                <a:latin typeface="Times New Roman"/>
              </a:rPr>
              <a:t>митохондр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66ccff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179280" y="1700280"/>
            <a:ext cx="5184720" cy="26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</a:rPr>
              <a:t>В клетках растений и простейших аппарат Гольджи представлен отдельными тельцами серповидной или палочковидной формы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</a:rPr>
              <a:t>В состав аппарата Гольджи входят: полости, ограниченные мембранами и расположенные группами (по 5-10), а также крупные и мелкие пузырьки, расположенные на концах полостей. Все эти элементы составляют единый комплекс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"/>
          <p:cNvSpPr/>
          <p:nvPr/>
        </p:nvSpPr>
        <p:spPr>
          <a:xfrm>
            <a:off x="179280" y="333360"/>
            <a:ext cx="8713800" cy="1295280"/>
          </a:xfrm>
          <a:custGeom>
            <a:avLst/>
            <a:gdLst>
              <a:gd name="textAreaLeft" fmla="*/ 1089000 w 8713800"/>
              <a:gd name="textAreaRight" fmla="*/ 7624800 w 8713800"/>
              <a:gd name="textAreaTop" fmla="*/ 326880 h 1295280"/>
              <a:gd name="textAreaBottom" fmla="*/ 129564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4725" y="0"/>
                </a:lnTo>
                <a:arcTo wR="675" hR="1363" stAng="16200000" swAng="5400000"/>
                <a:lnTo>
                  <a:pt x="5400" y="5453"/>
                </a:lnTo>
                <a:lnTo>
                  <a:pt x="16200" y="5453"/>
                </a:lnTo>
                <a:lnTo>
                  <a:pt x="16200" y="1363"/>
                </a:lnTo>
                <a:arcTo wR="675" hR="1363" stAng="10800000" swAng="5400000"/>
                <a:lnTo>
                  <a:pt x="21600" y="0"/>
                </a:lnTo>
                <a:lnTo>
                  <a:pt x="18900" y="8074"/>
                </a:lnTo>
                <a:lnTo>
                  <a:pt x="21600" y="16147"/>
                </a:lnTo>
                <a:lnTo>
                  <a:pt x="18900" y="16147"/>
                </a:lnTo>
                <a:lnTo>
                  <a:pt x="18900" y="20237"/>
                </a:lnTo>
                <a:arcTo wR="675" hR="1363" stAng="0" swAng="5400000"/>
                <a:lnTo>
                  <a:pt x="3375" y="21600"/>
                </a:lnTo>
                <a:arcTo wR="675" hR="1363" stAng="5400000" swAng="5400000"/>
                <a:lnTo>
                  <a:pt x="2700" y="16147"/>
                </a:lnTo>
                <a:lnTo>
                  <a:pt x="0" y="16147"/>
                </a:lnTo>
                <a:lnTo>
                  <a:pt x="2700" y="8074"/>
                </a:lnTo>
                <a:close/>
              </a:path>
              <a:path fill="none" w="21600" h="21600">
                <a:moveTo>
                  <a:pt x="5400" y="1363"/>
                </a:moveTo>
                <a:arcTo wR="675" hR="1363" stAng="0" swAng="5400000"/>
                <a:lnTo>
                  <a:pt x="3375" y="2727"/>
                </a:lnTo>
                <a:arcTo wR="675" hR="1363" stAng="16200000" swAng="-5400000"/>
                <a:arcTo wR="675" hR="1363" stAng="10800000" swAng="-5400000"/>
                <a:lnTo>
                  <a:pt x="5400" y="5453"/>
                </a:lnTo>
              </a:path>
              <a:path fill="none" w="21600" h="21600">
                <a:moveTo>
                  <a:pt x="16200" y="1363"/>
                </a:moveTo>
                <a:arcTo wR="675" hR="1363" stAng="10800000" swAng="-5400000"/>
                <a:lnTo>
                  <a:pt x="18225" y="2727"/>
                </a:lnTo>
                <a:arcTo wR="675" hR="1363" stAng="16200000" swAng="5400000"/>
                <a:arcTo wR="675" hR="1363" stAng="0" swAng="5400000"/>
                <a:lnTo>
                  <a:pt x="16200" y="5453"/>
                </a:lnTo>
              </a:path>
              <a:path fill="none" w="21600" h="21600">
                <a:moveTo>
                  <a:pt x="2700" y="4090"/>
                </a:moveTo>
                <a:lnTo>
                  <a:pt x="2700" y="16147"/>
                </a:lnTo>
              </a:path>
              <a:path fill="none" w="21600" h="21600">
                <a:moveTo>
                  <a:pt x="18900" y="4090"/>
                </a:moveTo>
                <a:lnTo>
                  <a:pt x="18900" y="16147"/>
                </a:lnTo>
              </a:path>
            </a:pathLst>
          </a:custGeom>
          <a:gradFill rotWithShape="0">
            <a:gsLst>
              <a:gs pos="0">
                <a:srgbClr val="ff9900"/>
              </a:gs>
              <a:gs pos="50000">
                <a:srgbClr val="ffff00"/>
              </a:gs>
              <a:gs pos="100000">
                <a:srgbClr val="ff9900"/>
              </a:gs>
            </a:gsLst>
            <a:lin ang="5400000"/>
          </a:gra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800080"/>
                </a:solidFill>
                <a:uFillTx/>
                <a:latin typeface="Times New Roman"/>
              </a:rPr>
              <a:t>АППАРАТ ГОЛЬДЖ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5508720" y="1773360"/>
            <a:ext cx="3381120" cy="244764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971640" y="4508640"/>
            <a:ext cx="7272360" cy="2233440"/>
          </a:xfrm>
          <a:prstGeom prst="flowChartMultidocumen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66"/>
                </a:solidFill>
                <a:latin typeface="Tahoma"/>
              </a:rPr>
              <a:t>                                  </a:t>
            </a:r>
            <a:r>
              <a:rPr b="0" lang="en-US" sz="1800" spc="-1" strike="noStrike">
                <a:solidFill>
                  <a:srgbClr val="660066"/>
                </a:solidFill>
                <a:latin typeface="Tahoma"/>
              </a:rPr>
              <a:t>ФУНКЦИИ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Накопление и транспорт веществ, химическая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модернизац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Образование лизосо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интез липидов и углеводов на стенках мембран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66ccff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178920" y="1699920"/>
            <a:ext cx="424836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imes New Roman"/>
              </a:rPr>
              <a:t>Пластиды - это энергетические станции растительной клетк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imes New Roman"/>
              </a:rPr>
              <a:t>Пластиды могут превращаться из одного вида в друго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"/>
          <p:cNvSpPr/>
          <p:nvPr/>
        </p:nvSpPr>
        <p:spPr>
          <a:xfrm>
            <a:off x="179280" y="333360"/>
            <a:ext cx="8713800" cy="1295280"/>
          </a:xfrm>
          <a:custGeom>
            <a:avLst/>
            <a:gdLst>
              <a:gd name="textAreaLeft" fmla="*/ 1089000 w 8713800"/>
              <a:gd name="textAreaRight" fmla="*/ 7624800 w 8713800"/>
              <a:gd name="textAreaTop" fmla="*/ 326880 h 1295280"/>
              <a:gd name="textAreaBottom" fmla="*/ 129564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4725" y="0"/>
                </a:lnTo>
                <a:arcTo wR="675" hR="1363" stAng="16200000" swAng="5400000"/>
                <a:lnTo>
                  <a:pt x="5400" y="5453"/>
                </a:lnTo>
                <a:lnTo>
                  <a:pt x="16200" y="5453"/>
                </a:lnTo>
                <a:lnTo>
                  <a:pt x="16200" y="1363"/>
                </a:lnTo>
                <a:arcTo wR="675" hR="1363" stAng="10800000" swAng="5400000"/>
                <a:lnTo>
                  <a:pt x="21600" y="0"/>
                </a:lnTo>
                <a:lnTo>
                  <a:pt x="18900" y="8074"/>
                </a:lnTo>
                <a:lnTo>
                  <a:pt x="21600" y="16147"/>
                </a:lnTo>
                <a:lnTo>
                  <a:pt x="18900" y="16147"/>
                </a:lnTo>
                <a:lnTo>
                  <a:pt x="18900" y="20237"/>
                </a:lnTo>
                <a:arcTo wR="675" hR="1363" stAng="0" swAng="5400000"/>
                <a:lnTo>
                  <a:pt x="3375" y="21600"/>
                </a:lnTo>
                <a:arcTo wR="675" hR="1363" stAng="5400000" swAng="5400000"/>
                <a:lnTo>
                  <a:pt x="2700" y="16147"/>
                </a:lnTo>
                <a:lnTo>
                  <a:pt x="0" y="16147"/>
                </a:lnTo>
                <a:lnTo>
                  <a:pt x="2700" y="8074"/>
                </a:lnTo>
                <a:close/>
              </a:path>
              <a:path fill="none" w="21600" h="21600">
                <a:moveTo>
                  <a:pt x="5400" y="1363"/>
                </a:moveTo>
                <a:arcTo wR="675" hR="1363" stAng="0" swAng="5400000"/>
                <a:lnTo>
                  <a:pt x="3375" y="2727"/>
                </a:lnTo>
                <a:arcTo wR="675" hR="1363" stAng="16200000" swAng="-5400000"/>
                <a:arcTo wR="675" hR="1363" stAng="10800000" swAng="-5400000"/>
                <a:lnTo>
                  <a:pt x="5400" y="5453"/>
                </a:lnTo>
              </a:path>
              <a:path fill="none" w="21600" h="21600">
                <a:moveTo>
                  <a:pt x="16200" y="1363"/>
                </a:moveTo>
                <a:arcTo wR="675" hR="1363" stAng="10800000" swAng="-5400000"/>
                <a:lnTo>
                  <a:pt x="18225" y="2727"/>
                </a:lnTo>
                <a:arcTo wR="675" hR="1363" stAng="16200000" swAng="5400000"/>
                <a:arcTo wR="675" hR="1363" stAng="0" swAng="5400000"/>
                <a:lnTo>
                  <a:pt x="16200" y="5453"/>
                </a:lnTo>
              </a:path>
              <a:path fill="none" w="21600" h="21600">
                <a:moveTo>
                  <a:pt x="2700" y="4090"/>
                </a:moveTo>
                <a:lnTo>
                  <a:pt x="2700" y="16147"/>
                </a:lnTo>
              </a:path>
              <a:path fill="none" w="21600" h="21600">
                <a:moveTo>
                  <a:pt x="18900" y="4090"/>
                </a:moveTo>
                <a:lnTo>
                  <a:pt x="18900" y="16147"/>
                </a:lnTo>
              </a:path>
            </a:pathLst>
          </a:custGeom>
          <a:gradFill rotWithShape="0">
            <a:gsLst>
              <a:gs pos="0">
                <a:srgbClr val="ff9900"/>
              </a:gs>
              <a:gs pos="50000">
                <a:srgbClr val="ffff00"/>
              </a:gs>
              <a:gs pos="100000">
                <a:srgbClr val="ff9900"/>
              </a:gs>
            </a:gsLst>
            <a:lin ang="5400000"/>
          </a:gra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800080"/>
                </a:solidFill>
                <a:uFillTx/>
                <a:latin typeface="Times New Roman"/>
              </a:rPr>
              <a:t>ПЛАСТИД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4572000" y="1700280"/>
            <a:ext cx="4300560" cy="2530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1" name=""/>
          <p:cNvGraphicFramePr/>
          <p:nvPr/>
        </p:nvGraphicFramePr>
        <p:xfrm>
          <a:off x="250920" y="4724280"/>
          <a:ext cx="8569080" cy="1917720"/>
        </p:xfrm>
        <a:graphic>
          <a:graphicData uri="http://schemas.openxmlformats.org/drawingml/2006/table">
            <a:tbl>
              <a:tblPr/>
              <a:tblGrid>
                <a:gridCol w="1555560"/>
                <a:gridCol w="2333880"/>
                <a:gridCol w="2259000"/>
                <a:gridCol w="2420640"/>
              </a:tblGrid>
              <a:tr h="378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Вид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Хлоропласт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Хромопласт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Лейкопласт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Цве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Зелёны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Жёлтый, оранжевый или красны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Бесцветны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</a:tr>
              <a:tr h="378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Пегмен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Пигмент хлорофилл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Пигмент ест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Пигмента не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Функц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Создание органических веществ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Придают окраску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Место отложения питательных веществ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2" name=""/>
          <p:cNvSpPr/>
          <p:nvPr/>
        </p:nvSpPr>
        <p:spPr>
          <a:xfrm>
            <a:off x="250920" y="4365720"/>
            <a:ext cx="8569080" cy="28728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Характеристика видов пластид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66ccff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4140000" y="1700280"/>
            <a:ext cx="482436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Лизосомы - микроскопические одномембранные органеллы округлой формы Их число зависит от жизнедеятельности клетки и ее физиологического состояния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Лизосома - это пищеварительная вакуоль, внутри которой находятся растворяющие ферменты. В случае голодания клетки перевариваются некоторые органоиды. В случае разрушения мембраны лизосомы, клетка переваривает сама себя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"/>
          <p:cNvSpPr/>
          <p:nvPr/>
        </p:nvSpPr>
        <p:spPr>
          <a:xfrm>
            <a:off x="179280" y="333360"/>
            <a:ext cx="8713800" cy="1295280"/>
          </a:xfrm>
          <a:custGeom>
            <a:avLst/>
            <a:gdLst>
              <a:gd name="textAreaLeft" fmla="*/ 1089000 w 8713800"/>
              <a:gd name="textAreaRight" fmla="*/ 7624800 w 8713800"/>
              <a:gd name="textAreaTop" fmla="*/ 326880 h 1295280"/>
              <a:gd name="textAreaBottom" fmla="*/ 129564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4725" y="0"/>
                </a:lnTo>
                <a:arcTo wR="675" hR="1363" stAng="16200000" swAng="5400000"/>
                <a:lnTo>
                  <a:pt x="5400" y="5453"/>
                </a:lnTo>
                <a:lnTo>
                  <a:pt x="16200" y="5453"/>
                </a:lnTo>
                <a:lnTo>
                  <a:pt x="16200" y="1363"/>
                </a:lnTo>
                <a:arcTo wR="675" hR="1363" stAng="10800000" swAng="5400000"/>
                <a:lnTo>
                  <a:pt x="21600" y="0"/>
                </a:lnTo>
                <a:lnTo>
                  <a:pt x="18900" y="8074"/>
                </a:lnTo>
                <a:lnTo>
                  <a:pt x="21600" y="16147"/>
                </a:lnTo>
                <a:lnTo>
                  <a:pt x="18900" y="16147"/>
                </a:lnTo>
                <a:lnTo>
                  <a:pt x="18900" y="20237"/>
                </a:lnTo>
                <a:arcTo wR="675" hR="1363" stAng="0" swAng="5400000"/>
                <a:lnTo>
                  <a:pt x="3375" y="21600"/>
                </a:lnTo>
                <a:arcTo wR="675" hR="1363" stAng="5400000" swAng="5400000"/>
                <a:lnTo>
                  <a:pt x="2700" y="16147"/>
                </a:lnTo>
                <a:lnTo>
                  <a:pt x="0" y="16147"/>
                </a:lnTo>
                <a:lnTo>
                  <a:pt x="2700" y="8074"/>
                </a:lnTo>
                <a:close/>
              </a:path>
              <a:path fill="none" w="21600" h="21600">
                <a:moveTo>
                  <a:pt x="5400" y="1363"/>
                </a:moveTo>
                <a:arcTo wR="675" hR="1363" stAng="0" swAng="5400000"/>
                <a:lnTo>
                  <a:pt x="3375" y="2727"/>
                </a:lnTo>
                <a:arcTo wR="675" hR="1363" stAng="16200000" swAng="-5400000"/>
                <a:arcTo wR="675" hR="1363" stAng="10800000" swAng="-5400000"/>
                <a:lnTo>
                  <a:pt x="5400" y="5453"/>
                </a:lnTo>
              </a:path>
              <a:path fill="none" w="21600" h="21600">
                <a:moveTo>
                  <a:pt x="16200" y="1363"/>
                </a:moveTo>
                <a:arcTo wR="675" hR="1363" stAng="10800000" swAng="-5400000"/>
                <a:lnTo>
                  <a:pt x="18225" y="2727"/>
                </a:lnTo>
                <a:arcTo wR="675" hR="1363" stAng="16200000" swAng="5400000"/>
                <a:arcTo wR="675" hR="1363" stAng="0" swAng="5400000"/>
                <a:lnTo>
                  <a:pt x="16200" y="5453"/>
                </a:lnTo>
              </a:path>
              <a:path fill="none" w="21600" h="21600">
                <a:moveTo>
                  <a:pt x="2700" y="4090"/>
                </a:moveTo>
                <a:lnTo>
                  <a:pt x="2700" y="16147"/>
                </a:lnTo>
              </a:path>
              <a:path fill="none" w="21600" h="21600">
                <a:moveTo>
                  <a:pt x="18900" y="4090"/>
                </a:moveTo>
                <a:lnTo>
                  <a:pt x="18900" y="16147"/>
                </a:lnTo>
              </a:path>
            </a:pathLst>
          </a:custGeom>
          <a:gradFill rotWithShape="0">
            <a:gsLst>
              <a:gs pos="0">
                <a:srgbClr val="ff9900"/>
              </a:gs>
              <a:gs pos="50000">
                <a:srgbClr val="ffff00"/>
              </a:gs>
              <a:gs pos="100000">
                <a:srgbClr val="ff9900"/>
              </a:gs>
            </a:gsLst>
            <a:lin ang="5400000"/>
          </a:gra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800080"/>
                </a:solidFill>
                <a:uFillTx/>
                <a:latin typeface="Times New Roman"/>
              </a:rPr>
              <a:t>ЛИЗОСОМ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1692360" y="1989000"/>
            <a:ext cx="2381040" cy="234324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179280" y="2421000"/>
            <a:ext cx="1513080" cy="28728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</a:rPr>
              <a:t>МЕМБРАН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79280" y="3789360"/>
            <a:ext cx="1513080" cy="28728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</a:rPr>
              <a:t>ФЕРМЕНТЫ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39640" y="4581360"/>
            <a:ext cx="7848720" cy="208764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80808"/>
                </a:solidFill>
                <a:uFillTx/>
                <a:latin typeface="Times New Roman"/>
              </a:rPr>
              <a:t>ФУНКЦ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80808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80808"/>
                </a:solidFill>
                <a:latin typeface="Times New Roman"/>
              </a:rPr>
              <a:t>  </a:t>
            </a:r>
            <a:r>
              <a:rPr b="1" lang="ru-RU" sz="1600" spc="-1" strike="noStrike">
                <a:solidFill>
                  <a:srgbClr val="080808"/>
                </a:solidFill>
                <a:latin typeface="Times New Roman"/>
              </a:rPr>
              <a:t>Защитная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80808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80808"/>
                </a:solidFill>
                <a:latin typeface="Times New Roman"/>
              </a:rPr>
              <a:t>  </a:t>
            </a:r>
            <a:r>
              <a:rPr b="1" lang="ru-RU" sz="1600" spc="-1" strike="noStrike">
                <a:solidFill>
                  <a:srgbClr val="080808"/>
                </a:solidFill>
                <a:latin typeface="Times New Roman"/>
              </a:rPr>
              <a:t>Гетерофагическая: участие в обработке чужеродных веществ, поступающих   в клетку при пиноцитозе и фагоцитозе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80808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80808"/>
                </a:solidFill>
                <a:latin typeface="Times New Roman"/>
              </a:rPr>
              <a:t>  </a:t>
            </a:r>
            <a:r>
              <a:rPr b="1" lang="ru-RU" sz="1600" spc="-1" strike="noStrike">
                <a:solidFill>
                  <a:srgbClr val="080808"/>
                </a:solidFill>
                <a:latin typeface="Times New Roman"/>
              </a:rPr>
              <a:t>Участие во внутриклеточном переваривани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80808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80808"/>
                </a:solidFill>
                <a:latin typeface="Times New Roman"/>
              </a:rPr>
              <a:t>  </a:t>
            </a:r>
            <a:r>
              <a:rPr b="1" lang="ru-RU" sz="1600" spc="-1" strike="noStrike">
                <a:solidFill>
                  <a:srgbClr val="080808"/>
                </a:solidFill>
                <a:latin typeface="Times New Roman"/>
              </a:rPr>
              <a:t>Эндогенное питание: в условиях голодания лизосомы способны переваривать часть цитоплазматических структур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66ccff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1042920" y="4437000"/>
            <a:ext cx="6913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 marL="432000" indent="-4320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800080"/>
                </a:solidFill>
                <a:uFillTx/>
                <a:latin typeface="Times New Roman"/>
              </a:rPr>
              <a:t>Сравнительная характеристика фагоцитоза и пиноцитоз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258920" y="404640"/>
            <a:ext cx="6553080" cy="863640"/>
          </a:xfrm>
          <a:prstGeom prst="hexagon">
            <a:avLst>
              <a:gd name="adj" fmla="val 189694"/>
              <a:gd name="vf" fmla="val 115470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ФАГОЦИТОЗ И ПИНОЦИТОЗ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4932360" y="2276640"/>
            <a:ext cx="2314440" cy="122868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3"/>
          <a:stretch/>
        </p:blipFill>
        <p:spPr>
          <a:xfrm>
            <a:off x="1763640" y="2205000"/>
            <a:ext cx="2087640" cy="129528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250920" y="1341360"/>
            <a:ext cx="87138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80808"/>
                </a:solidFill>
                <a:latin typeface="Times New Roman"/>
              </a:rPr>
              <a:t>      </a:t>
            </a:r>
            <a:r>
              <a:rPr b="0" lang="ru-RU" sz="1800" spc="-1" strike="noStrike">
                <a:solidFill>
                  <a:srgbClr val="080808"/>
                </a:solidFill>
                <a:latin typeface="Times New Roman"/>
              </a:rPr>
              <a:t>Крупные молекулы белков и полисахаридов проникают в клетку путем </a:t>
            </a:r>
            <a:r>
              <a:rPr b="0" lang="ru-RU" sz="1800" spc="-1" strike="noStrike" u="sng">
                <a:solidFill>
                  <a:srgbClr val="080808"/>
                </a:solidFill>
                <a:uFillTx/>
                <a:latin typeface="Times New Roman"/>
              </a:rPr>
              <a:t>фагоцитоза</a:t>
            </a:r>
            <a:r>
              <a:rPr b="0" lang="ru-RU" sz="1800" spc="-1" strike="noStrike">
                <a:solidFill>
                  <a:srgbClr val="080808"/>
                </a:solidFill>
                <a:latin typeface="Times New Roman"/>
              </a:rPr>
              <a:t> (от греч. фагос - пожирающий и китос - сосуд, клетка), а капли жидкости - путем </a:t>
            </a:r>
            <a:r>
              <a:rPr b="0" lang="ru-RU" sz="1800" spc="-1" strike="noStrike" u="sng">
                <a:solidFill>
                  <a:srgbClr val="080808"/>
                </a:solidFill>
                <a:uFillTx/>
                <a:latin typeface="Times New Roman"/>
              </a:rPr>
              <a:t>пиноцитоза</a:t>
            </a:r>
            <a:r>
              <a:rPr b="0" lang="ru-RU" sz="1800" spc="-1" strike="noStrike">
                <a:solidFill>
                  <a:srgbClr val="080808"/>
                </a:solidFill>
                <a:latin typeface="Times New Roman"/>
              </a:rPr>
              <a:t> (от греч. пино - пью и китос)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50920" y="3500280"/>
            <a:ext cx="3600360" cy="865440"/>
          </a:xfrm>
          <a:prstGeom prst="octagon">
            <a:avLst>
              <a:gd name="adj" fmla="val 29287"/>
            </a:avLst>
          </a:prstGeom>
          <a:solidFill>
            <a:srgbClr val="ccffcc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Times New Roman"/>
              </a:rPr>
              <a:t>Это способ питания </a:t>
            </a:r>
            <a:r>
              <a:rPr b="1" lang="en-US" sz="1400" spc="-1" strike="noStrike">
                <a:solidFill>
                  <a:srgbClr val="660066"/>
                </a:solidFill>
                <a:latin typeface="Times New Roman"/>
              </a:rPr>
              <a:t>животных</a:t>
            </a:r>
            <a:r>
              <a:rPr b="0" lang="en-US" sz="1400" spc="-1" strike="noStrike">
                <a:solidFill>
                  <a:srgbClr val="660066"/>
                </a:solidFill>
                <a:latin typeface="Times New Roman"/>
              </a:rPr>
              <a:t> клеток, при котором в клетку попадают питательные веществ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03640" y="3500280"/>
            <a:ext cx="3818160" cy="865440"/>
          </a:xfrm>
          <a:prstGeom prst="octagon">
            <a:avLst>
              <a:gd name="adj" fmla="val 29287"/>
            </a:avLst>
          </a:prstGeom>
          <a:solidFill>
            <a:srgbClr val="ccffcc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Times New Roman"/>
              </a:rPr>
              <a:t>Это универсальный способ питания ( и для животных, и для растительных клеток), при котором в клетку попадают питательные вещества в растворённом виде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95280" y="2205000"/>
            <a:ext cx="13683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ff"/>
                </a:solidFill>
                <a:latin typeface="Tahoma"/>
              </a:rPr>
              <a:t>ФАГО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ff"/>
                </a:solidFill>
                <a:latin typeface="Tahoma"/>
              </a:rPr>
              <a:t>ЦИТОЗ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308720" y="2205000"/>
            <a:ext cx="13687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ff"/>
                </a:solidFill>
                <a:latin typeface="Tahoma"/>
              </a:rPr>
              <a:t>ПИНО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ff"/>
                </a:solidFill>
                <a:latin typeface="Tahoma"/>
              </a:rPr>
              <a:t>ЦИТОЗ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395280" y="4869000"/>
          <a:ext cx="8229600" cy="1765080"/>
        </p:xfrm>
        <a:graphic>
          <a:graphicData uri="http://schemas.openxmlformats.org/drawingml/2006/table">
            <a:tbl>
              <a:tblPr/>
              <a:tblGrid>
                <a:gridCol w="2376360"/>
                <a:gridCol w="3110040"/>
                <a:gridCol w="27432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Линии сравнен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Фагоцитоз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Пиноцитоз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Что поглощаетс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Твердые частицы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Жидкость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Результа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Частички погружаются внутрь клетк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Органические вещества погружаются внутрь клетк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Для каких клеток характерен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Клетки простейших, животных  и человек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Клетки всех животных и растени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66ccff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11280" y="189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ff"/>
                </a:solidFill>
                <a:latin typeface="Tahoma"/>
              </a:rPr>
              <a:t>Из истории клеточной теори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49780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1800" spc="-1" strike="noStrike">
                <a:solidFill>
                  <a:srgbClr val="ff0066"/>
                </a:solidFill>
                <a:latin typeface="Times New Roman"/>
              </a:rPr>
              <a:t>ЦИТОЛОГИЯ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(от цито... и ...логия) - наука о клетке.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Изучает строение и функции клеток, их связи и отношения в органах и тканях у многоклеточных организмов, а также одноклеточные организмы. Исследуя клетку как важнейшую структурную единицу живого, цитология занимает центральное положение в ряду биологических дисциплин; она тесно связана с гистологией, анатомией растений, физиологией, генетикой, биохимией, микробиологией и др. Изучение клеточного строения организмов было начато микроскопистами 17 в. (Р. Гук, М. Мальпиги, А. Левенгук); в 19 в. была создана единая для всего органического мира клеточная теория (Т. Шванн, 1839). В 20 в. быстрому прогрессу цитологии способствовали новые методы (электронная микроскопия, изотопные индикаторы, культивирование клеток и др.)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611280" y="4149720"/>
            <a:ext cx="1584360" cy="24480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2627280" y="4149720"/>
            <a:ext cx="1838520" cy="24480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4859280" y="4149720"/>
            <a:ext cx="1682640" cy="24480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7093080" y="4149720"/>
            <a:ext cx="158256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66ccff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324000" y="2708280"/>
            <a:ext cx="3960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800080"/>
                </a:solidFill>
                <a:uFillTx/>
                <a:latin typeface="Times New Roman"/>
              </a:rPr>
              <a:t>Содержание химических элементов в в клетке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0" y="1413000"/>
            <a:ext cx="896472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     </a:t>
            </a: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В микроскопической клетке содержится несколько тысяч веществ, которые участвуют в разнообразных химических реакциях. Химические процессы, протекающие в клетке, - одно из основных условий ее жизни, развития и функционирования. Все клетки животных и растительных организмов, а также микроорганизмов сходны по химическому составу, что свидетельствует о единстве органического мир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39640" y="333360"/>
            <a:ext cx="7993080" cy="934920"/>
          </a:xfrm>
          <a:prstGeom prst="horizontalScroll">
            <a:avLst>
              <a:gd name="adj" fmla="val 12500"/>
            </a:avLst>
          </a:prstGeom>
          <a:solidFill>
            <a:srgbClr val="ff00ff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Times New Roman"/>
              </a:rPr>
              <a:t>ХИМИЧЕСКИЙ  СОСТАВ  КЛЕТ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250920" y="3068640"/>
            <a:ext cx="1942920" cy="315288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2268360" y="3068640"/>
            <a:ext cx="1828800" cy="313380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3851280" y="2781360"/>
            <a:ext cx="5113440" cy="407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80808"/>
                </a:solidFill>
                <a:latin typeface="Times New Roman"/>
              </a:rPr>
              <a:t>       </a:t>
            </a:r>
            <a:r>
              <a:rPr b="0" lang="en-US" sz="1700" spc="-1" strike="noStrike">
                <a:solidFill>
                  <a:srgbClr val="080808"/>
                </a:solidFill>
                <a:latin typeface="Times New Roman"/>
              </a:rPr>
              <a:t>Из 109 элементов периодической системы Менделеева в клетках обнаружено значительное их большинство. По содержанию в клетке можно выделить три группы элементов. </a:t>
            </a:r>
            <a:r>
              <a:rPr b="0" lang="en-US" sz="1700" spc="-1" strike="noStrike" u="sng">
                <a:solidFill>
                  <a:srgbClr val="080808"/>
                </a:solidFill>
                <a:uFillTx/>
                <a:latin typeface="Times New Roman"/>
              </a:rPr>
              <a:t>В первую группу</a:t>
            </a:r>
            <a:r>
              <a:rPr b="0" lang="en-US" sz="1700" spc="-1" strike="noStrike">
                <a:solidFill>
                  <a:srgbClr val="080808"/>
                </a:solidFill>
                <a:latin typeface="Times New Roman"/>
              </a:rPr>
              <a:t> входят кислород, углерод, водород и азот. На их долю приходится почти 98% всего состава клетки. </a:t>
            </a:r>
            <a:r>
              <a:rPr b="0" lang="en-US" sz="1700" spc="-1" strike="noStrike" u="sng">
                <a:solidFill>
                  <a:srgbClr val="080808"/>
                </a:solidFill>
                <a:uFillTx/>
                <a:latin typeface="Times New Roman"/>
              </a:rPr>
              <a:t>Во вторую группу</a:t>
            </a:r>
            <a:r>
              <a:rPr b="0" lang="en-US" sz="1700" spc="-1" strike="noStrike">
                <a:solidFill>
                  <a:srgbClr val="080808"/>
                </a:solidFill>
                <a:latin typeface="Times New Roman"/>
              </a:rPr>
              <a:t> входят калий, натрий, кальций, сера, фосфор, магний, железо, хлор. Их содержание в клетке составляет десятые и сотые доли процента. Элементы этих двух групп относят к </a:t>
            </a:r>
            <a:r>
              <a:rPr b="1" lang="en-US" sz="1700" spc="-1" strike="noStrike">
                <a:solidFill>
                  <a:srgbClr val="080808"/>
                </a:solidFill>
                <a:latin typeface="Times New Roman"/>
              </a:rPr>
              <a:t>макроэлементам.</a:t>
            </a:r>
            <a:r>
              <a:rPr b="0" lang="en-US" sz="1700" spc="-1" strike="noStrike">
                <a:solidFill>
                  <a:srgbClr val="080808"/>
                </a:solidFill>
                <a:latin typeface="Times New Roman"/>
              </a:rPr>
              <a:t>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80808"/>
                </a:solidFill>
                <a:latin typeface="Times New Roman"/>
              </a:rPr>
              <a:t>       </a:t>
            </a:r>
            <a:r>
              <a:rPr b="0" lang="en-US" sz="1700" spc="-1" strike="noStrike">
                <a:solidFill>
                  <a:srgbClr val="080808"/>
                </a:solidFill>
                <a:latin typeface="Times New Roman"/>
              </a:rPr>
              <a:t>Остальные элементы, представленные в клетке сотыми и тысячными долями процента, входят </a:t>
            </a:r>
            <a:r>
              <a:rPr b="0" lang="en-US" sz="1700" spc="-1" strike="noStrike" u="sng">
                <a:solidFill>
                  <a:srgbClr val="080808"/>
                </a:solidFill>
                <a:uFillTx/>
                <a:latin typeface="Times New Roman"/>
              </a:rPr>
              <a:t>в третью группу</a:t>
            </a:r>
            <a:r>
              <a:rPr b="0" lang="en-US" sz="1700" spc="-1" strike="noStrike">
                <a:solidFill>
                  <a:srgbClr val="080808"/>
                </a:solidFill>
                <a:latin typeface="Times New Roman"/>
              </a:rPr>
              <a:t>. Это </a:t>
            </a:r>
            <a:r>
              <a:rPr b="1" lang="en-US" sz="1700" spc="-1" strike="noStrike">
                <a:solidFill>
                  <a:srgbClr val="080808"/>
                </a:solidFill>
                <a:latin typeface="Times New Roman"/>
              </a:rPr>
              <a:t>микроэлементы</a:t>
            </a:r>
            <a:r>
              <a:rPr b="0" lang="en-US" sz="1700" spc="-1" strike="noStrike">
                <a:solidFill>
                  <a:srgbClr val="080808"/>
                </a:solidFill>
                <a:latin typeface="Times New Roman"/>
              </a:rPr>
              <a:t>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66ccff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539640" y="1628640"/>
            <a:ext cx="842508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00cc"/>
              </a:buClr>
              <a:buSzPct val="6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80808"/>
                </a:solidFill>
                <a:latin typeface="Times New Roman"/>
              </a:rPr>
              <a:t>Клетка - элементарная единица жизни, основа строения, жизнедеятельности, размножения и индивидуального развития всех организмов. Вне клетки нет жизни (исключение - вирусы)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00cc"/>
              </a:buClr>
              <a:buSzPct val="6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80808"/>
                </a:solidFill>
                <a:latin typeface="Times New Roman"/>
              </a:rPr>
              <a:t>Большинство клеток устроено одинаково: покрыто наружной оболочкой - клеточной мембраной и наполнено жидкостью -цитоплазмой. Цитоплазма содержит многообразные структуры - органелы (ядро, митохондрии, лизосомы и т.д.), которые осуществляют разнообразные процессы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00cc"/>
              </a:buClr>
              <a:buSzPct val="6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80808"/>
                </a:solidFill>
                <a:latin typeface="Times New Roman"/>
              </a:rPr>
              <a:t>Клетка происходит только от клетки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00cc"/>
              </a:buClr>
              <a:buSzPct val="6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80808"/>
                </a:solidFill>
                <a:latin typeface="Times New Roman"/>
              </a:rPr>
              <a:t>Каждая клетка выполняет собственную функцию и взаимодействует с другими клетками, обеспечивая жизнедеятельность организм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00cc"/>
              </a:buClr>
              <a:buSzPct val="6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80808"/>
                </a:solidFill>
                <a:latin typeface="Times New Roman"/>
              </a:rPr>
              <a:t>В клетке нет каких-нибудь особенных элементов, характерных только для живой природы. Это указывает на связь и единство живой и неживой природ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24000" y="260280"/>
            <a:ext cx="8497800" cy="1079640"/>
          </a:xfrm>
          <a:custGeom>
            <a:avLst/>
            <a:gdLst>
              <a:gd name="textAreaLeft" fmla="*/ 1488960 w 8497800"/>
              <a:gd name="textAreaRight" fmla="*/ 7008840 w 8497800"/>
              <a:gd name="textAreaTop" fmla="*/ 13320 h 1079640"/>
              <a:gd name="textAreaBottom" fmla="*/ 810000 h 1079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5038" stAng="-9480057" swAng="731312"/>
                <a:lnTo>
                  <a:pt x="3785" y="273"/>
                </a:lnTo>
                <a:arcTo wR="21600" hR="5038" stAng="-8748745" swAng="6697489"/>
                <a:lnTo>
                  <a:pt x="17815" y="4998"/>
                </a:lnTo>
                <a:arcTo wR="21600" hR="5038" stAng="-2051255" swAng="731312"/>
                <a:lnTo>
                  <a:pt x="18900" y="13193"/>
                </a:lnTo>
                <a:lnTo>
                  <a:pt x="21600" y="21600"/>
                </a:lnTo>
                <a:lnTo>
                  <a:pt x="21600" y="21600"/>
                </a:lnTo>
                <a:arcTo wR="21600" hR="5038" stAng="-1319943" swAng="-1610728"/>
                <a:lnTo>
                  <a:pt x="15115" y="16302"/>
                </a:lnTo>
                <a:arcTo wR="21600" hR="5038" stAng="-2930671" swAng="-4938658"/>
                <a:lnTo>
                  <a:pt x="6485" y="21027"/>
                </a:lnTo>
                <a:arcTo wR="21600" hR="5038" stAng="-7869329" swAng="-1610728"/>
                <a:lnTo>
                  <a:pt x="2700" y="13193"/>
                </a:lnTo>
                <a:close/>
              </a:path>
              <a:path fill="none" w="21600" h="21600">
                <a:moveTo>
                  <a:pt x="6485" y="16302"/>
                </a:moveTo>
                <a:arcTo wR="21600" hR="5038" stAng="-7869329" swAng="-879416"/>
                <a:lnTo>
                  <a:pt x="6485" y="21027"/>
                </a:lnTo>
              </a:path>
              <a:path fill="none" w="21600" h="21600">
                <a:moveTo>
                  <a:pt x="15115" y="16302"/>
                </a:moveTo>
                <a:arcTo wR="21600" hR="5038" stAng="-2930671" swAng="879416"/>
                <a:lnTo>
                  <a:pt x="15115" y="21027"/>
                </a:lnTo>
              </a:path>
              <a:path fill="none" w="21600" h="21600">
                <a:moveTo>
                  <a:pt x="3785" y="4998"/>
                </a:moveTo>
                <a:lnTo>
                  <a:pt x="3785" y="16473"/>
                </a:lnTo>
              </a:path>
              <a:path fill="none" w="21600" h="21600">
                <a:moveTo>
                  <a:pt x="17815" y="4998"/>
                </a:moveTo>
                <a:lnTo>
                  <a:pt x="17815" y="16473"/>
                </a:lnTo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cc"/>
                </a:solidFill>
                <a:latin typeface="Times New Roman"/>
              </a:rPr>
              <a:t>ОСНОВНЫЕ ВЫВОД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66ccff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40000" y="260280"/>
            <a:ext cx="6480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ff"/>
                </a:solidFill>
                <a:latin typeface="Times New Roman"/>
              </a:rPr>
              <a:t>ОСНОВНЫЕ ПОЛОЖЕНИЯ</a:t>
            </a:r>
            <a:br>
              <a:rPr sz="3200"/>
            </a:br>
            <a:r>
              <a:rPr b="1" lang="en-US" sz="3200" spc="-1" strike="noStrike">
                <a:solidFill>
                  <a:srgbClr val="cc00ff"/>
                </a:solidFill>
                <a:latin typeface="Times New Roman"/>
              </a:rPr>
              <a:t>КЛЕТОЧНОЙ ТЕОР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50560" y="1773000"/>
            <a:ext cx="784836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Times New Roman"/>
              </a:rPr>
              <a:t>клетка - основная единица строения, функционирования и развития всех живых организмов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Times New Roman"/>
              </a:rPr>
              <a:t>клетки всех одноклеточных и многоклеточных организмов сходны (гомологичны) по своему строению, химическому составу, основным проявлениям жизнедеятельности и обмену веществ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Times New Roman"/>
              </a:rPr>
              <a:t>размножение клеток происходит путем их деления, каждая новая клетка образуется в результате деления исходной (материнской) клетки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Times New Roman"/>
              </a:rPr>
              <a:t>в сложных многоклеточных организмах клетки специализированы по выполняемым ими функциям и образуют ткани; из тканей состоят органы, которые тесно взаимосвязаны и подчинены нервной и гуморальной регуляциям.</a:t>
            </a:r>
            <a:r>
              <a:rPr b="0" lang="en-US" sz="1400" spc="-1" strike="noStrike">
                <a:solidFill>
                  <a:srgbClr val="4d4d4d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7524720" y="5229360"/>
            <a:ext cx="1478160" cy="1434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rcRect l="14870" t="0" r="36212" b="46344"/>
          <a:stretch/>
        </p:blipFill>
        <p:spPr>
          <a:xfrm>
            <a:off x="684360" y="189000"/>
            <a:ext cx="1655640" cy="15843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66ccff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ff"/>
                </a:solidFill>
                <a:latin typeface="Times New Roman"/>
              </a:rPr>
              <a:t>КЛЕТКА – элементарная целостная живая систем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476360" y="765000"/>
            <a:ext cx="5808600" cy="59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66ccff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-360" y="981000"/>
            <a:ext cx="500364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ff"/>
                </a:solidFill>
                <a:latin typeface="Times New Roman"/>
              </a:rPr>
              <a:t>КЛЕТКА ЖИВОТНОГО 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"/>
          <p:cNvSpPr/>
          <p:nvPr/>
        </p:nvSpPr>
        <p:spPr>
          <a:xfrm>
            <a:off x="4032360" y="4869000"/>
            <a:ext cx="51116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ff"/>
                </a:solidFill>
                <a:latin typeface="Times New Roman"/>
              </a:rPr>
              <a:t>… </a:t>
            </a:r>
            <a:r>
              <a:rPr b="1" lang="en-US" sz="2800" spc="-1" strike="noStrike">
                <a:solidFill>
                  <a:srgbClr val="cc00ff"/>
                </a:solidFill>
                <a:latin typeface="Times New Roman"/>
              </a:rPr>
              <a:t>КЛЕТКА РАСТЕ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003640" y="549360"/>
            <a:ext cx="3743640" cy="26398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68360" y="3284640"/>
            <a:ext cx="3313080" cy="283032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3419640" y="1916280"/>
            <a:ext cx="1368360" cy="360360"/>
          </a:xfrm>
          <a:custGeom>
            <a:avLst/>
            <a:gdLst>
              <a:gd name="textAreaLeft" fmla="*/ 171000 w 1368360"/>
              <a:gd name="textAreaRight" fmla="*/ 1197360 w 136836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rot="10800000">
            <a:off x="4066920" y="4365360"/>
            <a:ext cx="1368360" cy="360360"/>
          </a:xfrm>
          <a:custGeom>
            <a:avLst/>
            <a:gdLst>
              <a:gd name="textAreaLeft" fmla="*/ 171000 w 1368360"/>
              <a:gd name="textAreaRight" fmla="*/ 1197360 w 136836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66ccff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179280" y="1699920"/>
            <a:ext cx="8785440" cy="94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ff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cc00ff"/>
                </a:solidFill>
                <a:latin typeface="Times New Roman"/>
              </a:rPr>
              <a:t>Клеточная мембрана – ультрамикроскопическая плёнка, состоящая из двух мономолекулярных слоев белка и расположенного между ними бимолекулярного слоя липидов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179280" y="333360"/>
            <a:ext cx="8713800" cy="1295280"/>
          </a:xfrm>
          <a:custGeom>
            <a:avLst/>
            <a:gdLst>
              <a:gd name="textAreaLeft" fmla="*/ 1089000 w 8713800"/>
              <a:gd name="textAreaRight" fmla="*/ 7624800 w 8713800"/>
              <a:gd name="textAreaTop" fmla="*/ 326880 h 1295280"/>
              <a:gd name="textAreaBottom" fmla="*/ 129564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4725" y="0"/>
                </a:lnTo>
                <a:arcTo wR="675" hR="1363" stAng="16200000" swAng="5400000"/>
                <a:lnTo>
                  <a:pt x="5400" y="5453"/>
                </a:lnTo>
                <a:lnTo>
                  <a:pt x="16200" y="5453"/>
                </a:lnTo>
                <a:lnTo>
                  <a:pt x="16200" y="1363"/>
                </a:lnTo>
                <a:arcTo wR="675" hR="1363" stAng="10800000" swAng="5400000"/>
                <a:lnTo>
                  <a:pt x="21600" y="0"/>
                </a:lnTo>
                <a:lnTo>
                  <a:pt x="18900" y="8074"/>
                </a:lnTo>
                <a:lnTo>
                  <a:pt x="21600" y="16147"/>
                </a:lnTo>
                <a:lnTo>
                  <a:pt x="18900" y="16147"/>
                </a:lnTo>
                <a:lnTo>
                  <a:pt x="18900" y="20237"/>
                </a:lnTo>
                <a:arcTo wR="675" hR="1363" stAng="0" swAng="5400000"/>
                <a:lnTo>
                  <a:pt x="3375" y="21600"/>
                </a:lnTo>
                <a:arcTo wR="675" hR="1363" stAng="5400000" swAng="5400000"/>
                <a:lnTo>
                  <a:pt x="2700" y="16147"/>
                </a:lnTo>
                <a:lnTo>
                  <a:pt x="0" y="16147"/>
                </a:lnTo>
                <a:lnTo>
                  <a:pt x="2700" y="8074"/>
                </a:lnTo>
                <a:close/>
              </a:path>
              <a:path fill="none" w="21600" h="21600">
                <a:moveTo>
                  <a:pt x="5400" y="1363"/>
                </a:moveTo>
                <a:arcTo wR="675" hR="1363" stAng="0" swAng="5400000"/>
                <a:lnTo>
                  <a:pt x="3375" y="2727"/>
                </a:lnTo>
                <a:arcTo wR="675" hR="1363" stAng="16200000" swAng="-5400000"/>
                <a:arcTo wR="675" hR="1363" stAng="10800000" swAng="-5400000"/>
                <a:lnTo>
                  <a:pt x="5400" y="5453"/>
                </a:lnTo>
              </a:path>
              <a:path fill="none" w="21600" h="21600">
                <a:moveTo>
                  <a:pt x="16200" y="1363"/>
                </a:moveTo>
                <a:arcTo wR="675" hR="1363" stAng="10800000" swAng="-5400000"/>
                <a:lnTo>
                  <a:pt x="18225" y="2727"/>
                </a:lnTo>
                <a:arcTo wR="675" hR="1363" stAng="16200000" swAng="5400000"/>
                <a:arcTo wR="675" hR="1363" stAng="0" swAng="5400000"/>
                <a:lnTo>
                  <a:pt x="16200" y="5453"/>
                </a:lnTo>
              </a:path>
              <a:path fill="none" w="21600" h="21600">
                <a:moveTo>
                  <a:pt x="2700" y="4090"/>
                </a:moveTo>
                <a:lnTo>
                  <a:pt x="2700" y="16147"/>
                </a:lnTo>
              </a:path>
              <a:path fill="none" w="21600" h="21600">
                <a:moveTo>
                  <a:pt x="18900" y="4090"/>
                </a:moveTo>
                <a:lnTo>
                  <a:pt x="18900" y="16147"/>
                </a:lnTo>
              </a:path>
            </a:pathLst>
          </a:custGeom>
          <a:gradFill rotWithShape="0">
            <a:gsLst>
              <a:gs pos="0">
                <a:srgbClr val="ff9900"/>
              </a:gs>
              <a:gs pos="50000">
                <a:srgbClr val="ffff00"/>
              </a:gs>
              <a:gs pos="100000">
                <a:srgbClr val="ff9900"/>
              </a:gs>
            </a:gsLst>
            <a:lin ang="5400000"/>
          </a:gra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800080"/>
                </a:solidFill>
                <a:uFillTx/>
                <a:latin typeface="Times New Roman"/>
              </a:rPr>
              <a:t>ПЛАЗМАТИЧЕСКАЯ МЕМБРАНА КЛЕТ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71640" y="4941720"/>
            <a:ext cx="7993080" cy="17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485280" indent="-4852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800080"/>
                </a:solidFill>
                <a:uFillTx/>
                <a:latin typeface="Times New Roman"/>
              </a:rPr>
              <a:t>Функции плазматической мембраны клетки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85280" indent="-485280">
              <a:lnSpc>
                <a:spcPct val="10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Барьерна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85280" indent="-485280">
              <a:lnSpc>
                <a:spcPct val="10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Связь с окружающей средой (транспорт веществ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85280" indent="-485280">
              <a:lnSpc>
                <a:spcPct val="10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Связь между клетками тканей в многоклеточных организмах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85280" indent="-485280">
              <a:lnSpc>
                <a:spcPct val="10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Защитна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4643280" y="2349360"/>
            <a:ext cx="4191120" cy="25196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1042920" y="3284640"/>
            <a:ext cx="2881440" cy="865080"/>
          </a:xfrm>
          <a:prstGeom prst="rightArrow">
            <a:avLst>
              <a:gd name="adj1" fmla="val 50000"/>
              <a:gd name="adj2" fmla="val 83271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ТРОЕ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66ccff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179280" y="1844280"/>
            <a:ext cx="878544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</a:rPr>
              <a:t>Цитоплазма – это полужидкая среда клетки, в которой располагаются органоиды клетки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</a:rPr>
              <a:t>Цитоплазма состоит из воды и белков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</a:rPr>
              <a:t>Цитоплазма способна двигаться со скоростью до 7 см/час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"/>
          <p:cNvSpPr/>
          <p:nvPr/>
        </p:nvSpPr>
        <p:spPr>
          <a:xfrm>
            <a:off x="179280" y="333360"/>
            <a:ext cx="8713800" cy="1295280"/>
          </a:xfrm>
          <a:custGeom>
            <a:avLst/>
            <a:gdLst>
              <a:gd name="textAreaLeft" fmla="*/ 1089000 w 8713800"/>
              <a:gd name="textAreaRight" fmla="*/ 7624800 w 8713800"/>
              <a:gd name="textAreaTop" fmla="*/ 326880 h 1295280"/>
              <a:gd name="textAreaBottom" fmla="*/ 129564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4725" y="0"/>
                </a:lnTo>
                <a:arcTo wR="675" hR="1363" stAng="16200000" swAng="5400000"/>
                <a:lnTo>
                  <a:pt x="5400" y="5453"/>
                </a:lnTo>
                <a:lnTo>
                  <a:pt x="16200" y="5453"/>
                </a:lnTo>
                <a:lnTo>
                  <a:pt x="16200" y="1363"/>
                </a:lnTo>
                <a:arcTo wR="675" hR="1363" stAng="10800000" swAng="5400000"/>
                <a:lnTo>
                  <a:pt x="21600" y="0"/>
                </a:lnTo>
                <a:lnTo>
                  <a:pt x="18900" y="8074"/>
                </a:lnTo>
                <a:lnTo>
                  <a:pt x="21600" y="16147"/>
                </a:lnTo>
                <a:lnTo>
                  <a:pt x="18900" y="16147"/>
                </a:lnTo>
                <a:lnTo>
                  <a:pt x="18900" y="20237"/>
                </a:lnTo>
                <a:arcTo wR="675" hR="1363" stAng="0" swAng="5400000"/>
                <a:lnTo>
                  <a:pt x="3375" y="21600"/>
                </a:lnTo>
                <a:arcTo wR="675" hR="1363" stAng="5400000" swAng="5400000"/>
                <a:lnTo>
                  <a:pt x="2700" y="16147"/>
                </a:lnTo>
                <a:lnTo>
                  <a:pt x="0" y="16147"/>
                </a:lnTo>
                <a:lnTo>
                  <a:pt x="2700" y="8074"/>
                </a:lnTo>
                <a:close/>
              </a:path>
              <a:path fill="none" w="21600" h="21600">
                <a:moveTo>
                  <a:pt x="5400" y="1363"/>
                </a:moveTo>
                <a:arcTo wR="675" hR="1363" stAng="0" swAng="5400000"/>
                <a:lnTo>
                  <a:pt x="3375" y="2727"/>
                </a:lnTo>
                <a:arcTo wR="675" hR="1363" stAng="16200000" swAng="-5400000"/>
                <a:arcTo wR="675" hR="1363" stAng="10800000" swAng="-5400000"/>
                <a:lnTo>
                  <a:pt x="5400" y="5453"/>
                </a:lnTo>
              </a:path>
              <a:path fill="none" w="21600" h="21600">
                <a:moveTo>
                  <a:pt x="16200" y="1363"/>
                </a:moveTo>
                <a:arcTo wR="675" hR="1363" stAng="10800000" swAng="-5400000"/>
                <a:lnTo>
                  <a:pt x="18225" y="2727"/>
                </a:lnTo>
                <a:arcTo wR="675" hR="1363" stAng="16200000" swAng="5400000"/>
                <a:arcTo wR="675" hR="1363" stAng="0" swAng="5400000"/>
                <a:lnTo>
                  <a:pt x="16200" y="5453"/>
                </a:lnTo>
              </a:path>
              <a:path fill="none" w="21600" h="21600">
                <a:moveTo>
                  <a:pt x="2700" y="4090"/>
                </a:moveTo>
                <a:lnTo>
                  <a:pt x="2700" y="16147"/>
                </a:lnTo>
              </a:path>
              <a:path fill="none" w="21600" h="21600">
                <a:moveTo>
                  <a:pt x="18900" y="4090"/>
                </a:moveTo>
                <a:lnTo>
                  <a:pt x="18900" y="16147"/>
                </a:lnTo>
              </a:path>
            </a:pathLst>
          </a:custGeom>
          <a:gradFill rotWithShape="0">
            <a:gsLst>
              <a:gs pos="0">
                <a:srgbClr val="ff9900"/>
              </a:gs>
              <a:gs pos="50000">
                <a:srgbClr val="ffff00"/>
              </a:gs>
              <a:gs pos="100000">
                <a:srgbClr val="ff9900"/>
              </a:gs>
            </a:gsLst>
            <a:lin ang="5400000"/>
          </a:gra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800080"/>
                </a:solidFill>
                <a:uFillTx/>
                <a:latin typeface="Times New Roman"/>
              </a:rPr>
              <a:t>ЦИТОПЛАЗМ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50920" y="3573360"/>
            <a:ext cx="8569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0000"/>
          </a:bodyPr>
          <a:p>
            <a:pPr marL="320040" indent="-3200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800080"/>
                </a:solidFill>
                <a:uFillTx/>
                <a:latin typeface="Times New Roman"/>
              </a:rPr>
              <a:t>Органоиды – 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</a:rPr>
              <a:t>это постоянные клеточные структуры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0040" indent="-3200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Times New Roman"/>
              </a:rPr>
              <a:t>каждая из которых выполняет свои функци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11280" y="4724280"/>
            <a:ext cx="770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50920" y="5084640"/>
            <a:ext cx="1728720" cy="64944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800080"/>
                </a:solidFill>
                <a:latin typeface="Times New Roman"/>
              </a:rPr>
              <a:t>Эндоплазматическая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800080"/>
                </a:solidFill>
                <a:latin typeface="Times New Roman"/>
              </a:rPr>
              <a:t>сеть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484360" y="5084640"/>
            <a:ext cx="1728720" cy="64944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800080"/>
                </a:solidFill>
                <a:latin typeface="Times New Roman"/>
              </a:rPr>
              <a:t>Цитоплазматический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800080"/>
                </a:solidFill>
                <a:latin typeface="Times New Roman"/>
              </a:rPr>
              <a:t>матрикс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788000" y="5084640"/>
            <a:ext cx="1728720" cy="64944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800080"/>
                </a:solidFill>
                <a:latin typeface="Times New Roman"/>
              </a:rPr>
              <a:t>Рибосомы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020000" y="5084640"/>
            <a:ext cx="1728720" cy="64944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800080"/>
                </a:solidFill>
                <a:latin typeface="Times New Roman"/>
              </a:rPr>
              <a:t>Клеточный центр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11280" y="5950080"/>
            <a:ext cx="1728720" cy="64908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800080"/>
                </a:solidFill>
                <a:latin typeface="Times New Roman"/>
              </a:rPr>
              <a:t>Митохондрии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771640" y="5950080"/>
            <a:ext cx="1729080" cy="64908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800080"/>
                </a:solidFill>
                <a:latin typeface="Times New Roman"/>
              </a:rPr>
              <a:t>Аппарат Гольджи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643280" y="5950080"/>
            <a:ext cx="1729080" cy="64908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800080"/>
                </a:solidFill>
                <a:latin typeface="Times New Roman"/>
              </a:rPr>
              <a:t>Пластиды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659640" y="5950080"/>
            <a:ext cx="1728720" cy="64908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800080"/>
                </a:solidFill>
                <a:latin typeface="Times New Roman"/>
              </a:rPr>
              <a:t>Лизосомы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4724280"/>
            <a:ext cx="0" cy="36036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8317080" y="4724280"/>
            <a:ext cx="0" cy="36036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276720" y="4724280"/>
            <a:ext cx="0" cy="36036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796000" y="4724280"/>
            <a:ext cx="0" cy="36036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124000" y="4724280"/>
            <a:ext cx="0" cy="122580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356000" y="4724280"/>
            <a:ext cx="0" cy="122580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716360" y="4724280"/>
            <a:ext cx="0" cy="122580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804000" y="4724280"/>
            <a:ext cx="0" cy="122580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66ccff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179280" y="1700280"/>
            <a:ext cx="87854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</a:rPr>
              <a:t>Цитоплазматический матрикс представляет собой основную и наиболее важную часть клетки, её истинную внутреннюю среду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</a:rPr>
              <a:t>Компоненты цитоплазматического матрикса осуществляют процессы биосинтеза в клетке и содержат ферменты, необходимые для продуцирования энерги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179280" y="333360"/>
            <a:ext cx="8713800" cy="1295280"/>
          </a:xfrm>
          <a:custGeom>
            <a:avLst/>
            <a:gdLst>
              <a:gd name="textAreaLeft" fmla="*/ 1089000 w 8713800"/>
              <a:gd name="textAreaRight" fmla="*/ 7624800 w 8713800"/>
              <a:gd name="textAreaTop" fmla="*/ 326880 h 1295280"/>
              <a:gd name="textAreaBottom" fmla="*/ 129564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4725" y="0"/>
                </a:lnTo>
                <a:arcTo wR="675" hR="1363" stAng="16200000" swAng="5400000"/>
                <a:lnTo>
                  <a:pt x="5400" y="5453"/>
                </a:lnTo>
                <a:lnTo>
                  <a:pt x="16200" y="5453"/>
                </a:lnTo>
                <a:lnTo>
                  <a:pt x="16200" y="1363"/>
                </a:lnTo>
                <a:arcTo wR="675" hR="1363" stAng="10800000" swAng="5400000"/>
                <a:lnTo>
                  <a:pt x="21600" y="0"/>
                </a:lnTo>
                <a:lnTo>
                  <a:pt x="18900" y="8074"/>
                </a:lnTo>
                <a:lnTo>
                  <a:pt x="21600" y="16147"/>
                </a:lnTo>
                <a:lnTo>
                  <a:pt x="18900" y="16147"/>
                </a:lnTo>
                <a:lnTo>
                  <a:pt x="18900" y="20237"/>
                </a:lnTo>
                <a:arcTo wR="675" hR="1363" stAng="0" swAng="5400000"/>
                <a:lnTo>
                  <a:pt x="3375" y="21600"/>
                </a:lnTo>
                <a:arcTo wR="675" hR="1363" stAng="5400000" swAng="5400000"/>
                <a:lnTo>
                  <a:pt x="2700" y="16147"/>
                </a:lnTo>
                <a:lnTo>
                  <a:pt x="0" y="16147"/>
                </a:lnTo>
                <a:lnTo>
                  <a:pt x="2700" y="8074"/>
                </a:lnTo>
                <a:close/>
              </a:path>
              <a:path fill="none" w="21600" h="21600">
                <a:moveTo>
                  <a:pt x="5400" y="1363"/>
                </a:moveTo>
                <a:arcTo wR="675" hR="1363" stAng="0" swAng="5400000"/>
                <a:lnTo>
                  <a:pt x="3375" y="2727"/>
                </a:lnTo>
                <a:arcTo wR="675" hR="1363" stAng="16200000" swAng="-5400000"/>
                <a:arcTo wR="675" hR="1363" stAng="10800000" swAng="-5400000"/>
                <a:lnTo>
                  <a:pt x="5400" y="5453"/>
                </a:lnTo>
              </a:path>
              <a:path fill="none" w="21600" h="21600">
                <a:moveTo>
                  <a:pt x="16200" y="1363"/>
                </a:moveTo>
                <a:arcTo wR="675" hR="1363" stAng="10800000" swAng="-5400000"/>
                <a:lnTo>
                  <a:pt x="18225" y="2727"/>
                </a:lnTo>
                <a:arcTo wR="675" hR="1363" stAng="16200000" swAng="5400000"/>
                <a:arcTo wR="675" hR="1363" stAng="0" swAng="5400000"/>
                <a:lnTo>
                  <a:pt x="16200" y="5453"/>
                </a:lnTo>
              </a:path>
              <a:path fill="none" w="21600" h="21600">
                <a:moveTo>
                  <a:pt x="2700" y="4090"/>
                </a:moveTo>
                <a:lnTo>
                  <a:pt x="2700" y="16147"/>
                </a:lnTo>
              </a:path>
              <a:path fill="none" w="21600" h="21600">
                <a:moveTo>
                  <a:pt x="18900" y="4090"/>
                </a:moveTo>
                <a:lnTo>
                  <a:pt x="18900" y="16147"/>
                </a:lnTo>
              </a:path>
            </a:pathLst>
          </a:custGeom>
          <a:gradFill rotWithShape="0">
            <a:gsLst>
              <a:gs pos="0">
                <a:srgbClr val="ff9900"/>
              </a:gs>
              <a:gs pos="50000">
                <a:srgbClr val="ffff00"/>
              </a:gs>
              <a:gs pos="100000">
                <a:srgbClr val="ff9900"/>
              </a:gs>
            </a:gsLst>
            <a:lin ang="5400000"/>
          </a:gra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800080"/>
                </a:solidFill>
                <a:uFillTx/>
                <a:latin typeface="Times New Roman"/>
              </a:rPr>
              <a:t>ЦИТОПЛАЗМАТИЧЕСКИЙ МАТРИК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611280" y="3573360"/>
            <a:ext cx="8064360" cy="2952720"/>
            <a:chOff x="611280" y="3573360"/>
            <a:chExt cx="8064360" cy="2952720"/>
          </a:xfrm>
        </p:grpSpPr>
        <p:sp>
          <p:nvSpPr>
            <p:cNvPr id="134" name=""/>
            <p:cNvSpPr/>
            <p:nvPr/>
          </p:nvSpPr>
          <p:spPr>
            <a:xfrm>
              <a:off x="611280" y="3933720"/>
              <a:ext cx="8064360" cy="2592360"/>
            </a:xfrm>
            <a:prstGeom prst="horizontalScroll">
              <a:avLst>
                <a:gd name="adj" fmla="val 12500"/>
              </a:avLst>
            </a:prstGeom>
            <a:solidFill>
              <a:srgbClr val="ff99ff"/>
            </a:solidFill>
            <a:ln w="93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80808"/>
                  </a:solidFill>
                  <a:latin typeface="Times New Roman"/>
                </a:rPr>
                <a:t>1. Обеспечивает изменение вязкости цитоплазмы, которая возникает под действием внешних и внутренних факторов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80808"/>
                  </a:solidFill>
                  <a:latin typeface="Times New Roman"/>
                </a:rPr>
                <a:t>2. Ответственен за циклоз и деление клетки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80808"/>
                  </a:solidFill>
                  <a:latin typeface="Times New Roman"/>
                </a:rPr>
                <a:t>3. Определяет полярность расположения внутриклеточных компонентов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80808"/>
                  </a:solidFill>
                  <a:latin typeface="Times New Roman"/>
                </a:rPr>
                <a:t>4. Обеспечивает механические свойства клеток, такие как эластичность, способность к слиянию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700360" y="3573360"/>
              <a:ext cx="3529080" cy="792360"/>
            </a:xfrm>
            <a:prstGeom prst="plus">
              <a:avLst>
                <a:gd name="adj" fmla="val 25000"/>
              </a:avLst>
            </a:prstGeom>
            <a:gradFill rotWithShape="0">
              <a:gsLst>
                <a:gs pos="0">
                  <a:srgbClr val="00ff00"/>
                </a:gs>
                <a:gs pos="50000">
                  <a:srgbClr val="ccffcc"/>
                </a:gs>
                <a:gs pos="100000">
                  <a:srgbClr val="00ff00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9933ff"/>
                  </a:solidFill>
                  <a:uFillTx/>
                  <a:latin typeface="Times New Roman"/>
                </a:rPr>
                <a:t>ФУНКЦИИ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66ccff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-181440" y="1700280"/>
            <a:ext cx="932508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</a:rPr>
              <a:t>Вся внутренняя зона цитоплазмы заполнена многочисленными мелкими каналами и полостями, стенки которых представляют собой мембраны, сходные по своей структуре с плазматической мембраной. Эти каналы ветвятся, соединяются друг с другом и образуют сеть, получившую название </a:t>
            </a:r>
            <a:r>
              <a:rPr b="0" lang="en-US" sz="2000" spc="-1" strike="noStrike" u="sng">
                <a:solidFill>
                  <a:srgbClr val="080808"/>
                </a:solidFill>
                <a:uFillTx/>
                <a:latin typeface="Times New Roman"/>
              </a:rPr>
              <a:t>эндоплазматической сети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</a:rPr>
              <a:t>. Известны два ее типа - гранулярная и гладкая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"/>
          <p:cNvSpPr/>
          <p:nvPr/>
        </p:nvSpPr>
        <p:spPr>
          <a:xfrm>
            <a:off x="179280" y="333360"/>
            <a:ext cx="8713800" cy="1295280"/>
          </a:xfrm>
          <a:custGeom>
            <a:avLst/>
            <a:gdLst>
              <a:gd name="textAreaLeft" fmla="*/ 1089000 w 8713800"/>
              <a:gd name="textAreaRight" fmla="*/ 7624800 w 8713800"/>
              <a:gd name="textAreaTop" fmla="*/ 326880 h 1295280"/>
              <a:gd name="textAreaBottom" fmla="*/ 129564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4725" y="0"/>
                </a:lnTo>
                <a:arcTo wR="675" hR="1363" stAng="16200000" swAng="5400000"/>
                <a:lnTo>
                  <a:pt x="5400" y="5453"/>
                </a:lnTo>
                <a:lnTo>
                  <a:pt x="16200" y="5453"/>
                </a:lnTo>
                <a:lnTo>
                  <a:pt x="16200" y="1363"/>
                </a:lnTo>
                <a:arcTo wR="675" hR="1363" stAng="10800000" swAng="5400000"/>
                <a:lnTo>
                  <a:pt x="21600" y="0"/>
                </a:lnTo>
                <a:lnTo>
                  <a:pt x="18900" y="8074"/>
                </a:lnTo>
                <a:lnTo>
                  <a:pt x="21600" y="16147"/>
                </a:lnTo>
                <a:lnTo>
                  <a:pt x="18900" y="16147"/>
                </a:lnTo>
                <a:lnTo>
                  <a:pt x="18900" y="20237"/>
                </a:lnTo>
                <a:arcTo wR="675" hR="1363" stAng="0" swAng="5400000"/>
                <a:lnTo>
                  <a:pt x="3375" y="21600"/>
                </a:lnTo>
                <a:arcTo wR="675" hR="1363" stAng="5400000" swAng="5400000"/>
                <a:lnTo>
                  <a:pt x="2700" y="16147"/>
                </a:lnTo>
                <a:lnTo>
                  <a:pt x="0" y="16147"/>
                </a:lnTo>
                <a:lnTo>
                  <a:pt x="2700" y="8074"/>
                </a:lnTo>
                <a:close/>
              </a:path>
              <a:path fill="none" w="21600" h="21600">
                <a:moveTo>
                  <a:pt x="5400" y="1363"/>
                </a:moveTo>
                <a:arcTo wR="675" hR="1363" stAng="0" swAng="5400000"/>
                <a:lnTo>
                  <a:pt x="3375" y="2727"/>
                </a:lnTo>
                <a:arcTo wR="675" hR="1363" stAng="16200000" swAng="-5400000"/>
                <a:arcTo wR="675" hR="1363" stAng="10800000" swAng="-5400000"/>
                <a:lnTo>
                  <a:pt x="5400" y="5453"/>
                </a:lnTo>
              </a:path>
              <a:path fill="none" w="21600" h="21600">
                <a:moveTo>
                  <a:pt x="16200" y="1363"/>
                </a:moveTo>
                <a:arcTo wR="675" hR="1363" stAng="10800000" swAng="-5400000"/>
                <a:lnTo>
                  <a:pt x="18225" y="2727"/>
                </a:lnTo>
                <a:arcTo wR="675" hR="1363" stAng="16200000" swAng="5400000"/>
                <a:arcTo wR="675" hR="1363" stAng="0" swAng="5400000"/>
                <a:lnTo>
                  <a:pt x="16200" y="5453"/>
                </a:lnTo>
              </a:path>
              <a:path fill="none" w="21600" h="21600">
                <a:moveTo>
                  <a:pt x="2700" y="4090"/>
                </a:moveTo>
                <a:lnTo>
                  <a:pt x="2700" y="16147"/>
                </a:lnTo>
              </a:path>
              <a:path fill="none" w="21600" h="21600">
                <a:moveTo>
                  <a:pt x="18900" y="4090"/>
                </a:moveTo>
                <a:lnTo>
                  <a:pt x="18900" y="16147"/>
                </a:lnTo>
              </a:path>
            </a:pathLst>
          </a:custGeom>
          <a:gradFill rotWithShape="0">
            <a:gsLst>
              <a:gs pos="0">
                <a:srgbClr val="ff9900"/>
              </a:gs>
              <a:gs pos="50000">
                <a:srgbClr val="ffff00"/>
              </a:gs>
              <a:gs pos="100000">
                <a:srgbClr val="ff9900"/>
              </a:gs>
            </a:gsLst>
            <a:lin ang="5400000"/>
          </a:gra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800080"/>
                </a:solidFill>
                <a:uFillTx/>
                <a:latin typeface="Times New Roman"/>
              </a:rPr>
              <a:t>ЭНДОПЛАЗМАТИЧЕСКАЯ СЕТЬ (ЭС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2050920" y="2997360"/>
            <a:ext cx="1704960" cy="322884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3564000" y="3284280"/>
            <a:ext cx="503280" cy="14436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3276720" y="3933360"/>
            <a:ext cx="790560" cy="35892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067280" y="3213000"/>
            <a:ext cx="10094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80"/>
                </a:solidFill>
                <a:latin typeface="Times New Roman"/>
              </a:rPr>
              <a:t>Рибосом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067280" y="3789360"/>
            <a:ext cx="10094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80"/>
                </a:solidFill>
                <a:latin typeface="Times New Roman"/>
              </a:rPr>
              <a:t>Мембра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1692360" y="2997360"/>
            <a:ext cx="287280" cy="1295280"/>
            <a:chOff x="1692360" y="2997360"/>
            <a:chExt cx="287280" cy="1295280"/>
          </a:xfrm>
        </p:grpSpPr>
        <p:sp>
          <p:nvSpPr>
            <p:cNvPr id="144" name=""/>
            <p:cNvSpPr/>
            <p:nvPr/>
          </p:nvSpPr>
          <p:spPr>
            <a:xfrm>
              <a:off x="1692360" y="2997360"/>
              <a:ext cx="0" cy="1295280"/>
            </a:xfrm>
            <a:prstGeom prst="line">
              <a:avLst/>
            </a:prstGeom>
            <a:ln w="93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692360" y="2997360"/>
              <a:ext cx="287280" cy="0"/>
            </a:xfrm>
            <a:prstGeom prst="line">
              <a:avLst/>
            </a:prstGeom>
            <a:ln w="9360">
              <a:solidFill>
                <a:srgbClr val="08080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692360" y="4292640"/>
              <a:ext cx="287280" cy="0"/>
            </a:xfrm>
            <a:prstGeom prst="line">
              <a:avLst/>
            </a:prstGeom>
            <a:ln w="9360">
              <a:solidFill>
                <a:srgbClr val="08080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250920" y="3500280"/>
            <a:ext cx="1296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80"/>
                </a:solidFill>
                <a:latin typeface="Times New Roman"/>
              </a:rPr>
              <a:t>Гладкая Э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692360" y="4797360"/>
            <a:ext cx="287280" cy="1295280"/>
            <a:chOff x="1692360" y="4797360"/>
            <a:chExt cx="287280" cy="1295280"/>
          </a:xfrm>
        </p:grpSpPr>
        <p:sp>
          <p:nvSpPr>
            <p:cNvPr id="149" name=""/>
            <p:cNvSpPr/>
            <p:nvPr/>
          </p:nvSpPr>
          <p:spPr>
            <a:xfrm>
              <a:off x="1692360" y="4797360"/>
              <a:ext cx="0" cy="1295280"/>
            </a:xfrm>
            <a:prstGeom prst="line">
              <a:avLst/>
            </a:prstGeom>
            <a:ln w="93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692360" y="4797360"/>
              <a:ext cx="287280" cy="0"/>
            </a:xfrm>
            <a:prstGeom prst="line">
              <a:avLst/>
            </a:prstGeom>
            <a:ln w="9360">
              <a:solidFill>
                <a:srgbClr val="08080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692360" y="6092640"/>
              <a:ext cx="287280" cy="0"/>
            </a:xfrm>
            <a:prstGeom prst="line">
              <a:avLst/>
            </a:prstGeom>
            <a:ln w="9360">
              <a:solidFill>
                <a:srgbClr val="08080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2" name=""/>
          <p:cNvSpPr/>
          <p:nvPr/>
        </p:nvSpPr>
        <p:spPr>
          <a:xfrm>
            <a:off x="179280" y="5300640"/>
            <a:ext cx="1297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80"/>
                </a:solidFill>
                <a:latin typeface="Times New Roman"/>
              </a:rPr>
              <a:t>Гранулярн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800080"/>
                </a:solidFill>
                <a:latin typeface="Times New Roman"/>
              </a:rPr>
              <a:t>Э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4643280" y="3789360"/>
            <a:ext cx="4176720" cy="2592360"/>
            <a:chOff x="4643280" y="3789360"/>
            <a:chExt cx="4176720" cy="2592360"/>
          </a:xfrm>
        </p:grpSpPr>
        <p:sp>
          <p:nvSpPr>
            <p:cNvPr id="154" name=""/>
            <p:cNvSpPr/>
            <p:nvPr/>
          </p:nvSpPr>
          <p:spPr>
            <a:xfrm>
              <a:off x="5508720" y="3789360"/>
              <a:ext cx="2448000" cy="792000"/>
            </a:xfrm>
            <a:prstGeom prst="ellipse">
              <a:avLst/>
            </a:prstGeom>
            <a:solidFill>
              <a:srgbClr val="99ff99"/>
            </a:solidFill>
            <a:ln w="93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800080"/>
                  </a:solidFill>
                  <a:uFillTx/>
                  <a:latin typeface="Times New Roman"/>
                </a:rPr>
                <a:t>Функции ЭС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643280" y="4797360"/>
              <a:ext cx="4176720" cy="1584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99ff99"/>
                </a:gs>
                <a:gs pos="50000">
                  <a:srgbClr val="ffffcc"/>
                </a:gs>
                <a:gs pos="100000">
                  <a:srgbClr val="99ff99"/>
                </a:gs>
              </a:gsLst>
              <a:lin ang="5400000"/>
            </a:gradFill>
            <a:ln w="936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80808"/>
                </a:buClr>
                <a:buFont typeface="Wingdings" charset="2"/>
                <a:buChar char="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0808"/>
                  </a:solidFill>
                  <a:latin typeface="Times New Roman"/>
                </a:rPr>
                <a:t>Синтез белков, жиров и углеводов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80808"/>
                </a:buClr>
                <a:buFont typeface="Wingdings" charset="2"/>
                <a:buChar char="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0808"/>
                  </a:solidFill>
                  <a:latin typeface="Times New Roman"/>
                </a:rPr>
                <a:t>Накопление белков, жиров и углеводов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80808"/>
                </a:buClr>
                <a:buFont typeface="Wingdings" charset="2"/>
                <a:buChar char="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0808"/>
                  </a:solidFill>
                  <a:latin typeface="Times New Roman"/>
                </a:rPr>
                <a:t>Усиление связи между органоидами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516720" y="4581360"/>
              <a:ext cx="503280" cy="36036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6600"/>
            </a:solidFill>
            <a:ln w="93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4:16:25Z</dcterms:created>
  <dc:creator>Администратор</dc:creator>
  <dc:description/>
  <dc:language>en-US</dc:language>
  <cp:lastModifiedBy>студент</cp:lastModifiedBy>
  <dcterms:modified xsi:type="dcterms:W3CDTF">2012-06-25T09:07:57Z</dcterms:modified>
  <cp:revision>43</cp:revision>
  <dc:subject/>
  <dc:title>Общая биология: основы цитологии</dc:title>
</cp:coreProperties>
</file>