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745DA-61B4-499F-8BE9-A5D1AD33BA4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4047F-B3FA-4E43-8025-45DA8A14ADA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E2F9-D87F-4548-ADA7-ED46DE899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C709-A3AE-4B51-A951-E0B8A61DF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5419-2958-4B18-9B72-2B6637AE6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49D8-D301-408C-AFE9-886C70C80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19EDB-E8CC-4252-BFED-7AA87D894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E958E-6026-4D8F-9E58-CE8342516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4E46A-9B19-4493-B318-688FA9B7C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8EA56-521D-4BA7-AA3D-14EDF08D9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01FA7-5B04-4AAC-86F3-94C69F8FD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B3B26-D975-42FC-933C-B2777B7C6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BE2DF-A1B9-4D81-B921-B35C132CF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8385-A74F-4162-8676-2D7EF2DD8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86503-19AF-42E0-9F09-B507D16D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01013-B4C4-43C6-A1C6-7DDD99E6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589E7-01E1-4BC4-8567-219C6F1E8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48CAE-0FAF-4D61-A4FE-CD74A39F1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F978B-9B02-41E0-843F-A4418F7EB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5C7D-31BD-4D47-923E-2761A1656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1A9A-F7CB-498A-90F7-17805A1DB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05BF-C710-4DD6-913B-736307E7D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308F-C1AA-4999-9234-7EEE06149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8B0F-3334-48BD-A3C1-92F95462F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9FD0-3EE9-489F-AC11-13D93F0AF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F5E2-D241-45C7-AB7D-A83813CF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0504d"/>
              </a:gs>
              <a:gs pos="100000">
                <a:srgbClr val="a94644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1f497d"/>
                </a:gs>
                <a:gs pos="100000">
                  <a:srgbClr val="c0504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c0504d"/>
                  </a:gs>
                  <a:gs pos="100000">
                    <a:srgbClr val="af494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af4946"/>
                  </a:gs>
                  <a:gs pos="100000">
                    <a:srgbClr val="c050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c0504d"/>
                  </a:gs>
                  <a:gs pos="100000">
                    <a:srgbClr val="b54b4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ba4d4b"/>
                  </a:gs>
                  <a:gs pos="100000">
                    <a:srgbClr val="c050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c0504d"/>
                  </a:gs>
                  <a:gs pos="100000">
                    <a:srgbClr val="b54b4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54b48"/>
                  </a:gs>
                  <a:gs pos="100000">
                    <a:srgbClr val="c050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34441"/>
                  </a:gs>
                  <a:gs pos="100000">
                    <a:srgbClr val="c0504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504d"/>
                  </a:gs>
                  <a:gs pos="100000">
                    <a:srgbClr val="a9464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504d"/>
                  </a:gs>
                  <a:gs pos="100000">
                    <a:srgbClr val="a9464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b54b48"/>
                  </a:gs>
                  <a:gs pos="100000">
                    <a:srgbClr val="c050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a94644"/>
                  </a:gs>
                  <a:gs pos="100000">
                    <a:srgbClr val="c0504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0504d"/>
                  </a:gs>
                  <a:gs pos="100000">
                    <a:srgbClr val="a9464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af4946"/>
                  </a:gs>
                  <a:gs pos="100000">
                    <a:srgbClr val="c0504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a94644"/>
                  </a:gs>
                  <a:gs pos="100000">
                    <a:srgbClr val="c050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b54b48"/>
                  </a:gs>
                  <a:gs pos="100000">
                    <a:srgbClr val="c050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a94644"/>
                  </a:gs>
                  <a:gs pos="100000">
                    <a:srgbClr val="c050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c0504d"/>
                  </a:gs>
                  <a:gs pos="100000">
                    <a:srgbClr val="af494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c0504d"/>
                  </a:gs>
                  <a:gs pos="100000">
                    <a:srgbClr val="af494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f4946"/>
                  </a:gs>
                  <a:gs pos="100000">
                    <a:srgbClr val="c050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504d"/>
                  </a:gs>
                  <a:gs pos="100000">
                    <a:srgbClr val="a3444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504d"/>
                  </a:gs>
                  <a:gs pos="100000">
                    <a:srgbClr val="af494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504d"/>
                  </a:gs>
                  <a:gs pos="100000">
                    <a:srgbClr val="9d423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c05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c05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504d"/>
                  </a:gs>
                  <a:gs pos="100000">
                    <a:srgbClr val="a9464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504d"/>
                  </a:gs>
                  <a:gs pos="100000">
                    <a:srgbClr val="a9464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504d"/>
                  </a:gs>
                  <a:gs pos="100000">
                    <a:srgbClr val="a9464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c05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5553"/>
                  </a:gs>
                  <a:gs pos="100000">
                    <a:srgbClr val="c050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5553"/>
                  </a:gs>
                  <a:gs pos="100000">
                    <a:srgbClr val="c050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5a57"/>
                  </a:gs>
                  <a:gs pos="100000">
                    <a:srgbClr val="c050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504d"/>
                  </a:gs>
                  <a:gs pos="100000">
                    <a:srgbClr val="b54b4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504d"/>
                  </a:gs>
                  <a:gs pos="100000">
                    <a:srgbClr val="b54b4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504d"/>
                  </a:gs>
                  <a:gs pos="100000">
                    <a:srgbClr val="b54b4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504d"/>
                  </a:gs>
                  <a:gs pos="100000">
                    <a:srgbClr val="b54b4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c05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5553"/>
                  </a:gs>
                  <a:gs pos="100000">
                    <a:srgbClr val="c0504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5553"/>
                  </a:gs>
                  <a:gs pos="100000">
                    <a:srgbClr val="c050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5553"/>
                  </a:gs>
                  <a:gs pos="100000">
                    <a:srgbClr val="c050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b54b48"/>
                  </a:gs>
                  <a:gs pos="100000">
                    <a:srgbClr val="c0504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c25553"/>
                  </a:gs>
                  <a:gs pos="100000">
                    <a:srgbClr val="c050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c0504d"/>
                  </a:gs>
                  <a:gs pos="100000">
                    <a:srgbClr val="b54b4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b54b48"/>
                  </a:gs>
                  <a:gs pos="100000">
                    <a:srgbClr val="c050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c0504d"/>
                  </a:gs>
                  <a:gs pos="100000">
                    <a:srgbClr val="b54b4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ba4d4b"/>
                  </a:gs>
                  <a:gs pos="100000">
                    <a:srgbClr val="c050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504d"/>
                  </a:gs>
                  <a:gs pos="100000">
                    <a:srgbClr val="1f49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504d"/>
                  </a:gs>
                  <a:gs pos="100000">
                    <a:srgbClr val="1f49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504d"/>
                  </a:gs>
                  <a:gs pos="100000">
                    <a:srgbClr val="1f49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504d"/>
                  </a:gs>
                  <a:gs pos="100000">
                    <a:srgbClr val="1f49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f497d"/>
                  </a:gs>
                  <a:gs pos="100000">
                    <a:srgbClr val="c050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f497d"/>
                  </a:gs>
                  <a:gs pos="100000">
                    <a:srgbClr val="c050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504d"/>
                  </a:gs>
                  <a:gs pos="100000">
                    <a:srgbClr val="1f49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f497d"/>
                    </a:gs>
                    <a:gs pos="100000">
                      <a:srgbClr val="c050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504d"/>
                    </a:gs>
                    <a:gs pos="100000">
                      <a:srgbClr val="1f497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f497d"/>
                    </a:gs>
                    <a:gs pos="100000">
                      <a:srgbClr val="c050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504d"/>
                    </a:gs>
                    <a:gs pos="100000">
                      <a:srgbClr val="1f497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eece1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1F288-3185-4847-BAF5-BBC2B051D72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1f497d"/>
                </a:gs>
                <a:gs pos="100000">
                  <a:srgbClr val="c0504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c0504d"/>
                  </a:gs>
                  <a:gs pos="100000">
                    <a:srgbClr val="af494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af4946"/>
                  </a:gs>
                  <a:gs pos="100000">
                    <a:srgbClr val="c050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c0504d"/>
                  </a:gs>
                  <a:gs pos="100000">
                    <a:srgbClr val="b54b4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ba4d4b"/>
                  </a:gs>
                  <a:gs pos="100000">
                    <a:srgbClr val="c050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c0504d"/>
                  </a:gs>
                  <a:gs pos="100000">
                    <a:srgbClr val="b54b4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54b48"/>
                  </a:gs>
                  <a:gs pos="100000">
                    <a:srgbClr val="c050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34441"/>
                  </a:gs>
                  <a:gs pos="100000">
                    <a:srgbClr val="c0504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504d"/>
                  </a:gs>
                  <a:gs pos="100000">
                    <a:srgbClr val="a9464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504d"/>
                  </a:gs>
                  <a:gs pos="100000">
                    <a:srgbClr val="a9464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b54b48"/>
                  </a:gs>
                  <a:gs pos="100000">
                    <a:srgbClr val="c050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a94644"/>
                  </a:gs>
                  <a:gs pos="100000">
                    <a:srgbClr val="c0504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0504d"/>
                  </a:gs>
                  <a:gs pos="100000">
                    <a:srgbClr val="a9464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af4946"/>
                  </a:gs>
                  <a:gs pos="100000">
                    <a:srgbClr val="c0504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a94644"/>
                  </a:gs>
                  <a:gs pos="100000">
                    <a:srgbClr val="c050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b54b48"/>
                  </a:gs>
                  <a:gs pos="100000">
                    <a:srgbClr val="c050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a94644"/>
                  </a:gs>
                  <a:gs pos="100000">
                    <a:srgbClr val="c050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c0504d"/>
                  </a:gs>
                  <a:gs pos="100000">
                    <a:srgbClr val="af494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c0504d"/>
                  </a:gs>
                  <a:gs pos="100000">
                    <a:srgbClr val="af494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f4946"/>
                  </a:gs>
                  <a:gs pos="100000">
                    <a:srgbClr val="c050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504d"/>
                  </a:gs>
                  <a:gs pos="100000">
                    <a:srgbClr val="a3444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504d"/>
                  </a:gs>
                  <a:gs pos="100000">
                    <a:srgbClr val="af494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504d"/>
                  </a:gs>
                  <a:gs pos="100000">
                    <a:srgbClr val="9d423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c05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c05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504d"/>
                  </a:gs>
                  <a:gs pos="100000">
                    <a:srgbClr val="a9464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504d"/>
                  </a:gs>
                  <a:gs pos="100000">
                    <a:srgbClr val="a9464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504d"/>
                  </a:gs>
                  <a:gs pos="100000">
                    <a:srgbClr val="a9464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c05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5553"/>
                  </a:gs>
                  <a:gs pos="100000">
                    <a:srgbClr val="c050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5553"/>
                  </a:gs>
                  <a:gs pos="100000">
                    <a:srgbClr val="c050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5a57"/>
                  </a:gs>
                  <a:gs pos="100000">
                    <a:srgbClr val="c050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504d"/>
                  </a:gs>
                  <a:gs pos="100000">
                    <a:srgbClr val="b54b4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504d"/>
                  </a:gs>
                  <a:gs pos="100000">
                    <a:srgbClr val="b54b4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504d"/>
                  </a:gs>
                  <a:gs pos="100000">
                    <a:srgbClr val="b54b4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504d"/>
                  </a:gs>
                  <a:gs pos="100000">
                    <a:srgbClr val="b54b4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c05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5553"/>
                  </a:gs>
                  <a:gs pos="100000">
                    <a:srgbClr val="c0504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5553"/>
                  </a:gs>
                  <a:gs pos="100000">
                    <a:srgbClr val="c050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5553"/>
                  </a:gs>
                  <a:gs pos="100000">
                    <a:srgbClr val="c050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b54b48"/>
                  </a:gs>
                  <a:gs pos="100000">
                    <a:srgbClr val="c0504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c25553"/>
                  </a:gs>
                  <a:gs pos="100000">
                    <a:srgbClr val="c050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c0504d"/>
                  </a:gs>
                  <a:gs pos="100000">
                    <a:srgbClr val="b54b4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b54b48"/>
                  </a:gs>
                  <a:gs pos="100000">
                    <a:srgbClr val="c050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c0504d"/>
                  </a:gs>
                  <a:gs pos="100000">
                    <a:srgbClr val="b54b4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ba4d4b"/>
                  </a:gs>
                  <a:gs pos="100000">
                    <a:srgbClr val="c050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504d"/>
                  </a:gs>
                  <a:gs pos="100000">
                    <a:srgbClr val="1f49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504d"/>
                  </a:gs>
                  <a:gs pos="100000">
                    <a:srgbClr val="1f49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504d"/>
                  </a:gs>
                  <a:gs pos="100000">
                    <a:srgbClr val="1f49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504d"/>
                  </a:gs>
                  <a:gs pos="100000">
                    <a:srgbClr val="1f49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f497d"/>
                  </a:gs>
                  <a:gs pos="100000">
                    <a:srgbClr val="c050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f497d"/>
                  </a:gs>
                  <a:gs pos="100000">
                    <a:srgbClr val="c050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504d"/>
                  </a:gs>
                  <a:gs pos="100000">
                    <a:srgbClr val="1f49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f497d"/>
                    </a:gs>
                    <a:gs pos="100000">
                      <a:srgbClr val="c050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504d"/>
                    </a:gs>
                    <a:gs pos="100000">
                      <a:srgbClr val="1f497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f497d"/>
                    </a:gs>
                    <a:gs pos="100000">
                      <a:srgbClr val="c050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504d"/>
                    </a:gs>
                    <a:gs pos="100000">
                      <a:srgbClr val="1f497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eece1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7D997-3B14-42BA-A8B3-41A90848836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4360" y="24919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3600" spc="-1" strike="noStrike">
                <a:solidFill>
                  <a:srgbClr val="eeece1"/>
                </a:solidFill>
                <a:latin typeface="Arial"/>
              </a:rPr>
              <a:t>Формирование орфографической зоркости на уроках русского языка в рамках УМК  «Планета знаний» при написании безударных гласных в корне слова.</a:t>
            </a: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2916000" y="4652640"/>
            <a:ext cx="622764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горнова Н.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итель начальных классов  Летневской средней школ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018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eece1"/>
                </a:solidFill>
                <a:latin typeface="Arial"/>
              </a:rPr>
              <a:t>Нетрадиционные методы и приёмы  по формированию орфографической зоркости.</a:t>
            </a: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Метод графических ассоциац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Метод звуковых ассоциац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«Немой» словари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 «Толковый» словари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. «Картинный» словар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6. «Этимологический» словар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7. Схемы – угадай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8. Копилка – минут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eece1"/>
                </a:solidFill>
                <a:latin typeface="Arial"/>
              </a:rPr>
              <a:t>Нетрадиционные методы и приёмы  по формированию орфографической зоркости.</a:t>
            </a: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9. «Лишнее слово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0. «Шифровки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1. Буквы – липучки (магниты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2. «Мудрый словарик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3. «Мнемонический» словари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4. «Проба пера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5. Игра «Знаю – не знаю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eece1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eeece1"/>
                </a:solidFill>
                <a:latin typeface="Arial"/>
              </a:rPr>
              <a:t>Роль интерактивной доски при формировании орфографической  зоркости.</a:t>
            </a:r>
            <a:br>
              <a:rPr sz="4000"/>
            </a:b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новные цели использования интерактивного оборудования на уроках – это в первую очередь наглядность, эмоциональное восприятие изучаемых объекто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бота на уроке становится живым действием, вызывающим у ученика неподдельную заинтересованность. Наглядная информация помогает сосредоточить внимание именно на данной орфограмме и активно задействовать зрительную памя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9" descr="C:\Users\User\Desktop\Новая папка\SAM_1491.JPG"/>
          <p:cNvPicPr/>
          <p:nvPr/>
        </p:nvPicPr>
        <p:blipFill>
          <a:blip r:embed="rId1"/>
          <a:stretch/>
        </p:blipFill>
        <p:spPr>
          <a:xfrm>
            <a:off x="7236000" y="2565360"/>
            <a:ext cx="1657080" cy="13622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324000" y="333360"/>
            <a:ext cx="84960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 помощью интерактивной доски обучающиеся легко вставляют пропущенные буквы, отгадывают загадки и слова, разгадывают кроссворды, работают маркер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2484360" y="2421000"/>
            <a:ext cx="6480360" cy="432108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17160" y="231840"/>
            <a:ext cx="8496360" cy="2044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eece1"/>
                </a:solidFill>
                <a:latin typeface="Arial"/>
              </a:rPr>
              <a:t>Занимательные  формы упражнений с использованием интерактивной доски.</a:t>
            </a: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78920" y="2133360"/>
            <a:ext cx="3961080" cy="463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Интерактивные кроссворд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Загад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Ребус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 Тренажёры-игры, тренажёры раскрас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.Словесные игр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2" descr="C:\Users\User\Desktop\пока не надо\SAM_2453.JPG"/>
          <p:cNvPicPr/>
          <p:nvPr/>
        </p:nvPicPr>
        <p:blipFill>
          <a:blip r:embed="rId1"/>
          <a:stretch/>
        </p:blipFill>
        <p:spPr>
          <a:xfrm>
            <a:off x="4140360" y="3429000"/>
            <a:ext cx="4803480" cy="33368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eece1"/>
                </a:solidFill>
                <a:latin typeface="Arial"/>
              </a:rPr>
              <a:t>Интерактивная доска, как средство формирования регулятивных УУД при развитии орфографической зоркости.</a:t>
            </a: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324000" y="3428640"/>
            <a:ext cx="84960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своей работе я использую игровые упражнения на формирование и развитие навыков контроля и самоконтроля. Например, «Помоги Пете Ошибкину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процессе формирования орфографической зоркости при работе с безударными гласными в корне мною была проведена диагностика по итогам 1 полугодия. Дети успешно справились, так это выглядит в сравнении с входным контрольным диктантом представлено в диаграмм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Диаграмма 1" descr=""/>
          <p:cNvPicPr/>
          <p:nvPr/>
        </p:nvPicPr>
        <p:blipFill>
          <a:blip r:embed="rId1"/>
          <a:stretch/>
        </p:blipFill>
        <p:spPr>
          <a:xfrm>
            <a:off x="826920" y="3068640"/>
            <a:ext cx="8166240" cy="402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68360" y="-360"/>
            <a:ext cx="82296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етодические рекомендации по организации и использованию приёмов работы по формированию орфографической зорк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Работу по формированию орфографической зоркости необходимо  проводить на уроках русского  языка   учителем целенаправленн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 Избегать механического усвоения того или иного правила правописания, пассивности детей  по усвоению того или иного вида орфограм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Знать и грамотно составлять различные виды упражнений по формированию орфографической зорк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.Учить детей видеть орфограмму в слове и определять её ви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.Учитель должен хорошо владеть методикой проведения различных упражнений по формированию орфографической зорк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.Использовать в системе разнообразные виды упражнений, которые в свою очередь активизируют умственную деятельность детей и развивают орфографическую зоркос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.Развивать умения находить орфограммы до написания, и определять её вид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8.При подготовке учителя к урокам русского языка необходимо подбирать  приёмы, стимулирующие детей к хорошей работе,  и использовать их на каждом урок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pic>
        <p:nvPicPr>
          <p:cNvPr id="256" name="Picture 2" descr="C:\Users\User\Desktop\Новая папка\SAM_1487.JPG"/>
          <p:cNvPicPr/>
          <p:nvPr/>
        </p:nvPicPr>
        <p:blipFill>
          <a:blip r:embed="rId1"/>
          <a:stretch/>
        </p:blipFill>
        <p:spPr>
          <a:xfrm>
            <a:off x="826920" y="1773360"/>
            <a:ext cx="7777440" cy="4751280"/>
          </a:xfrm>
          <a:prstGeom prst="rect">
            <a:avLst/>
          </a:prstGeom>
          <a:ln w="0">
            <a:noFill/>
          </a:ln>
        </p:spPr>
      </p:pic>
      <p:sp>
        <p:nvSpPr>
          <p:cNvPr id="257" name="Прямоугольник 2"/>
          <p:cNvSpPr/>
          <p:nvPr/>
        </p:nvSpPr>
        <p:spPr>
          <a:xfrm>
            <a:off x="755640" y="333360"/>
            <a:ext cx="784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вод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еленаправленная, систематическая работа по формированию орфографической зоркости дает положительные  результаты. Дети усваивают основные орфограммы, учатся определять место в слове, где возникают орфографические трудност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eece1"/>
                </a:solidFill>
                <a:latin typeface="Arial"/>
              </a:rPr>
              <a:t>Литература.</a:t>
            </a: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Программы общеобразовательных учреждений.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чальная школа. УМК «Планета знаний»: русский язык, литературное чтение, математика, окружающий мир. – 2-е изд., дораб. АСТ.Астрель. Москва. 201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Л. Я. Желтовская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О. Б. Калинина. Обучение в 3 классе по учебнику «Русский язык» Л. Я, Желтовской, О. Б. Калининой. Программа. Методические рекомендации. Тематическое планирование. М. Астрель. 201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Учебник «Русский язык» Л.Я. Желтовская, О.Б. Калинина.3 класс. Москва. Астрель.201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 Современные технологии проведения уро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начальной школе с учётом требовани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ГОС под ред. Н.Н. Деменевой. М.:АРКТИ, 201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Как проектировать универсальные учебные действия в начальной школе. Пособие  для учителя / А.Г. Асмолов, Г.В. Бурменская, И.А. Володарская, О.А. Карабанова, Н.Г. Салмина, С.В. Молчанов. — М.: Просвещение, 2008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Грамотное письмо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 просто движение пишущей руки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 особая речевая деятельнос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ем развитее ребенок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ем богаче его словарь и синтаксис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ем правильнее его произношени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м легче дается ему правописание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.С. Рождественс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eece1"/>
                </a:solidFill>
                <a:latin typeface="Arial"/>
              </a:rPr>
              <a:t>Актуальность</a:t>
            </a:r>
            <a:r>
              <a:rPr b="0" lang="ru-RU" sz="2800" spc="-1" strike="noStrike">
                <a:solidFill>
                  <a:srgbClr val="eeece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ключается в том, что первые шаги на пути познания русского языка всегда самые сложные. От того, как будут сформированы азы орфографической грамотности на начальном этапе обучения, во многом зависит дальнейшее успешное обучение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56167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Цель работы:</a:t>
            </a: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172960" y="907920"/>
            <a:ext cx="6970680" cy="17575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 fontScale="48000"/>
          </a:bodyPr>
          <a:p>
            <a:pPr marL="164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64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64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64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64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2f2f2"/>
                </a:solidFill>
                <a:latin typeface="Arial"/>
              </a:rPr>
              <a:t>Показать систему работы в обучении учащихся начальных классов по развитию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2f2f2"/>
                </a:solidFill>
                <a:latin typeface="Arial"/>
              </a:rPr>
              <a:t>орфографической зоркости на уроках русского языка в рамках УМК «Планета знаний» при </a:t>
            </a:r>
            <a:r>
              <a:rPr b="0" lang="ru-RU" sz="2800" spc="-1" strike="noStrike">
                <a:solidFill>
                  <a:srgbClr val="f2f2f2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2f2f2"/>
                </a:solidFill>
                <a:latin typeface="Arial"/>
              </a:rPr>
              <a:t>написании безударных гласных в корне слова с учётом ФГО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eece1"/>
                </a:solidFill>
                <a:latin typeface="Arial"/>
              </a:rPr>
              <a:t>Задачи</a:t>
            </a: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64216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1.Провести анализ психолого – педагогической и учебно – методической литературы по данной теме.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2. Формировать орфографические навыки на основе понятий.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3. Составить  комплекс упражнений и методические рекомендации по формированию орфографической зорк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4. Показать использование интерактивного оборудования в целях формирования орфографической зорк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eeece1"/>
                </a:solidFill>
                <a:latin typeface="Arial"/>
              </a:rPr>
              <a:t>20.09.2017 г. был проведен входной контрольный диктант, в который входили слова с безударной гласной в корне слова. </a:t>
            </a:r>
            <a:endParaRPr b="0" lang="en-US" sz="3200" spc="-1" strike="noStrike">
              <a:solidFill>
                <a:srgbClr val="eeece1"/>
              </a:solidFill>
              <a:latin typeface="Arial"/>
            </a:endParaRPr>
          </a:p>
        </p:txBody>
      </p:sp>
      <p:graphicFrame>
        <p:nvGraphicFramePr>
          <p:cNvPr id="229" name="Объект 5"/>
          <p:cNvGraphicFramePr/>
          <p:nvPr/>
        </p:nvGraphicFramePr>
        <p:xfrm>
          <a:off x="406440" y="2662200"/>
          <a:ext cx="8331120" cy="351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0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2662200"/>
                    <a:ext cx="8331120" cy="35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eece1"/>
                </a:solidFill>
                <a:latin typeface="Arial"/>
              </a:rPr>
              <a:t>Формирование орфографической зоркости условно можно разбить на три этапа: </a:t>
            </a: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 этап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 этап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 этап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Упражнения для развития  орфографической зоркости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Письмо с проговариванием ( в основе этого письма – проговаривание по слогам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eece1"/>
                </a:solidFill>
                <a:latin typeface="Arial"/>
              </a:rPr>
              <a:t>2.Письмо под диктовку 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eece1"/>
                </a:solidFill>
                <a:latin typeface="Arial"/>
              </a:rPr>
              <a:t>предварительной подготовк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eece1"/>
                </a:solidFill>
                <a:latin typeface="Arial"/>
              </a:rPr>
              <a:t>3.Письмо по памят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eece1"/>
                </a:solidFill>
                <a:latin typeface="Arial"/>
              </a:rPr>
              <a:t>4.Определение орфограмм «безударные гласные» на слух и выделение их в текст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. Творческие работ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6. Постановка пропущенных букв в места орфограмм «Безударные гласные в корне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7.Списывание текста и выделение орфограммы- правописание безударной гласной в корне слов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8. Орфографическ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каз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4788000" y="4035600"/>
            <a:ext cx="4248000" cy="273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10:12:52Z</dcterms:created>
  <dc:creator>001</dc:creator>
  <dc:description/>
  <dc:language>en-US</dc:language>
  <cp:lastModifiedBy>User</cp:lastModifiedBy>
  <dcterms:modified xsi:type="dcterms:W3CDTF">2018-01-31T13:09:45Z</dcterms:modified>
  <cp:revision>136</cp:revision>
  <dc:subject/>
  <dc:title>Словарно-орфографическая работа на уроках русского языка по УМК «Гармония»</dc:title>
</cp:coreProperties>
</file>