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3.png" ContentType="image/pn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EFD-F125-47E3-A2DD-15F68080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064-D9ED-41DC-9B5B-0A414F2F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1C2-CCFD-4825-A373-63601A16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01B-1684-4852-BF29-3AD6443D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F7D-8AD3-43BC-A0AB-403E7B5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492-4565-4490-82D2-EF1A030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EC0-24DB-447C-9128-52087204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D17-97C0-4531-A139-097C171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D95-6F43-4B26-8F79-4BED863E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3CE-42EA-4F25-8850-0F3E7250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630-3511-41B5-B450-23AB9E2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E7D-188E-42C1-B6F2-2ED5E2D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7FA-D5D3-4E0D-B940-1EF9E3D8A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IMG_03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-244440" y="0"/>
            <a:ext cx="94806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IMG_0302.jpg"/>
          <p:cNvPicPr/>
          <p:nvPr/>
        </p:nvPicPr>
        <p:blipFill>
          <a:blip r:embed="rId1">
            <a:alphaModFix am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2017800" y="-285840"/>
            <a:ext cx="494964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ая выноска 11" descr=""/>
          <p:cNvPicPr/>
          <p:nvPr/>
        </p:nvPicPr>
        <p:blipFill>
          <a:blip r:embed="rId3"/>
          <a:stretch/>
        </p:blipFill>
        <p:spPr>
          <a:xfrm>
            <a:off x="5986440" y="4303800"/>
            <a:ext cx="302904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ая выноска 12" descr=""/>
          <p:cNvPicPr/>
          <p:nvPr/>
        </p:nvPicPr>
        <p:blipFill>
          <a:blip r:embed="rId4"/>
          <a:stretch/>
        </p:blipFill>
        <p:spPr>
          <a:xfrm>
            <a:off x="92160" y="4681440"/>
            <a:ext cx="3809880" cy="18050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ая выноска 13" descr=""/>
          <p:cNvPicPr/>
          <p:nvPr/>
        </p:nvPicPr>
        <p:blipFill>
          <a:blip r:embed="rId5"/>
          <a:stretch/>
        </p:blipFill>
        <p:spPr>
          <a:xfrm>
            <a:off x="3486240" y="4638600"/>
            <a:ext cx="245736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ая выноска 14" descr=""/>
          <p:cNvPicPr/>
          <p:nvPr/>
        </p:nvPicPr>
        <p:blipFill>
          <a:blip r:embed="rId6"/>
          <a:stretch/>
        </p:blipFill>
        <p:spPr>
          <a:xfrm>
            <a:off x="146160" y="639720"/>
            <a:ext cx="2652480" cy="2846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ая выноска 15" descr=""/>
          <p:cNvPicPr/>
          <p:nvPr/>
        </p:nvPicPr>
        <p:blipFill>
          <a:blip r:embed="rId7"/>
          <a:stretch/>
        </p:blipFill>
        <p:spPr>
          <a:xfrm>
            <a:off x="4595760" y="493560"/>
            <a:ext cx="4273560" cy="1560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ая выноска 16" descr=""/>
          <p:cNvPicPr/>
          <p:nvPr/>
        </p:nvPicPr>
        <p:blipFill>
          <a:blip r:embed="rId8"/>
          <a:stretch/>
        </p:blipFill>
        <p:spPr>
          <a:xfrm>
            <a:off x="2468520" y="566640"/>
            <a:ext cx="3303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IMG_0459.JPG"/>
          <p:cNvPicPr/>
          <p:nvPr/>
        </p:nvPicPr>
        <p:blipFill>
          <a:blip r:embed="rId1"/>
          <a:stretch/>
        </p:blipFill>
        <p:spPr>
          <a:xfrm>
            <a:off x="547560" y="307800"/>
            <a:ext cx="8096400" cy="60724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933480" y="371520"/>
            <a:ext cx="7259760" cy="811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44400" y="1025640"/>
            <a:ext cx="400068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скоро садят, да нескоро от него плоды едя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т хорошего дерева — хороший пл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по плодам, а человек по делам познае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ривое дерево не разогнется прям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ет такого дерева, чтоб на него птица не садилас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валят туда, куда оно нагнулос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и сухих щепках и сырое дерево разгорае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 откормить коня сухопарого, не отрастить дерева суховерхог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 на дереве лист на лист не приходи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держится корнями, а человек друзья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не поранишь — соку не достанеш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немо, а вежеству учи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дереву розн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не поранишь — соку не достанеш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с огнем не дружи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срубишь — ветви сами упаду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ерево с одного стуку не вали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з одного дерева, да разные подел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то деревцо посадит, тот человеку дру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е беречь поросли — не видать и дере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е от добра дерево листья роняе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д большим деревом и гриб вольготнее расте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Руби дерево здоровое, а гнилое и само свали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ломить дерево — секунда, а вырастить — г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тарое дерево скрипит, да живе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986360" y="990720"/>
            <a:ext cx="3244680" cy="53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з деревьев ранним лет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друг снежинки запорхают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 не радует нас это – мы от этого чихае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(Тополь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елые овечки бегают по свечк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(Верб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от свершилась злая доля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ыло дерево когда-то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 теперь тут круглый стол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 за ним сидят опя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(Пенё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о ли с крыши, то ли с неба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ли вата, или пух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ли может хлопья сне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оявились летом вдруг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то же их исподтиш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ыплет будто из мешка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(Тополь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чень густо он растёт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езаметно он цветёт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 когда проходит лето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ы едим его конфеты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е в бумажке, а в скорлупке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ерегите, детки, зубки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(Орешни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IMG_0460.JPG"/>
          <p:cNvPicPr/>
          <p:nvPr/>
        </p:nvPicPr>
        <p:blipFill>
          <a:blip r:embed="rId1"/>
          <a:stretch/>
        </p:blipFill>
        <p:spPr>
          <a:xfrm>
            <a:off x="588960" y="35712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360360"/>
            <a:ext cx="4114800" cy="809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642960" y="1077840"/>
            <a:ext cx="2570040" cy="56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лая береза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 моим окном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акрылась снегом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пушистых ветках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ежною каймой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пустились кисти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стоит береза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нной тишине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горят снежинки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заря, лениво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ходя кругом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сыпает ветки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вым сереб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б дали березе расческу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менила б береза прическу: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чку, как в зеркало, глядя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сала б кудрявые пряди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ошло б у нее в привычку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утрам заплетать косич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286080" y="1071720"/>
            <a:ext cx="271476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а модница лесна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асто свой наряд меня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шубке белой – зим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я в сережках – вес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рафан зеленый – лет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день осенний – в плащ оде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ветер налет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лотистый плащ шурш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. Семе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рба, верба, верб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рба зацвел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 значит верн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весна при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 значит верн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име конец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мый, самый перв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летел скворец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свистел в скворечн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— Ну, теперь я здеш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весне не верьт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ышен ветра свис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072120" y="1071720"/>
            <a:ext cx="2714760" cy="520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тер, ветер, ветер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дорогам верт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шлогодний ли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 апрелю шут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льский детский сад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тром скинул шуб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олдень — снегопа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не так уж сквер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стоят де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верба, верб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рба зацве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уб дождя и ветра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все не боится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то сказал, что дубу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шно простудиться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дь до поздней осени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тоит зелёный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начит, дуб выносливый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начит, закалён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IMG_0461.JPG"/>
          <p:cNvPicPr/>
          <p:nvPr/>
        </p:nvPicPr>
        <p:blipFill>
          <a:blip r:embed="rId1"/>
          <a:stretch/>
        </p:blipFill>
        <p:spPr>
          <a:xfrm>
            <a:off x="500040" y="214200"/>
            <a:ext cx="8215200" cy="6161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2"/>
          <a:stretch/>
        </p:blipFill>
        <p:spPr>
          <a:xfrm>
            <a:off x="2266920" y="360360"/>
            <a:ext cx="4829040" cy="80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40324_0680e07d214c6838fa8a592c4da97470.jpg.jpg"/>
          <p:cNvPicPr/>
          <p:nvPr/>
        </p:nvPicPr>
        <p:blipFill>
          <a:blip r:embed="rId3"/>
          <a:stretch/>
        </p:blipFill>
        <p:spPr>
          <a:xfrm>
            <a:off x="571680" y="1000080"/>
            <a:ext cx="5616360" cy="42148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40324_3731b9b989d41eaf559c0798d5b6c8d8.jpg.jpg"/>
          <p:cNvPicPr/>
          <p:nvPr/>
        </p:nvPicPr>
        <p:blipFill>
          <a:blip r:embed="rId4"/>
          <a:stretch/>
        </p:blipFill>
        <p:spPr>
          <a:xfrm>
            <a:off x="928800" y="1214280"/>
            <a:ext cx="56023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40324_6d404f90d4bd50ed93835eac8a429f89.jpg.jpg"/>
          <p:cNvPicPr/>
          <p:nvPr/>
        </p:nvPicPr>
        <p:blipFill>
          <a:blip r:embed="rId5"/>
          <a:stretch/>
        </p:blipFill>
        <p:spPr>
          <a:xfrm>
            <a:off x="1285920" y="1571760"/>
            <a:ext cx="5429160" cy="4073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slide_5.jpg"/>
          <p:cNvPicPr/>
          <p:nvPr/>
        </p:nvPicPr>
        <p:blipFill>
          <a:blip r:embed="rId6"/>
          <a:stretch/>
        </p:blipFill>
        <p:spPr>
          <a:xfrm>
            <a:off x="1571760" y="1857240"/>
            <a:ext cx="53910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IMG_0462.JPG"/>
          <p:cNvPicPr/>
          <p:nvPr/>
        </p:nvPicPr>
        <p:blipFill>
          <a:blip r:embed="rId1"/>
          <a:stretch/>
        </p:blipFill>
        <p:spPr>
          <a:xfrm>
            <a:off x="571680" y="385920"/>
            <a:ext cx="8072280" cy="60544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2266920" y="360360"/>
            <a:ext cx="4829040" cy="809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много.jpg"/>
          <p:cNvPicPr/>
          <p:nvPr/>
        </p:nvPicPr>
        <p:blipFill>
          <a:blip r:embed="rId3"/>
          <a:stretch/>
        </p:blipFill>
        <p:spPr>
          <a:xfrm>
            <a:off x="2786040" y="1143000"/>
            <a:ext cx="40006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IMG_0463.JPG"/>
          <p:cNvPicPr/>
          <p:nvPr/>
        </p:nvPicPr>
        <p:blipFill>
          <a:blip r:embed="rId1"/>
          <a:stretch/>
        </p:blipFill>
        <p:spPr>
          <a:xfrm>
            <a:off x="574560" y="388800"/>
            <a:ext cx="8072640" cy="60534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4" descr=""/>
          <p:cNvPicPr/>
          <p:nvPr/>
        </p:nvPicPr>
        <p:blipFill>
          <a:blip r:embed="rId2"/>
          <a:stretch/>
        </p:blipFill>
        <p:spPr>
          <a:xfrm>
            <a:off x="2762280" y="360360"/>
            <a:ext cx="384012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Мнемо-таблица Деревья.jpg"/>
          <p:cNvPicPr/>
          <p:nvPr/>
        </p:nvPicPr>
        <p:blipFill>
          <a:blip r:embed="rId3"/>
          <a:stretch/>
        </p:blipFill>
        <p:spPr>
          <a:xfrm>
            <a:off x="785880" y="714240"/>
            <a:ext cx="6207120" cy="4172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img4.jpg"/>
          <p:cNvPicPr/>
          <p:nvPr/>
        </p:nvPicPr>
        <p:blipFill>
          <a:blip r:embed="rId4"/>
          <a:stretch/>
        </p:blipFill>
        <p:spPr>
          <a:xfrm>
            <a:off x="1285920" y="928800"/>
            <a:ext cx="670716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IMG_0464.JPG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150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2"/>
          <a:stretch/>
        </p:blipFill>
        <p:spPr>
          <a:xfrm>
            <a:off x="1908000" y="360360"/>
            <a:ext cx="554688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много 3.jpg"/>
          <p:cNvPicPr/>
          <p:nvPr/>
        </p:nvPicPr>
        <p:blipFill>
          <a:blip r:embed="rId3"/>
          <a:stretch/>
        </p:blipFill>
        <p:spPr>
          <a:xfrm>
            <a:off x="1143000" y="1143000"/>
            <a:ext cx="6858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IMG_0465.JPG"/>
          <p:cNvPicPr/>
          <p:nvPr/>
        </p:nvPicPr>
        <p:blipFill>
          <a:blip r:embed="rId1"/>
          <a:stretch/>
        </p:blipFill>
        <p:spPr>
          <a:xfrm>
            <a:off x="436680" y="285840"/>
            <a:ext cx="8286480" cy="62150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2590920" y="360360"/>
            <a:ext cx="4181400" cy="809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42960" y="1000080"/>
            <a:ext cx="4000320" cy="54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на тему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происходит с лесами на нашей планете?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земельных угодий немного превышает 4 миллиарда гектар, но не все эти земли заняты лесами, в это число входят дороги. Поляны. Просеки. Если вычести их площадь, то останется всего около 3 миллиардов гектар, что составляет 0,8 гектара на одного человека. Для нашей планеты - это немног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-15% - северные хвойные, которые находятся в основном в России, США и Канаде. 55-60% принадлежит тропическим лесам, больше всего лесной территории приходится на человека в Канаде – 9,4 гектара, 5,2 гектара на жителя Росс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веков назад леса занимали почти всю территорию Европы, теперь же от тех лесов осталась лишь одна треть. Финляндия остается самым «богатым» государством, 70% территории страны – леса. Азия, куда можно отнести нашу Сибирь и тропики юго-востока тоже не уступают своих позиций, две трети Америк тоже можно по праву назвать легкими планеты. Четвертая часть Африки и пятая Австралии также являются лесными зон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остаточно ли лесов на планете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жизненно необходимы планете. Они обогащают атмосферу кислородом, огромная роль принадлежит деревьям в круговороте воды на планете. Они забирают влагу из почвы, фильтруют ее и выделяют в окружающую среду, тем самым повышается влажность воздуха. Деревья поднимают подземные воды, обогащают почву, защищают ее от эрозии и опустынивания, поэтому без леса реки мелеют моментальн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леса приносит планете разнообразный и значительный ущерб. Меньше леса – больше парниковых газов, основным является углекислый газ. Гниющие леса, которые остаются после вырубки, тоже выделяют углерод в атмосфер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714920" y="1000080"/>
            <a:ext cx="4000320" cy="461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е леса являются самыми богатыми экосистемами на планете, если потерять тропические леса, то это будет невосполнимая утрата для планет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окладов Организации по продовольствию и сельскому хозяйству ООН, потеря лесов продолжается по всему миру и скорость ее возрастает. Каждый год 13 миллионов гектаров леса вырубается, а вырастает всего 6 гектаров! Эта цифру можно представить себе. Каждую секунду на планете исчезает лесной массив площадью с футбольное пол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роисходит неравномерно, одни страны сокращают количество лесов (Южная Америка, Африка) намного быстрее, чем другие. Некоторые страны наоборот увеличивают количество земель с деревьями. Однако, общая ситуация не несет ничего позитивног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состоит в том, что многие организации, которые связаны с вырубкой леса, получают распоряжения со стороны государства, которое в свою очередь лесные потери оглашать не хоч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приходит к тому, что скорость обезлесения будет снижаться, но продолжаться оно будет, пусть и медленным темпом. Будет происходить опустынивание природных зон и увеличение количества парниковых газ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тву известны истории, когда вырубка деревьев стала причиной гибели цивилизации, например, цивилизация на острове Пасхи. Нужно стремиться не повторять печальных приме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9T18:41:12Z</dcterms:created>
  <dc:creator>Саша</dc:creator>
  <dc:description/>
  <dc:language>en-US</dc:language>
  <cp:lastModifiedBy>Саша</cp:lastModifiedBy>
  <dcterms:modified xsi:type="dcterms:W3CDTF">2018-01-31T18:45:58Z</dcterms:modified>
  <cp:revision>39</cp:revision>
  <dc:subject/>
  <dc:title>Слайд 1</dc:title>
</cp:coreProperties>
</file>