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A1C-B742-416B-9927-060F7C27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EE-73AB-4D13-B5C0-B857B03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5E0-3890-48E6-89EE-95E7DD0F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92F-4191-4D77-A0CD-BA8FE5E5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BCF-1FB3-4029-92DB-1759F11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674-803D-4B76-A227-622A228A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621-CAD5-4915-9412-33A765F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4D7-8BD7-4DD2-8AA0-BA7BB573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713-0B29-45C6-93D9-73141CF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6D6-A2C4-44E0-AD6E-812A39E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C2B-522D-4B96-9F07-A913244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2A7-55BE-4E79-88C2-63F458A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A2E7-2077-4185-82A2-0064C53C6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91920"/>
            <a:ext cx="467856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я професс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7634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чу стать астроно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Картинки по запросу астроном"/>
          <p:cNvPicPr/>
          <p:nvPr/>
        </p:nvPicPr>
        <p:blipFill>
          <a:blip r:embed="rId1"/>
          <a:stretch/>
        </p:blipFill>
        <p:spPr>
          <a:xfrm>
            <a:off x="1763640" y="3068640"/>
            <a:ext cx="523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22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ще в древности, у всех цивилизаций, начиная от Египта до индейцев майя особо почитались люди, которые могли «читать» звез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Картинки по запросу астроном"/>
          <p:cNvPicPr/>
          <p:nvPr/>
        </p:nvPicPr>
        <p:blipFill>
          <a:blip r:embed="rId1"/>
          <a:stretch/>
        </p:blipFill>
        <p:spPr>
          <a:xfrm>
            <a:off x="2987640" y="3284640"/>
            <a:ext cx="2952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здочеты знали о продолжительности дня и н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здочеты знали об изменении фаз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здочеты знали о смене времен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Картинки по запросу день и ночь"/>
          <p:cNvPicPr/>
          <p:nvPr/>
        </p:nvPicPr>
        <p:blipFill>
          <a:blip r:embed="rId1"/>
          <a:stretch/>
        </p:blipFill>
        <p:spPr>
          <a:xfrm>
            <a:off x="6588000" y="692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Картинки по запросу фазы луны"/>
          <p:cNvPicPr/>
          <p:nvPr/>
        </p:nvPicPr>
        <p:blipFill>
          <a:blip r:embed="rId2"/>
          <a:stretch/>
        </p:blipFill>
        <p:spPr>
          <a:xfrm>
            <a:off x="2916360" y="2924280"/>
            <a:ext cx="3313080" cy="17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Картинки по запросу времена года"/>
          <p:cNvPicPr/>
          <p:nvPr/>
        </p:nvPicPr>
        <p:blipFill>
          <a:blip r:embed="rId3"/>
          <a:stretch/>
        </p:blipFill>
        <p:spPr>
          <a:xfrm>
            <a:off x="900000" y="5157720"/>
            <a:ext cx="24098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ездочеты подсказывали когда нужно сеять и когда собирать урож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очеты могли не только подсказать, когда нужно сеять и собирать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Картинки по запросу урожай крестьянин"/>
          <p:cNvPicPr/>
          <p:nvPr/>
        </p:nvPicPr>
        <p:blipFill>
          <a:blip r:embed="rId1"/>
          <a:stretch/>
        </p:blipFill>
        <p:spPr>
          <a:xfrm>
            <a:off x="1979640" y="2133720"/>
            <a:ext cx="53341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вездочеты пытались понять как устроен наш м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5" descr="Картинки по запросу мир черепаха три слона"/>
          <p:cNvPicPr/>
          <p:nvPr/>
        </p:nvPicPr>
        <p:blipFill>
          <a:blip r:embed="rId1"/>
          <a:stretch/>
        </p:blipFill>
        <p:spPr>
          <a:xfrm>
            <a:off x="2268360" y="2852640"/>
            <a:ext cx="4464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изобретением телескопа, человечество заглянуло далеко в Космос. Мощные обсерватории наблюдают за миллиардами звезд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Картинки по запросу обсерватории"/>
          <p:cNvPicPr/>
          <p:nvPr/>
        </p:nvPicPr>
        <p:blipFill>
          <a:blip r:embed="rId1"/>
          <a:stretch/>
        </p:blipFill>
        <p:spPr>
          <a:xfrm>
            <a:off x="1763640" y="3573360"/>
            <a:ext cx="561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11:44:49Z</dcterms:created>
  <dc:creator>yurik</dc:creator>
  <dc:description/>
  <dc:language>en-US</dc:language>
  <cp:lastModifiedBy>RePack by SPecialiST</cp:lastModifiedBy>
  <dcterms:modified xsi:type="dcterms:W3CDTF">2018-01-31T00:23:32Z</dcterms:modified>
  <cp:revision>5</cp:revision>
  <dc:subject/>
  <dc:title>Моя профессия !</dc:title>
</cp:coreProperties>
</file>