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DF2-6FAF-4B5E-A896-F6C639B1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6A8-47E7-4E00-82DA-40B20376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94F-6A19-4AE1-925F-DF632C05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2C1-6242-4491-99C7-AF1BA1F0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9A00-FD8F-488D-8615-24B93E73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87C6-8BDB-402B-9B07-CEFB79A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A7C8-0892-48E3-81DB-A6A64750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4F7-4E7A-4515-8F99-C34A780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C636-0042-46D5-94A6-5860236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77B7-A5B9-4959-8C38-451C8A9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72CF-F97D-457A-96A8-E0EBAA7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8C6-D7A6-4195-9841-B12CCD8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2268-1477-4779-A9CD-BBB06CB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EED4-AE63-402D-BD4E-5B7BA57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1F26-4F13-4A1F-9848-3C8997D3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84F9-D51D-4F3A-979B-0DB3D4FD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CFFB-8044-42C1-97CA-8F9BBF46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4920-903F-49DA-AC0D-53209B33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1255-1492-4003-9B70-3122AD83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A4B7-9F6B-4FC4-BC48-5C58388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4465-820A-4939-BB82-E276595D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37AB-F81D-42AB-A5DF-3D6E1368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D9E-FD21-46E5-A8D3-37C434AB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396C-701E-41F9-8CC9-668FBDE4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F1B9-196D-413C-81D9-9DD71EC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6FC6-71C8-4E95-A900-1C4A97F1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2D33-322A-4880-9C7C-D5F3F53E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5256-BBA1-4611-8D73-329FF446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7273-29EF-42B9-B41D-90130C35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2923-98E9-458B-B46A-4506703B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5E6D-4FB2-4B15-A0A8-63FB494B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CEF4-BB95-487C-96C2-A9267FB3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9D7D7-746F-473B-AE69-B652934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889-5BB6-4C84-9E57-7CFAFAD5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4CE6-B18F-4229-9EE7-AE6B540D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2E0E-FA9D-4EE2-94EF-000EAF7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6694-CBC3-4684-8488-7B0CEAE3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9387-A19A-499F-B6FA-23FF2BD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45CB-BF3F-4550-BF44-6883409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25D9-85C9-456D-9050-FA7B28DD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BFC8-9707-4D64-95BD-C2379D96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691D-23E1-49D5-AA8D-4F795209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D65C-1182-40A3-B6B8-B43587B6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20A7-7895-4914-88CD-3A0B1469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A7B-4C6F-4CA1-BCAB-1213305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0F1E-8C97-4897-8D16-5A804DB0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71D97-823B-44A2-9A16-DCFA7DE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7FFD-9495-4C98-BAD1-D7041287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A68B-2C7A-45A8-B606-BD16A3B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70D7-A344-4245-884D-3619E58E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E780-1AE5-467D-85A8-348A990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9BFD9-6669-41CF-B48C-69FA241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1874-9D21-41E2-A219-CCA7AF1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7FC2-8096-4459-AD54-704A2E83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4198-5CE3-42ED-A05F-F8686C48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BEB-F31E-4FC8-9511-48EC787D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09D5A-1F2A-4A48-B35E-966B2894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2D39-97FC-4CF9-96B0-35EA5EA8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FEA1-A364-4B05-BC37-2415007E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78839-6B69-4CA7-B8ED-06DD9604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F9E8-B2B9-4EA4-AEE2-F9598574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6A1FF-4A0D-4F3A-B7BE-C3D66EA1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44998-8F0B-4195-BA9B-4CC01EE6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6AB4-6CEE-407F-836D-03BD17E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D07F-21F1-4189-A092-E55756D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B9B5-694E-402B-8360-625BF36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581-8CAF-4099-8DBA-6F6FB20B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D948E-A06B-42E0-8504-5DF49E9F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8AED8-C329-4ABB-B6CD-5EFFEF54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6612-2786-45C9-8651-A47D6F1B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5559-5D93-4C4C-B5DD-5C27D177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AB84-88E2-4C19-95D1-B1DA55FC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BDE63-7CC1-4EB4-AF2C-AF2C5E6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E9A9-5106-4D9B-BA23-5ABC3A8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C323-6168-4450-96F7-A14D122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2EA0-07F0-40D3-9375-35E6364A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F647-C771-4EE5-970E-084CDDF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F48-7D1B-424B-9176-302F1A19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DFF2D-F405-4773-A2B3-3410020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7C9BA-F1F5-433F-9BB2-7346F52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F28D4-BE96-4085-9F48-910FA853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57CB1-ED7A-4AD0-A8B7-D817028D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DD7C-B222-4CB9-ACCE-03D40B65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E36-6633-4261-A014-6DF4DD1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712-B4E4-4A2D-A2AF-3D6C35F020F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F90E-88E6-4FF6-A3B8-B305D999E5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AD70-265E-4C27-A61E-326CD51F7D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3A3F-3752-4C5F-8FA8-45E3C1C3BC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3B98-FCC9-42DA-AAFC-2964EFA687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8F3-F83D-43BC-B841-D1EDE63B68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105-BD57-4F75-92E8-7064BE0BA03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4" descr="j0212661"/>
          <p:cNvPicPr/>
          <p:nvPr/>
        </p:nvPicPr>
        <p:blipFill>
          <a:blip r:embed="rId1"/>
          <a:stretch/>
        </p:blipFill>
        <p:spPr>
          <a:xfrm>
            <a:off x="3679920" y="2522520"/>
            <a:ext cx="1782720" cy="1811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Осень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838080" y="1905120"/>
            <a:ext cx="7391520" cy="17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ЕНЬ В ЗАГАДКАХ, пословицах, ребусах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9677520" y="213372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3352680" y="457200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подготовили ученики 3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ООШ п.Приморь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руководитель: Семиход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77407575_large_14"/>
          <p:cNvPicPr/>
          <p:nvPr/>
        </p:nvPicPr>
        <p:blipFill>
          <a:blip r:embed="rId1"/>
          <a:stretch/>
        </p:blipFill>
        <p:spPr>
          <a:xfrm>
            <a:off x="1190520" y="2590920"/>
            <a:ext cx="6762960" cy="38862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"/>
          <p:cNvSpPr/>
          <p:nvPr/>
        </p:nvSpPr>
        <p:spPr>
          <a:xfrm>
            <a:off x="1371600" y="12952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снег, на одном, часу, в октябре, и дожд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702366_774829"/>
          <p:cNvPicPr/>
          <p:nvPr/>
        </p:nvPicPr>
        <p:blipFill>
          <a:blip r:embed="rId1"/>
          <a:stretch/>
        </p:blipFill>
        <p:spPr>
          <a:xfrm>
            <a:off x="647640" y="723960"/>
            <a:ext cx="7925040" cy="601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x_81900274"/>
          <p:cNvPicPr/>
          <p:nvPr/>
        </p:nvPicPr>
        <p:blipFill>
          <a:blip r:embed="rId1"/>
          <a:stretch/>
        </p:blipFill>
        <p:spPr>
          <a:xfrm>
            <a:off x="1704960" y="552600"/>
            <a:ext cx="5734080" cy="575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04920" y="1828800"/>
            <a:ext cx="822960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Осень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Ходит осень по дорожк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омочила в лужах ножк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Льют дожди, и нет просвета -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Затерялось где-то лето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Ходит осень, бродит осень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етер с клёна листья сброси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д ногами коврик новый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Жёлто-розовый кленовый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тихотворение про осень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x_d9af3c6b"/>
          <p:cNvPicPr/>
          <p:nvPr/>
        </p:nvPicPr>
        <p:blipFill>
          <a:blip r:embed="rId1"/>
          <a:stretch/>
        </p:blipFill>
        <p:spPr>
          <a:xfrm>
            <a:off x="736560" y="704880"/>
            <a:ext cx="7670880" cy="5448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6" descr="b45c1cc6e049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400800"/>
          </a:xfrm>
          <a:prstGeom prst="rect">
            <a:avLst/>
          </a:prstGeom>
          <a:ln w="0">
            <a:noFill/>
          </a:ln>
        </p:spPr>
      </p:pic>
      <p:sp>
        <p:nvSpPr>
          <p:cNvPr id="346" name="WordArt 8"/>
          <p:cNvSpPr txBox="1"/>
          <p:nvPr/>
        </p:nvSpPr>
        <p:spPr>
          <a:xfrm>
            <a:off x="3124080" y="533520"/>
            <a:ext cx="3105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 о с л о в и ц ы 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457200" y="2209680"/>
            <a:ext cx="33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ыплят по осени счит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124080" y="2362320"/>
            <a:ext cx="55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 холоден , да с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1165320" y="2895480"/>
            <a:ext cx="79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нтябре и лист на дереве не держ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942840" y="4125960"/>
            <a:ext cx="71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 птицу в дорогу тороп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-142920" y="5268960"/>
            <a:ext cx="72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ктября летом не пах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0" y="4648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оябре зима с осенью бор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609480" y="610704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ний дождь мелко сеет , да долго тян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5" descr="photo128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355" name="WordArt 7"/>
          <p:cNvSpPr txBox="1"/>
          <p:nvPr/>
        </p:nvSpPr>
        <p:spPr>
          <a:xfrm>
            <a:off x="1828800" y="60948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ЗАГАДК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4858200" y="1916280"/>
            <a:ext cx="34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Листья падают с ос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чится в небе острый к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365040" y="38210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4859640" y="3821040"/>
            <a:ext cx="330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тром мы во двор идё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Листья сыплются дожд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од ногами шелестя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 летят ,летят , летя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669960" y="19162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"/>
          <p:cNvSpPr/>
          <p:nvPr/>
        </p:nvSpPr>
        <p:spPr>
          <a:xfrm>
            <a:off x="762120" y="191628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чит поле , лес и луг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, дом и всё вокруг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ков и туч он вожд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же знаешь ,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075680" y="4021200"/>
            <a:ext cx="351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 в гости к нам при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 собою принес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? Скажите науга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, конеч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92400" cy="3701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4419720" y="251460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Н  =  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extBox 1" descr=""/>
          <p:cNvPicPr/>
          <p:nvPr/>
        </p:nvPicPr>
        <p:blipFill>
          <a:blip r:embed="rId1"/>
          <a:stretch/>
        </p:blipFill>
        <p:spPr>
          <a:xfrm>
            <a:off x="1450800" y="2060640"/>
            <a:ext cx="6400800" cy="156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"/>
          <p:cNvPicPr/>
          <p:nvPr/>
        </p:nvPicPr>
        <p:blipFill>
          <a:blip r:embed="rId1"/>
          <a:stretch/>
        </p:blipFill>
        <p:spPr>
          <a:xfrm>
            <a:off x="4267080" y="2760840"/>
            <a:ext cx="4572000" cy="25714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457200" y="1600200"/>
            <a:ext cx="70707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данных слов составьте послов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ень, снопами, а, красна, весна, цве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осень"/>
          <p:cNvPicPr/>
          <p:nvPr/>
        </p:nvPicPr>
        <p:blipFill>
          <a:blip r:embed="rId1"/>
          <a:stretch/>
        </p:blipFill>
        <p:spPr>
          <a:xfrm>
            <a:off x="3517920" y="2673360"/>
            <a:ext cx="5334120" cy="380376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1"/>
          <p:cNvSpPr/>
          <p:nvPr/>
        </p:nvSpPr>
        <p:spPr>
          <a:xfrm>
            <a:off x="203040" y="1488960"/>
            <a:ext cx="6629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емь, осень,             перем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ut-1</cp:lastModifiedBy>
  <dcterms:modified xsi:type="dcterms:W3CDTF">2018-01-31T08:21:4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