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78D-5FA3-49B8-9B8E-9E9C21BC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463-8BFC-4725-810C-6462618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B0EED-420D-4A61-B4FF-380A505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E4B6-473A-474E-99EB-0700C81A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345D3-F207-4A6C-80F0-016DA216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BC458-B2CE-4282-A2F8-C6206EF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842B5-35E4-4B93-A976-FADF57B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0E68C-2566-47EA-B57A-D6C026F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A6465-1D5E-488B-B6F2-D5D0FC2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F67A-E1D7-4690-A749-F170770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37778-54AC-45B6-B44F-99168D7F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E4F8-8E88-406B-944A-3F2B27E3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1F8-870F-4D02-8099-64E9E051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D63B-73E2-4D2D-BA96-53378B65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CA77A-9AA7-41D5-B3F8-B52CF2B5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64638-00F5-4A16-BC7E-E89CB95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E8C2-5678-46BD-9B24-359D8899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1DBBE-BD4C-4639-91A5-AFD1C30B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72D0-E34F-47EE-AAD1-BE31891A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26E3C-6EC0-4364-A479-9E8B708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336FB-8ED3-4A53-B26E-A537E5E0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22E65-D4C1-4B1C-AE4B-58E2F75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FA9FA-BE75-4763-82C9-D28CD525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54A-3BCE-42CC-B689-472319A8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E4BF1-DCD9-4C92-BF80-1215720F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16718-23C1-42B2-AE10-87EE7175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1F9D-187F-4D01-ACF5-C1AD488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15012-2D76-4F62-BD76-E55D072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35BAE-64C4-458E-B85E-810EA17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49637-353F-483C-AF2F-EC3372A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FCAEF-A580-4DCA-A476-035ED67F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22CF4-AACB-4E0B-B844-BD448F9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CE9C4-DE32-4BA8-BF1E-5FBF24B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564E-1554-4960-AA37-AAD01DDF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E6D-0F79-4882-8734-B0F6D35D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3FB90-0587-4150-B8BA-635CE08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44DA-2961-4727-B01E-BA8AE08F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C6489-83ED-46A0-BBA8-51F6D43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11510-AC6F-449C-A64D-6733D5C3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C027-D06C-4F52-BD3A-0BDA61B3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E2F64-F91E-4CE8-BD0B-DF6DE76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1EA0A-7A5C-4B8F-A2F0-64C4DBFE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14A91-E46C-4121-AF5B-69509D2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3C809-5B5F-4DC3-96E1-09F0D13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9519-0BA7-43B0-AFDA-4F85A3B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CB37-2541-415D-8173-E9692B4B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26776-5253-4720-AB8E-0BDAEF3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A5511-027D-4863-8314-A497F28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7A8B7-FE1C-484A-93E8-711F1E5E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D7B5C-CE30-4544-B143-ABECAD08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8381B-48BD-4E80-AEA0-B7E23EE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A2D-F46E-4FD3-8567-80419126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0B0-6C34-464B-91D5-016BFB65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215-5BDB-489A-8EE3-EF5B01F8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9113-D4EB-483E-895E-76D37B81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ABA3-6742-4011-A696-D424491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84E-EE28-4578-943B-0C1C9714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1218-87CF-4579-866B-90CED550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65B2-A8D5-44A0-B92B-BA2A99B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00C-E11C-4776-9A21-0F9BBA3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85F-5A81-4052-B9ED-9BB53474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308F-C853-4A6C-AC0C-FBF79B7C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DE44-FABE-4C63-A5C7-A834EEF0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A9F3-ED76-4162-9F62-578DEA3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19E2-213F-40C3-9D59-3DDC1898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32D9-67FB-44A1-B10E-5341C03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1ED3-8F60-49F9-BAC5-C01565BC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957-37A4-41F9-B15B-60E4DA79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2EBB-B9D6-49C0-A432-CA543B8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7CE7-8824-41E3-84A1-2DD403E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A952-E47A-4B40-AC06-A51803B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CBAC-4F10-4D50-AF66-30CA7E6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E146-6B35-4203-A4CD-3D774F5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98FA-3D40-41CA-92B4-574A1087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18BB-B9D7-49AF-9553-FBD3DA0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E990-00FB-4126-BFAE-DCB3D22A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FED8-AD5C-4195-A24A-D6ED91F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DD7D-E5CB-467F-9889-019B2340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C3B-013F-4FAC-B8DC-F6D2097D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718E-E283-444F-8927-BEFF7A71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38C3-560C-489D-9580-07D9749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3A69-E06E-451A-A311-6B068D8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0233-118B-441A-9EF8-C85F7DF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3479-F5C7-4B1D-921C-E5E7CA0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67ED-9B3E-46E2-9586-6B17019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CCC7-2206-441D-8AC8-F39871A6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BB10-D0D3-4B39-8C75-FB78229D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FB909-F4E7-4396-AA15-3B1230B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5107-4480-4705-AD8D-160E186D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4C0-3FCA-4FF8-8820-4B1DAC3C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432E-8F5E-4493-9D78-FB269E26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3CB7-AEC7-4EDB-BE3A-6DF64E70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63CC-D8C3-492D-A88A-9AE620ED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847F-24DF-4B89-B0EB-66157454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D0B7-655F-46B0-88FC-F273866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4A02-9627-4748-850B-A8A6DC9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90F6-A006-47F9-8FF4-A6E2A22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CF95-C59D-4D57-8F4B-172C2D5F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43D4-4041-4C48-8942-52BD4293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1357-22B9-4373-8132-38599FF4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990-C6BF-4DD2-BD24-004A4D5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0D3D-1510-45C4-8AEA-4904C85C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E6FB-03E2-4F6A-B64D-0B54AF0A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A602-6FAC-455C-9B3C-1E2AF893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A60A-3DCA-4F5E-8DB4-456BE1C0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A7E9-D493-46B6-A734-4E689DF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5CCB-F5B7-4FA5-A459-A30A4E01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9E05F-A4A8-4E9E-B9E2-F71CD13A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8E03-6EF4-47A7-B2AD-4FB7B61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E977A-ED31-4FA1-972C-A09363DF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B86D-B0E9-4F50-8BE0-D8A8386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148-6DBB-4D36-8F72-7845C00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032F-3E42-4AA8-B3F9-547D214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B624-A5B0-4D71-B3DC-91F9016E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6788-F02E-4DEA-84A1-30BD3D51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9E6C-823D-4AF0-9539-B18591FD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F402-AFDD-41A8-B7BF-94791100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A715-5A73-4100-9553-B47091D7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0BC6-2495-4DF9-A6A4-18011A5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002A-196E-4005-9511-B201FE47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214D-6529-412D-911C-65B80EB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4179F-BBB0-4E79-95AB-652D187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6A3-73D2-49AA-8A7B-F8A40C8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369E-7EC6-4408-8724-8231765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4687-5256-4F71-9C5E-8BFB3E5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B7CF-0ADC-47F8-A408-BD39066F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A2F7-B89D-47D5-81EB-355EB505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745A-F041-41CE-9591-A299F825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E994-0574-4E11-BCA6-E691919E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BBA6-BE14-4FC4-AD32-F8368CC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4D2A7-CA08-42B9-9C0B-6FDC540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C783-EB6D-4D8E-8BB6-A6250F8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784A-244E-4692-9DE4-D9896F96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704-584C-4F34-89B7-F9D9D4D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07144-ED14-473F-B7D1-76F26A7C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7EE2-B684-4D8A-833F-9C0DA74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C612-14FE-49BC-A017-096A18B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C92B7-37DF-4BD7-9F00-DB5792F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3AB25-0CA1-4AF0-8F82-19AC162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E0AD-235B-40E2-B4E4-B81DA78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ABCAC-69F9-4D2D-941F-F58E8561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95117-BF61-4B61-AAFD-358429F2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9C5C-F29F-4C97-B855-13E4F55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C487-CD40-451B-A4DA-6F15B57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3AB-1ED7-4A23-A6FD-477A32E55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9FBE-D0DD-47E3-AF10-C14D5AB85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4EA-79DD-4CB8-9DD5-82E476A8C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F16-BD2B-4B4F-A2F1-8DBE86EA5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671-D3A7-4B5C-BD6E-8884CD64D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23C-AB3D-4074-9FAB-4A070991C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72F-95BF-4F13-8749-C41FF7804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C15-4C4F-47D2-B2CF-FE8868A5A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669-5E44-410C-A054-2A849FDA6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0367-861C-4A02-BC2C-7524DC365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5533-4CA0-4B60-963C-7183A8134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631-23B0-4637-BCA9-E809614D7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e0a57"/>
                </a:solidFill>
                <a:latin typeface="Bookman Old Style"/>
              </a:rPr>
              <a:t>Образные возможности освещения в портре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aleksey_ribnikov_-_vals_tot_samiy_miunhgauzen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5" descr="a854710345cf"/>
          <p:cNvPicPr/>
          <p:nvPr/>
        </p:nvPicPr>
        <p:blipFill>
          <a:blip r:embed="rId1"/>
          <a:stretch/>
        </p:blipFill>
        <p:spPr>
          <a:xfrm>
            <a:off x="144360" y="44280"/>
            <a:ext cx="5148360" cy="66866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6"/>
          <p:cNvSpPr/>
          <p:nvPr/>
        </p:nvSpPr>
        <p:spPr>
          <a:xfrm>
            <a:off x="5364000" y="5950080"/>
            <a:ext cx="37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вращение блудного сы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Картинки по запросу свет в портрете снизу в работах художников"/>
          <p:cNvPicPr/>
          <p:nvPr/>
        </p:nvPicPr>
        <p:blipFill>
          <a:blip r:embed="rId2"/>
          <a:stretch/>
        </p:blipFill>
        <p:spPr>
          <a:xfrm>
            <a:off x="34920" y="1268280"/>
            <a:ext cx="8972640" cy="505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Живописное решение характера освещения – важнейшее средство выразительности при создании художественного обр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К следующему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Найти примеры сатирических                                        образов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565280" cy="19382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5"/>
          <p:cNvSpPr/>
          <p:nvPr/>
        </p:nvSpPr>
        <p:spPr>
          <a:xfrm>
            <a:off x="324000" y="4724280"/>
            <a:ext cx="26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.Пикасс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ртрет идаль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5580000" y="6165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.Бидструп. Бумеранг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8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1871640" cy="140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9" name="Text Box 9"/>
          <p:cNvSpPr/>
          <p:nvPr/>
        </p:nvSpPr>
        <p:spPr>
          <a:xfrm>
            <a:off x="2556000" y="357336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.Тулуз-Лотрек. Автопортре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181320" cy="4581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478px-Pukirev_ner_brak"/>
          <p:cNvPicPr/>
          <p:nvPr/>
        </p:nvPicPr>
        <p:blipFill>
          <a:blip r:embed="rId1"/>
          <a:stretch/>
        </p:blipFill>
        <p:spPr>
          <a:xfrm>
            <a:off x="0" y="189000"/>
            <a:ext cx="5197320" cy="6524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7"/>
          <p:cNvSpPr/>
          <p:nvPr/>
        </p:nvSpPr>
        <p:spPr>
          <a:xfrm>
            <a:off x="4896000" y="6491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Пукирёв. Неравный бра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508720" y="549360"/>
            <a:ext cx="33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ой свет выявляет форму, её объём и глубину пространства – образ модели предстаёт наиболее пол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5508720" y="2421000"/>
            <a:ext cx="331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источник света находится сзади модели, мы видим её силуэт, а лицо погружается в тень. Все черты и формы при этом смягчаются и приобретают таинственность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Серов Дочь импр Алдра !!!"/>
          <p:cNvPicPr/>
          <p:nvPr/>
        </p:nvPicPr>
        <p:blipFill>
          <a:blip r:embed="rId1"/>
          <a:stretch/>
        </p:blipFill>
        <p:spPr>
          <a:xfrm>
            <a:off x="0" y="326880"/>
            <a:ext cx="4856040" cy="6126480"/>
          </a:xfrm>
          <a:prstGeom prst="rect">
            <a:avLst/>
          </a:prstGeom>
          <a:ln w="0">
            <a:noFill/>
          </a:ln>
        </p:spPr>
      </p:pic>
      <p:pic>
        <p:nvPicPr>
          <p:cNvPr id="499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7"/>
          <p:cNvSpPr/>
          <p:nvPr/>
        </p:nvSpPr>
        <p:spPr>
          <a:xfrm>
            <a:off x="5292720" y="580536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трет дочери Александ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6084720" y="1413000"/>
            <a:ext cx="237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свет находится перед моделью и светит прямо в лицо, то форма головы уплощается , выделяются только глаза и губы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608472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 спокойны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ещение с низу – исказит лицо и ощущение будет тревож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2" descr="Картинки по запросу портрет с нижним освещением"/>
          <p:cNvPicPr/>
          <p:nvPr/>
        </p:nvPicPr>
        <p:blipFill>
          <a:blip r:embed="rId1"/>
          <a:stretch/>
        </p:blipFill>
        <p:spPr>
          <a:xfrm>
            <a:off x="324000" y="333360"/>
            <a:ext cx="446400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6" descr="Серов ПортерВерочки Мамонтовой"/>
          <p:cNvPicPr/>
          <p:nvPr/>
        </p:nvPicPr>
        <p:blipFill>
          <a:blip r:embed="rId1"/>
          <a:stretch/>
        </p:blipFill>
        <p:spPr>
          <a:xfrm>
            <a:off x="250920" y="189000"/>
            <a:ext cx="5833800" cy="6503760"/>
          </a:xfrm>
          <a:prstGeom prst="rect">
            <a:avLst/>
          </a:prstGeom>
          <a:ln w="0">
            <a:noFill/>
          </a:ln>
        </p:spPr>
      </p:pic>
      <p:pic>
        <p:nvPicPr>
          <p:cNvPr id="506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7"/>
          <p:cNvSpPr/>
          <p:nvPr/>
        </p:nvSpPr>
        <p:spPr>
          <a:xfrm>
            <a:off x="6227640" y="5157720"/>
            <a:ext cx="266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очки Мамонтово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509" name="Picture 6" descr="Суриков портр дочери"/>
          <p:cNvPicPr/>
          <p:nvPr/>
        </p:nvPicPr>
        <p:blipFill>
          <a:blip r:embed="rId1"/>
          <a:stretch/>
        </p:blipFill>
        <p:spPr>
          <a:xfrm>
            <a:off x="142920" y="155520"/>
            <a:ext cx="5149800" cy="66517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7"/>
          <p:cNvSpPr/>
          <p:nvPr/>
        </p:nvSpPr>
        <p:spPr>
          <a:xfrm>
            <a:off x="4643280" y="551664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И.Суриков. Портрет дочер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8813880" cy="600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5" descr="Рембр Христос в Эммаусе"/>
          <p:cNvPicPr/>
          <p:nvPr/>
        </p:nvPicPr>
        <p:blipFill>
          <a:blip r:embed="rId1"/>
          <a:stretch/>
        </p:blipFill>
        <p:spPr>
          <a:xfrm>
            <a:off x="74520" y="304920"/>
            <a:ext cx="6513480" cy="58212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6"/>
          <p:cNvSpPr/>
          <p:nvPr/>
        </p:nvSpPr>
        <p:spPr>
          <a:xfrm>
            <a:off x="6659640" y="5373720"/>
            <a:ext cx="248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ристос в Эммаусе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2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" descr="Караваджо Ужин в Эмммаусе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59245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1042920" y="6308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аваджо. Ужин в Эммаус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7:24:40Z</dcterms:created>
  <dc:creator>Алекс</dc:creator>
  <dc:description/>
  <dc:language>en-US</dc:language>
  <cp:lastModifiedBy>Юлия</cp:lastModifiedBy>
  <dcterms:modified xsi:type="dcterms:W3CDTF">2017-03-09T19:40:16Z</dcterms:modified>
  <cp:revision>35</cp:revision>
  <dc:subject/>
  <dc:title>Слайд 1</dc:title>
</cp:coreProperties>
</file>