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5853-B5A3-4573-81AB-6954E66F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E8A1-E97B-43DC-AD8C-523AA46D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8F63AF-2756-4B86-8A60-6CB303A4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048914-8136-41EC-8ADB-9AE39CBB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07A50D-710B-4ED2-9DD8-E5B15A88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983075-65D4-47C5-9302-EC7B79A1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8782A7-9FBA-4388-9361-345A32CE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763180-5A15-4D61-AD53-98E08087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88CD76-CDF8-44F4-8784-DC2CFEB9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C3B4E6-3140-41DD-BA2A-33C54F4D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93274A-DA38-48C8-A3BD-01F716C4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BC9309-855C-4D6F-A752-3A803FCA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E409-43F4-4A6D-BD4C-EC8E05ED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C6E865-1B6D-4A7B-BD2C-E9397A19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9D8458-3A7A-47AF-AC6A-E026ADE5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552907-1542-4899-980E-9866FD60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8AA605-98C0-41D3-BD06-49B67C91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1F73C4-AE65-480C-B576-D45941AB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EA3784-8715-4697-BFC2-D1C50211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ACD674-E9C8-49CB-BFFD-9CC4B504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E23C5E-5B3E-4851-8FAE-A2D1E1CD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9A764D-C7AE-4707-A625-94743A31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AE2C2F-41DF-4552-84A6-6153BF0B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CA8-B941-44C5-91F3-EF482C7B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B73740-C286-4D3D-A1EA-421BFC7B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1B9E51-8718-4CC0-9E82-5454856B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3A6F54-801F-4399-8DF9-CFC0AF35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2F899F-08F6-4AF4-8692-21DDE4CE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DD6202-8230-4A14-AE83-0AB45427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CB6B89-4177-49A3-BC88-2684BDA8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A538BF-2C37-4BB0-B1CD-8E782085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56DEBE-BA56-419B-8A5C-383723EB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D289E0-7DEA-4398-BFAA-242FC31D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2633FB-0155-4A4F-96C4-EF321EB4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C40D-DB7C-453C-9F97-C438FD41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573FC2-DA83-4DC4-B350-F4F737D5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D3A482-1ED6-4434-9FFB-8D23A028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9BE12A-204E-42B6-A2E6-036764E9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6BD7-079F-4998-9A2E-D8549BAE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78AA-F45C-45A8-963D-4D7C2836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60FF-C486-43D3-9AF4-421BA370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9CAD-C02C-43EE-B501-399BBCEA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DF05-D5DA-4A03-AB4D-17ECFC94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B43F-1EF6-4F0C-8B25-36BF4FB8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2089-632F-4F7D-9338-49E82FA9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CE29-D67F-4878-AE71-82EEDC21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1C34-C6CE-4CA9-BD47-DF5DC762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904D-F56A-4021-8E35-89454BDD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FFC4-B686-4F88-BCDD-41C8AE57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D72D-9172-4C6C-9782-7F67654C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222ED-94A0-4E3B-9EC4-0615BF46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CD07D-62A8-4FD0-80EC-1FDB4F91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55E2A-67F5-4DC1-B0AF-F2A9F201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A6F58-4AAD-4109-972C-23CDF9D2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085CE-58F6-479C-94E1-4D4A0A91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F3D-8B45-41CD-A2C3-FF7B0C45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A775A-E78D-4FDD-98D7-369444B0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359A6-424F-4E3E-A201-04B7E768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951C5-808A-4CFC-9226-2F7C118B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D2A94-6F30-4903-A1E0-4CAC785E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4BF0E-0CCF-4B79-A0D3-9E2DC003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46FF8-C81E-4814-8DB9-2FB1889A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910BA-D058-4986-B36C-5561EBB7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45F8E-CA90-459D-B486-147A7B2E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141B7-A76F-4ABA-B5D4-CFA38C59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94279-0F97-4A99-A69B-4068B5F6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ACCF-BB57-46E8-8058-365E940A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D5690-B12F-4021-8320-2D268098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7D4F0-2539-4E15-A029-C9A666AE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B44E2-E7C2-4DFA-B5C4-F073F1A8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680CD-2981-4F19-8C07-5F3AC593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5851F-6154-4872-835A-EB3FBC16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429CE-D906-4235-8028-70D10923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1E51E-45B7-42F9-B8CF-B971F61A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721AB-15E5-4391-853C-9D575C0F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54EA4-8FD5-4181-930E-CC376D0D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196E8-B4BB-40C8-B414-1C3DAD19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6289-7A38-4674-AC80-13601081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99EA7-7806-4617-8E78-9433D6E9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4A17F-CDF6-4BE5-9A5E-15D6510D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2F467-70E3-4ACD-9A13-8A0B5538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1B487-18A3-4EFF-BA79-8F629A7A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ECE56-77B4-46AA-AA5E-717D17C6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B0D86-315B-4195-B459-998BBECA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935DB-7C83-4A8A-8965-4AC58533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78F4F-91C0-437B-9C1B-30A4A465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C01F2-B67C-47BD-A68B-4413AA3A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FD01D-3CD6-413A-8722-7B8307C4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CA7-76B5-4BBB-9E9F-E3420205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76CBF-94E6-48F6-9FEF-07F22BED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3E2A7-2A4F-40F0-8926-375C0D33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04C46-8C7D-46C7-BFDD-5CB9A2BF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B08B9-045A-4B7C-A7B3-959F1FF1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C7737-8DBC-4F08-A6C7-8BA43E76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1052E-0315-4DA7-AC36-0C7BFE45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4357A-0D1E-41CD-AD8E-D49913E3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84F0A-7646-49ED-ABBA-359E2F81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EDEBC-E12D-49FE-9183-7FB9A514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35F3A-6EFE-4E9A-BB81-201210B2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7ED-06EA-40D0-ADE9-769C7EFF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A4CCD-0621-4C26-A42E-F069F005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155C3-5A14-435A-93B9-A35D5F7F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7B18D-75B5-453A-81A2-3FC1AB3F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73D53-C49F-4354-9CA6-CF2456AE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A82C9-BED9-4D86-ADB8-5C3ED330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4C132-6944-44C4-A6D1-AF69D4FD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B0D68-7120-4B02-A379-BC7661BE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D0DA7-43FB-48F9-A51F-2655B78B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C6F11-815F-4E9F-AE85-C477C0D8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F6631-9F68-4330-9C81-7868E284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0A0-19B0-434F-B24A-94313505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3A2E6-042C-4851-B98F-D26D8AF2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EE231-93D9-495A-8349-4CC4D47F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E87FE-D974-4F0D-94E4-0E8038DD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CB75A-9D76-4C75-B33A-44856233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74759-F743-407D-9C36-72F1A7D6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5C86A-C110-4B32-8230-4066AD06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DADDE-EBF4-42D4-96A2-0D3D2AD8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B0487-F09C-4ADC-AD69-89706A99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E1AE3-07A6-4223-84AE-7A8C9B9B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D2B32-8AB8-4BAC-96C5-544BC24E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181-17DB-4854-BBE8-C7EC0C4A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C644E-FD1B-4972-B7D7-D0005BDF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B97C7-4C89-48EA-BF93-5C5DC6A9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0086C-F073-4A2A-9A5C-930BCEE4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E837F-BE17-4526-8477-AC7B2C79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6EC1D-914C-4194-86C5-DA4A800F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208EE-8035-4874-963D-54D21C8E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BAC64-6F38-4F14-A75F-713050DF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5C1770-DFD6-49DC-9960-D545511C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205931-6DEB-4B71-8522-52E5C9BF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1EE8AE-8746-4329-9CFB-56573C59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F53E-E269-4176-AF54-DBC26D18B6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2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4C54-BDAC-4D57-A00A-A1030FA65D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C7D7-84EE-4507-A159-CD055B162D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7DDB-768D-4A8A-B410-EF3BC229CC1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91C3-ED89-41FA-886C-54053514EDA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076D-61C2-40A1-8B04-FF0B293D060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F84C-FBE9-4355-9697-8A82FCEC1A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4856-AC11-49FA-B98E-546DDE18720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FF4E-EB61-4E6F-B04E-44D7AEC3A9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E0DD-A576-4F37-8449-A4A2C2720C0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7E53-74BF-4C26-A20B-AC7D44CBDF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Rectangle 2" descr=""/>
          <p:cNvPicPr/>
          <p:nvPr/>
        </p:nvPicPr>
        <p:blipFill>
          <a:blip r:embed="rId1"/>
          <a:stretch/>
        </p:blipFill>
        <p:spPr>
          <a:xfrm>
            <a:off x="1755720" y="1785960"/>
            <a:ext cx="6450120" cy="3139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Rectangle 31" descr=""/>
          <p:cNvPicPr/>
          <p:nvPr/>
        </p:nvPicPr>
        <p:blipFill>
          <a:blip r:embed="rId1"/>
          <a:stretch/>
        </p:blipFill>
        <p:spPr>
          <a:xfrm>
            <a:off x="817560" y="2120760"/>
            <a:ext cx="8058240" cy="149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«ИЛЛЮСТРЕЙД ЛОНДОН НЬЮС» СООБЩИЛА        О ДЕРЕВЕ, РАСТУЩЕМ В НИКАРАГУА И ПОЖИРАЮЩЕМ СОБАК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dawggie"/>
          <p:cNvPicPr/>
          <p:nvPr/>
        </p:nvPicPr>
        <p:blipFill>
          <a:blip r:embed="rId2"/>
          <a:stretch/>
        </p:blipFill>
        <p:spPr>
          <a:xfrm>
            <a:off x="3708360" y="3860640"/>
            <a:ext cx="424980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Rectangle 4" descr=""/>
          <p:cNvPicPr/>
          <p:nvPr/>
        </p:nvPicPr>
        <p:blipFill>
          <a:blip r:embed="rId1"/>
          <a:stretch/>
        </p:blipFill>
        <p:spPr>
          <a:xfrm>
            <a:off x="573120" y="901800"/>
            <a:ext cx="792468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Rectangle 4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242560" cy="138456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40388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ЕРЕВО ТОГО ЖЕ ТИПА, КОТОРОЕ МЕСТНЫЕ ЖИТЕЛИ НАЗЫВАЮТ ДЕРЕВО- ЗМЕЯ, РАСТЁТ НА ДАЛЬНИХ ОТРОГАХ МЕКСИКАНСКОЙ ГРЯДЫ СЬЕРРА- МАДРЕ. ОДНАЖДЫ ОДИН ИЗ ПУТЕШЕСТВЕННИКОВ НАБЛЮДАЛ ТАКУЮ КАРТИНУ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716000" y="76464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НО НЕМЕДЛЕНО СХВАТИЛО ПТИЦУ, ПРИСЕВШУЮ НА ЕГО ВЕТКУ, И СМЯЛО ЕЁ; КРОВЬ ВПИТЫВАЛАСЬ ЧЕРЕЗ КОРУ, ПОКА ТРУПИК НЕ СТАЛ АБСОЛЮТНО СУХИМ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0" name="Picture 8" descr="ор"/>
          <p:cNvPicPr/>
          <p:nvPr/>
        </p:nvPicPr>
        <p:blipFill>
          <a:blip r:embed="rId2"/>
          <a:stretch/>
        </p:blipFill>
        <p:spPr>
          <a:xfrm>
            <a:off x="5867280" y="3933720"/>
            <a:ext cx="1789200" cy="2390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Rectangle 37" descr=""/>
          <p:cNvPicPr/>
          <p:nvPr/>
        </p:nvPicPr>
        <p:blipFill>
          <a:blip r:embed="rId1"/>
          <a:stretch/>
        </p:blipFill>
        <p:spPr>
          <a:xfrm>
            <a:off x="701640" y="828720"/>
            <a:ext cx="795492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4427280" y="765000"/>
            <a:ext cx="432756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ЭТОТ ВИД ИСПУСКАЕТ КАКОЙ- ТО ОСОБЫЙ ЗАПАХ, ПРИВЛЕКАТЕЛЬНЫЙ ДЛЯ МЕЛКИХ ОБЕЗЬЯН, МАНЯ ИХ И ЗАСТАВЛЯЯ КАРАБКАТЬСЯ ПО СТВОЛУ, А ЗАТЕМ ЛИСТЬЯ ПОЛНОСТЬЮ ЗАВЁРТЫВАЮТ ИХ, И БОЛЬШЕ НЕСЧАСТНЫХ ЖИВОТНЫХ ЖИВОТНЫХ НЕ ВИДНО И НЕ СЛЫШНО НИКОМУ, КТО НАБЛЮДАЕТ ЭТО ЗРЕЛИЩЕ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10920" y="522936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ПРОХОДИТ ОКОЛО ТРЁХ ДНЕЙ, ЛИСТЬЯ СНОВА РАСКРЫВАЮТСЯ, И ИЗ НИХ ПАДАЮТ КОСТИ ЖЕРТВ, ОБГЛОДАННЫЕ ДО ПОСЛЕДНЕГО ВОЛОКОНЦА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44" name="Rectangle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9"/>
          <p:cNvSpPr/>
          <p:nvPr/>
        </p:nvSpPr>
        <p:spPr>
          <a:xfrm>
            <a:off x="468360" y="765000"/>
            <a:ext cx="37432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46464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УЖЕ В НАШИ ДНИ, В НАЧАЛЕ 1970 ГОДА БРАЗИЛЬСКИЙ ИССЛЕДОВАТЕЛЬ МАРИАНО                ДЕ СИЛЬВА НАБРЁЛ НА ОСОБЕННОГО СТРАШНОГО ЗЕЛЁНОГО ЛЮБИТЕЛЯ СЫРОГО МЯС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Rectangle 4" descr=""/>
          <p:cNvPicPr/>
          <p:nvPr/>
        </p:nvPicPr>
        <p:blipFill>
          <a:blip r:embed="rId1"/>
          <a:stretch/>
        </p:blipFill>
        <p:spPr>
          <a:xfrm>
            <a:off x="390600" y="1420920"/>
            <a:ext cx="8302680" cy="251784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7"/>
          <p:cNvSpPr/>
          <p:nvPr/>
        </p:nvSpPr>
        <p:spPr>
          <a:xfrm>
            <a:off x="539640" y="3645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ЩЕСТВУЮТ??… веришь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796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539640" y="43653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ru-RU" sz="4400" spc="-1" strike="noStrike">
                <a:solidFill>
                  <a:srgbClr val="000000"/>
                </a:solidFill>
                <a:latin typeface="Lucida Sans Unicode"/>
              </a:rPr>
              <a:t>Как ты думаешь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5"/>
          <p:cNvSpPr/>
          <p:nvPr/>
        </p:nvSpPr>
        <p:spPr>
          <a:xfrm>
            <a:off x="684360" y="1484280"/>
            <a:ext cx="784836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 деревья-каннибалы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796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826920" y="1267920"/>
            <a:ext cx="7777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ы привыкли, что большинство животных питается растениям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о, оказывается, бывает и наоборот. Среди мирных зелёных созданий попадаются настоящие монстры, поедающие мелких животных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аких растений – хищников существует около 500 видов…  например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539280" y="764640"/>
            <a:ext cx="80139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Венерина мухоловк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использующая мелких насекомых как дополнительный источник питания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Ловчие органы –  листья  с липкими железистыми волосками, закрывающиеся   при попадании насекомых.           Переваривает добычу                                         с помощью                               протеолитических                               ферментов и органических                      кислот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275px-VFT_ne1"/>
          <p:cNvPicPr/>
          <p:nvPr/>
        </p:nvPicPr>
        <p:blipFill>
          <a:blip r:embed="rId2"/>
          <a:stretch/>
        </p:blipFill>
        <p:spPr>
          <a:xfrm>
            <a:off x="5724360" y="3068640"/>
            <a:ext cx="3175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45720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Росянка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редставитель растений – хищников, произрастающих на сырых песчаных почвах, болотах и торфяниках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На наружной поверхности листовых пластин находятся особые волосковые клетки, постоянно выделяющие липкий секрет, напоминающий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капельки росы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Насекомые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опадая на лист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3" name="Picture 3" descr="1216"/>
          <p:cNvPicPr/>
          <p:nvPr/>
        </p:nvPicPr>
        <p:blipFill>
          <a:blip r:embed="rId1"/>
          <a:stretch/>
        </p:blipFill>
        <p:spPr>
          <a:xfrm>
            <a:off x="4716360" y="3573360"/>
            <a:ext cx="410544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68360" y="549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  …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рилипают к нему, обволакиваются слизистым секретом и перевариваются      под действием особых пищеварительных ферментов, при этом листовая пластинка перегибается пополам и накрывает жертву сверху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Через несколько дней, когда переваривание полностью завершилось, лист снова раскрывается, ветер                               сдувает с него жёсткие                           остатки насекомого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Drosera%20rotundifolia"/>
          <p:cNvPicPr/>
          <p:nvPr/>
        </p:nvPicPr>
        <p:blipFill>
          <a:blip r:embed="rId2"/>
          <a:stretch/>
        </p:blipFill>
        <p:spPr>
          <a:xfrm>
            <a:off x="5003640" y="4202280"/>
            <a:ext cx="374508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Лиана 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непентос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, или кувшиночник, - многолетнее травянистое хищное растение влажных зон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Часть листьев растения образует красивый «кувшин», похожий на экзотический пестрый цветок. Душистые и яркие «кувшины» привлекают насекомых и птиц. Если насекомое переползет на внутреннюю стенку, но не удержится и упадет вниз,                      то попадает в густую жидкость,      наполняющую «кувшин»                                 до половины. Там оно и                  переварится растением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8" name="Picture 4" descr="111111111111111111111.jpg"/>
          <p:cNvPicPr/>
          <p:nvPr/>
        </p:nvPicPr>
        <p:blipFill>
          <a:blip r:embed="rId1"/>
          <a:srcRect l="23101" t="0" r="22315" b="16055"/>
          <a:stretch/>
        </p:blipFill>
        <p:spPr>
          <a:xfrm>
            <a:off x="6804000" y="4292640"/>
            <a:ext cx="18716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Rectangle 4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242560" cy="138456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3563640" y="1557360"/>
            <a:ext cx="526716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Из некоторых районов Центральной Америки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о-прежнему приходят сообщения о ботаническом монстре, воскрешающем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 памяти дерево-людоеда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с острова Мадагаскар.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от что удалось выяснить криптозоологу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КАРЛУ ШУКЕРУ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WordArt 11"/>
          <p:cNvSpPr txBox="1"/>
          <p:nvPr/>
        </p:nvSpPr>
        <p:spPr>
          <a:xfrm>
            <a:off x="755640" y="2708280"/>
            <a:ext cx="2521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2:35:39Z</dcterms:created>
  <dc:creator>оксана</dc:creator>
  <dc:description/>
  <dc:language>en-US</dc:language>
  <cp:lastModifiedBy>биология</cp:lastModifiedBy>
  <dcterms:modified xsi:type="dcterms:W3CDTF">2018-01-31T15:07:15Z</dcterms:modified>
  <cp:revision>20</cp:revision>
  <dc:subject/>
  <dc:title>ПАРАДОКСЫ ЖИВОГО </dc:title>
</cp:coreProperties>
</file>