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598-EE75-460E-9E72-5A924FED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01D-8F32-420C-8A9E-349228C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77C-A669-45A7-9908-D8DD3C93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7D2-91D4-4BBD-9247-873BFC88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C9F-9E2E-41E9-B519-7233C6CF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B29-0E8A-4000-94EA-BBD5307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D56-0B66-4F7B-8F01-3E8021E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8DF-4A18-4F4C-A862-AB7FB4E4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1FF-7EC8-446C-A297-17B6552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3B9-A1A4-4F2A-A81E-A23EA8F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AE9-2C88-4450-8E28-9526BBE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179-76BA-4538-97D7-BAB112C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8D3-1B79-4512-91B5-D9D348E6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810880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Интегрированная непосредственно-образовательная деятельность</a:t>
            </a:r>
            <a:br>
              <a:rPr sz="1700"/>
            </a:b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«Здравствуй солнышко»</a:t>
            </a:r>
            <a:br>
              <a:rPr sz="1700"/>
            </a:b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для детей 3-4 лет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овела и подготови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оспитатель МКДОУ Д/С №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туло Н.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развивать слуховое и зрительное внимание, воображение, закреплять навыки рисо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акреплять знания о явлениях неживой природы; значении солнца в природе, формировать интерес к явлениям природы, воспитывать внимательное отношение к миру прир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оспитывать  доброжелательные отношения между детьми, умение видеть проблемы товарища и желание оказать помощь; развивать память, ре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сширение активного словар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звитие внимания, мышления, памя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звитие общей и мелкой моторик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закреплять знания о явлениях неживой природы; значении солнца в природе, формировать интерес к явлениям природы, воспитывать внимательное отношение к миру приро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оспитывать  доброжелательные отношения между детьми, умение видеть проблемы товарища и желание оказать помощь; развивать память,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звивать интерес к познанию себя, своих возможностей и способнос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ируемые ум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вечать на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гадывать заг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крепление нетрадиционных техник рисова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лаж, рисование ватными палочками, рисование на мятой бумаге, моноти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аткая аннот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непосредственно-образовательная деятельность  для детей 3-4 лет с использованием нетрадиционных техник рисований, чтение стихов, речевой игры-диалога, активным слушанием музыки с элементами психогимнас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дварительная рабо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смотр мультфиль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ение стихов о солнце, загадывание загадок. Рисование нетрадиционными способ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се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и добрые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мы помогали бабуш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 солныш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стать си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:\портфолио\789654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2900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Загадки для детей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про солнышк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6" descr="1.jpg"/>
          <p:cNvPicPr/>
          <p:nvPr/>
        </p:nvPicPr>
        <p:blipFill>
          <a:blip r:embed="rId2"/>
          <a:stretch/>
        </p:blipFill>
        <p:spPr>
          <a:xfrm>
            <a:off x="3575160" y="1496880"/>
            <a:ext cx="5111640" cy="3405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Без меня, не будет свет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Без меня, не будет лет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о утрам, стучусь в оконца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росыпайтесь, встало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ОЛНЦЕ!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Ты весь мир обогреваешь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Ты усталости не знаешь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лыбаешься в оконце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 зовут тебя все 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ответ: солнце)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о чего сияет ярко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Щедро дарит всем подарки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Теплоту, добро и свет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иллионы долгих лет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тром выгляну в оконце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небе радостное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ответ: солнце)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D:\портфолио\789654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ши добр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6" descr="664e2dff3b.jpg"/>
          <p:cNvPicPr/>
          <p:nvPr/>
        </p:nvPicPr>
        <p:blipFill>
          <a:blip r:embed="rId2"/>
          <a:stretch/>
        </p:blipFill>
        <p:spPr>
          <a:xfrm>
            <a:off x="500040" y="164304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285920"/>
            <a:ext cx="3714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091.JPG"/>
          <p:cNvPicPr/>
          <p:nvPr/>
        </p:nvPicPr>
        <p:blipFill>
          <a:blip r:embed="rId3"/>
          <a:stretch/>
        </p:blipFill>
        <p:spPr>
          <a:xfrm>
            <a:off x="4857840" y="33577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SDC16731.JPG"/>
          <p:cNvPicPr/>
          <p:nvPr/>
        </p:nvPicPr>
        <p:blipFill>
          <a:blip r:embed="rId4"/>
          <a:stretch/>
        </p:blipFill>
        <p:spPr>
          <a:xfrm>
            <a:off x="5143680" y="571680"/>
            <a:ext cx="328608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:\портфолио\789654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8" descr="88234481_People_Children_Beautiful_tales___Children_012825_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18:23:27Z</dcterms:created>
  <dc:creator>123</dc:creator>
  <dc:description/>
  <dc:language>en-US</dc:language>
  <cp:lastModifiedBy>Vladimir</cp:lastModifiedBy>
  <dcterms:modified xsi:type="dcterms:W3CDTF">2017-03-11T15:23:22Z</dcterms:modified>
  <cp:revision>11</cp:revision>
  <dc:subject/>
  <dc:title>Слайд 1</dc:title>
</cp:coreProperties>
</file>