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7AA-86A1-4CC7-BC9D-CEEDDDB7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56A-ACF1-4589-9B98-45D5D311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5E5-9054-4F84-9B6A-4015092C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DC7-5FA0-4EDF-B5D5-DD9D1B82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26A-1660-4C3C-B37A-9807218D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960-6E66-4F82-983E-824A3E84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D8D-239A-4C3B-B395-5957E606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479-2919-48D6-9838-D429444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B2B-F98A-472C-AC5E-B149F5EB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F62-EA05-47B8-AEA6-4EDF0785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7EF-47DD-48C4-9173-7288BB36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CD1-99E8-4015-A41D-232A8A04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F018-EFAD-48DD-88AD-C0BDF177F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-720720" y="228600"/>
            <a:ext cx="9864360" cy="6307920"/>
            <a:chOff x="-720720" y="228600"/>
            <a:chExt cx="9864360" cy="6307920"/>
          </a:xfrm>
        </p:grpSpPr>
        <p:sp>
          <p:nvSpPr>
            <p:cNvPr id="42" name="Rectangle 5"/>
            <p:cNvSpPr/>
            <p:nvPr/>
          </p:nvSpPr>
          <p:spPr>
            <a:xfrm>
              <a:off x="11520" y="228600"/>
              <a:ext cx="9131760" cy="57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318240" y="609120"/>
              <a:ext cx="8526600" cy="5385960"/>
            </a:xfrm>
            <a:prstGeom prst="rect">
              <a:avLst/>
            </a:pr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-720720" y="5995440"/>
              <a:ext cx="9864360" cy="54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-644760" y="6030000"/>
              <a:ext cx="9748080" cy="447480"/>
            </a:xfrm>
            <a:prstGeom prst="pie">
              <a:avLst/>
            </a:pr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-569160" y="6064920"/>
              <a:ext cx="9621000" cy="35388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-487080" y="6096960"/>
              <a:ext cx="9495360" cy="2624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-411480" y="6129360"/>
              <a:ext cx="9376200" cy="1742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588560" y="5893200"/>
              <a:ext cx="1365120" cy="50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4526640" y="5893200"/>
              <a:ext cx="170280" cy="29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5845680" y="6108120"/>
              <a:ext cx="170280" cy="30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1947240" y="5864040"/>
              <a:ext cx="1216080" cy="324000"/>
            </a:xfrm>
            <a:prstGeom prst="pie">
              <a:avLst/>
            </a:prstGeom>
            <a:solidFill>
              <a:srgbClr val="ff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2058480" y="5871960"/>
              <a:ext cx="1004400" cy="278280"/>
            </a:xfrm>
            <a:prstGeom prst="pie">
              <a:avLst/>
            </a:pr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2172600" y="5885280"/>
              <a:ext cx="790200" cy="217080"/>
            </a:xfrm>
            <a:prstGeom prst="pie">
              <a:avLst/>
            </a:pr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2283840" y="5895720"/>
              <a:ext cx="577800" cy="168840"/>
            </a:xfrm>
            <a:prstGeom prst="pie">
              <a:avLst/>
            </a:pr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2395440" y="5912280"/>
              <a:ext cx="369360" cy="101880"/>
            </a:xfrm>
            <a:prstGeom prst="pie">
              <a:avLst/>
            </a:pr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752760" y="5957640"/>
              <a:ext cx="588960" cy="375120"/>
            </a:xfrm>
            <a:prstGeom prst="pie">
              <a:avLst/>
            </a:prstGeom>
            <a:solidFill>
              <a:srgbClr val="ff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66440" y="5968800"/>
              <a:ext cx="515520" cy="327240"/>
            </a:xfrm>
            <a:prstGeom prst="pie">
              <a:avLst/>
            </a:pr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785520" y="5973480"/>
              <a:ext cx="431280" cy="281520"/>
            </a:xfrm>
            <a:prstGeom prst="pie">
              <a:avLst/>
            </a:pr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1360" y="5982120"/>
              <a:ext cx="355680" cy="230400"/>
            </a:xfrm>
            <a:prstGeom prst="pie">
              <a:avLst/>
            </a:pr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18280" y="5995440"/>
              <a:ext cx="276840" cy="179280"/>
            </a:xfrm>
            <a:prstGeom prst="pie">
              <a:avLst/>
            </a:pr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1339560" y="5925600"/>
              <a:ext cx="1082520" cy="399600"/>
            </a:xfrm>
            <a:prstGeom prst="pie">
              <a:avLst/>
            </a:prstGeom>
            <a:solidFill>
              <a:srgbClr val="ff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1431360" y="5954760"/>
              <a:ext cx="904320" cy="335520"/>
            </a:xfrm>
            <a:prstGeom prst="pie">
              <a:avLst/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1521000" y="5992560"/>
              <a:ext cx="724320" cy="262440"/>
            </a:xfrm>
            <a:prstGeom prst="pie">
              <a:avLst/>
            </a:pr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1613520" y="6024600"/>
              <a:ext cx="548280" cy="201240"/>
            </a:xfrm>
            <a:prstGeom prst="pie">
              <a:avLst/>
            </a:pr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1708200" y="6054480"/>
              <a:ext cx="361080" cy="133560"/>
            </a:xfrm>
            <a:prstGeom prst="pie">
              <a:avLst/>
            </a:prstGeom>
            <a:solidFill>
              <a:srgbClr val="f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2332440" y="6137280"/>
              <a:ext cx="694800" cy="394560"/>
            </a:xfrm>
            <a:prstGeom prst="pie">
              <a:avLst/>
            </a:prstGeom>
            <a:solidFill>
              <a:srgbClr val="ff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2395440" y="6159240"/>
              <a:ext cx="577800" cy="329400"/>
            </a:xfrm>
            <a:prstGeom prst="pie">
              <a:avLst/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2454840" y="6182640"/>
              <a:ext cx="464040" cy="271080"/>
            </a:xfrm>
            <a:prstGeom prst="pie">
              <a:avLst/>
            </a:pr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2514600" y="6209640"/>
              <a:ext cx="352440" cy="201240"/>
            </a:xfrm>
            <a:prstGeom prst="pie">
              <a:avLst/>
            </a:pr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2580120" y="6231600"/>
              <a:ext cx="241200" cy="136800"/>
            </a:xfrm>
            <a:prstGeom prst="pie">
              <a:avLst/>
            </a:prstGeom>
            <a:solidFill>
              <a:srgbClr val="f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35"/>
            <p:cNvSpPr/>
            <p:nvPr/>
          </p:nvSpPr>
          <p:spPr>
            <a:xfrm>
              <a:off x="951120" y="1062360"/>
              <a:ext cx="7171560" cy="9140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WordArt 36"/>
          <p:cNvSpPr txBox="1"/>
          <p:nvPr/>
        </p:nvSpPr>
        <p:spPr>
          <a:xfrm>
            <a:off x="380880" y="1828800"/>
            <a:ext cx="8458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хнология проектной деятельност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ектная деятель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средство развития умений и навы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4" name="Picture 38" descr="bs00967_"/>
          <p:cNvPicPr/>
          <p:nvPr/>
        </p:nvPicPr>
        <p:blipFill>
          <a:blip r:embed="rId1"/>
          <a:stretch/>
        </p:blipFill>
        <p:spPr>
          <a:xfrm>
            <a:off x="0" y="0"/>
            <a:ext cx="30243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иска необходимой информации, ее систематизации и структуриз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я знаний, умений и навыков в различных, в том числе и нестандартных ситуа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ора, освоения и использования технологии адекватной проблемной ситуации и конечному продукту проектир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дения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требовани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 использованию метода проек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ичие значимой в исследовательском, творческом плане проблем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ческая, теоретическая значимость предполагаемых результа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стоятельная( индивидуальная, парная, групповая) деятельность учащихся на уроке или во внеурочное врем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уктурирование содержательной части проекта ( с указанием поэтапных результатов и распределение роле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исследовательских метод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ы можно различа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характеру доминирующей деятель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х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3366ff"/>
                </a:solidFill>
                <a:uFillTx/>
                <a:latin typeface="Arial"/>
              </a:rPr>
              <a:t>исследовательск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он включает в себя обоснование актуальности выбранной темы, постановку задач исследования, обязательное выдвижение гипотезы с последующей ее проверкой, обсуждение и анализ полученных результа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3366ff"/>
                </a:solidFill>
                <a:uFillTx/>
                <a:latin typeface="Arial"/>
              </a:rPr>
              <a:t>информацион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направлен на сбор информации о каком-либо объекте или явлении с целью анализа, обобщения и представления информации для широкой аудитор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3366ff"/>
                </a:solidFill>
                <a:uFillTx/>
                <a:latin typeface="Arial"/>
              </a:rPr>
              <a:t>творчески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предполагает максимально свободный и нетрадиционный подход к выполнению проекта и презентации его результа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ff"/>
                </a:solidFill>
                <a:uFillTx/>
                <a:latin typeface="Arial"/>
              </a:rPr>
              <a:t>ролево-игров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частвуя в котором, проектанты берут на себя социальные роли или роли литературных или исторических персонажей, возможно, выдуманных героев с целью воссоздания через игровые ситуации различных ситуаций социальных или деловых отно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ff"/>
                </a:solidFill>
                <a:uFillTx/>
                <a:latin typeface="Arial"/>
              </a:rPr>
              <a:t>практико-ориентированный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н нацелен на решение социальных задач, отражающих интересы участников проекта или внешнего заказч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предметно-содержательной области: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монопрое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еализуются, как правило, в рамках одного учебного предмета или одной области знания, хотя могут использовать информацию из других областей знаний и деятельности. Руководителем такого проекта выступает учитель-предметник, консультантом – учитель другой дисципл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межпредметные</a:t>
            </a:r>
            <a:r>
              <a:rPr b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 проект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ыполяются ислючительно во внеурочное время и под руководством нескольких специалистов в различных областях знания. Они требуют глубокой содержательной интеграции уже на этапе постановки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арактеру контактов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жно различать проект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внутриклассны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внутришкольны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региональны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федеральны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международ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о составу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частник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557280" indent="-2142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индивиду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па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групп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внутриклассны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межклассны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разновозрастны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общешкольны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межшкольны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международ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продолжитель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ff"/>
                </a:solidFill>
                <a:uFillTx/>
                <a:latin typeface="Arial"/>
              </a:rPr>
              <a:t>мини-прое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могут укладываться в один урок или часть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ff"/>
                </a:solidFill>
                <a:uFillTx/>
                <a:latin typeface="Arial"/>
              </a:rPr>
              <a:t>краткосрочные прое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ребующие выделения 4-6 уроков, которые используются для координации деятельности проектных групп. Основная работа по сбору информации, изготовлению продукта и подготовке презентации выполняется в рамках внеклассной деятельности и до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ff"/>
                </a:solidFill>
                <a:uFillTx/>
                <a:latin typeface="Arial"/>
              </a:rPr>
              <a:t>среднесрочные проекты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ются в течение 30-40 ч. При осуществлении такого проекта возможно сочетание классных и внеклассных форм работы. Желательно проведение проектной не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ff"/>
                </a:solidFill>
                <a:uFillTx/>
                <a:latin typeface="Arial"/>
              </a:rPr>
              <a:t>долгосрочные прое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могут выполняться как в группах, так и индивидуально. Желательно осуществлять их в рамках ученического научного общества. Весь цикл реализации годичного проекта выполняется во внеурочное врем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 работы над проек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066680"/>
          <a:ext cx="9144000" cy="5824800"/>
        </p:xfrm>
        <a:graphic>
          <a:graphicData uri="http://schemas.openxmlformats.org/drawingml/2006/table">
            <a:tbl>
              <a:tblPr/>
              <a:tblGrid>
                <a:gridCol w="1676520"/>
                <a:gridCol w="3951000"/>
                <a:gridCol w="35164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29880">
                <a:tc>
                  <a:txBody>
                    <a:bodyPr lIns="25560" rIns="25560" tIns="0" bIns="0" anchor="t">
                      <a:noAutofit/>
                    </a:bodyPr>
                    <a:p>
                      <a:pPr marL="6480" indent="-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indent="-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гружение в пробле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у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у проек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ную ситуацию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и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ое присвоение проблем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живание в ситуацию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, уточнение и конкретизацию цели и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89720">
                <a:tc>
                  <a:txBody>
                    <a:bodyPr lIns="25560" rIns="25560" tIns="0" bIns="0" anchor="t">
                      <a:noAutofit/>
                    </a:bodyPr>
                    <a:p>
                      <a:pPr marL="11160" indent="-1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160" indent="-1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рганизация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анировать деятельность по решению задач проек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рганизации групповой работы распределить амплуа и обязанности 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формы представления результатов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рабо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бивку на группы и распределение ролей в групп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формы и способа представления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drawingml/2006/table">
            <a:tbl>
              <a:tblPr/>
              <a:tblGrid>
                <a:gridCol w="2343240"/>
                <a:gridCol w="3517920"/>
                <a:gridCol w="328284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43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.Осуществле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частвует, н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ует по необходимости учащихс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вязчиво контролиру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ует в поле необходимой информа­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ует по презентации результ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активно и самостоятельн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иску, сбору и структурированию необходим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уются по необходимос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авливают пре­зентацию результ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4"/>
          <p:cNvSpPr/>
          <p:nvPr/>
        </p:nvSpPr>
        <p:spPr>
          <a:xfrm flipH="1">
            <a:off x="4647600" y="457200"/>
            <a:ext cx="4343400" cy="6093360"/>
          </a:xfrm>
          <a:custGeom>
            <a:avLst/>
            <a:gdLst>
              <a:gd name="textAreaLeft" fmla="*/ 52920 w 4343400"/>
              <a:gd name="textAreaRight" fmla="*/ 4290480 w 4343400"/>
              <a:gd name="textAreaTop" fmla="*/ 169560 h 6093360"/>
              <a:gd name="textAreaBottom" fmla="*/ 5923800 h 6093360"/>
            </a:gdLst>
            <a:ahLst/>
            <a:rect l="textAreaLeft" t="textAreaTop" r="textAreaRight" b="textAreaBottom"/>
            <a:pathLst>
              <a:path w="21600" h="21600">
                <a:moveTo>
                  <a:pt x="0" y="301"/>
                </a:moveTo>
                <a:cubicBezTo>
                  <a:pt x="7068" y="-765"/>
                  <a:pt x="14268" y="1367"/>
                  <a:pt x="21336" y="301"/>
                </a:cubicBezTo>
                <a:lnTo>
                  <a:pt x="21600" y="21299"/>
                </a:lnTo>
                <a:cubicBezTo>
                  <a:pt x="14532" y="22365"/>
                  <a:pt x="7332" y="20233"/>
                  <a:pt x="264" y="21299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мпетенц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общая способность и готовность использовать знания, умения и обобщенные способы действий, усвоенные в процессе обучения, в реальн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я – это знание в действии, способность человека использовать на практике полученные знания и навыки, принимать решения  в условиях неопределенности и реализовывать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 flipH="1">
            <a:off x="151560" y="209520"/>
            <a:ext cx="4496040" cy="6620040"/>
          </a:xfrm>
          <a:custGeom>
            <a:avLst/>
            <a:gdLst>
              <a:gd name="textAreaLeft" fmla="*/ 54720 w 4496040"/>
              <a:gd name="textAreaRight" fmla="*/ 4441320 w 4496040"/>
              <a:gd name="textAreaTop" fmla="*/ 505440 h 6620040"/>
              <a:gd name="textAreaBottom" fmla="*/ 6114600 h 6620040"/>
            </a:gdLst>
            <a:ahLst/>
            <a:rect l="textAreaLeft" t="textAreaTop" r="textAreaRight" b="textAreaBottom"/>
            <a:pathLst>
              <a:path w="21600" h="21600">
                <a:moveTo>
                  <a:pt x="0" y="825"/>
                </a:moveTo>
                <a:cubicBezTo>
                  <a:pt x="7068" y="-2098"/>
                  <a:pt x="14268" y="3748"/>
                  <a:pt x="21336" y="825"/>
                </a:cubicBezTo>
                <a:lnTo>
                  <a:pt x="21600" y="20775"/>
                </a:lnTo>
                <a:cubicBezTo>
                  <a:pt x="14532" y="23698"/>
                  <a:pt x="7332" y="17852"/>
                  <a:pt x="264" y="20775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Концепции модернизации российского образования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подчеркивается необходимость «формировать целостную систему универсальных знаний, умений и навыков, а также самостоятельной деятельности и личной ответственности обучающихся, т.е. ключевые компетентности, определяющие современное качество образовани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765440"/>
                <a:gridCol w="3736800"/>
                <a:gridCol w="36417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ятельность 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090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.Презентаци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амоанализ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ет итог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ает и резюмир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ые результат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дит итоги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ет по критериям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проникнов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блем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других област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а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емых решен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аргументиров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и заключения, вывод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 кажд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а проекта в соответствии с его индивидуальными возможностям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заимопомощи, взаимодополняемости участников проек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ка оформ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ов проведенного проек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отвеч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опросы, лаконичность и аргументированность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ирую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ние проблемы, цели и задач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планировать и осуществлять рабо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енный способ решения проблем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ю деятельности и результат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оценку деятельности и ее резуль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конечный продукт» проектной деятельнос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щихся может быть представл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web-сай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з данных социологического опрос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знес-план; видеофильм; видеоклип; электронная газета; электронный журнал; законопроект; карта, коллекция; дизайн - макет; моде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зыкальное произвед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льтимедийный проду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кет рекоменда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исьмо в ..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но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блика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теводите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ламный просп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ия иллюстра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аз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равочни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вар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авнительно-сопоставительный анали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ть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ценар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ртуальная экскурс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борник сочин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невник путешест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-720720" y="0"/>
            <a:ext cx="9864360" cy="7085880"/>
            <a:chOff x="-720720" y="0"/>
            <a:chExt cx="9864360" cy="7085880"/>
          </a:xfrm>
        </p:grpSpPr>
        <p:sp>
          <p:nvSpPr>
            <p:cNvPr id="111" name="Rectangle 3"/>
            <p:cNvSpPr/>
            <p:nvPr/>
          </p:nvSpPr>
          <p:spPr>
            <a:xfrm>
              <a:off x="11520" y="0"/>
              <a:ext cx="9131760" cy="647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"/>
            <p:cNvSpPr/>
            <p:nvPr/>
          </p:nvSpPr>
          <p:spPr>
            <a:xfrm>
              <a:off x="318240" y="427680"/>
              <a:ext cx="8526600" cy="6050160"/>
            </a:xfrm>
            <a:prstGeom prst="rect">
              <a:avLst/>
            </a:pr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-720720" y="6477840"/>
              <a:ext cx="9864360" cy="60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-644760" y="6517080"/>
              <a:ext cx="9748080" cy="502560"/>
            </a:xfrm>
            <a:prstGeom prst="pie">
              <a:avLst/>
            </a:pr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-569160" y="6555960"/>
              <a:ext cx="9621000" cy="39744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-487080" y="6591960"/>
              <a:ext cx="9495360" cy="294840"/>
            </a:xfrm>
            <a:prstGeom prst="pi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-411480" y="6628320"/>
              <a:ext cx="9376200" cy="195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4588560" y="6363360"/>
              <a:ext cx="1365120" cy="57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4526640" y="6363360"/>
              <a:ext cx="170280" cy="33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5845680" y="6604560"/>
              <a:ext cx="170280" cy="34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1947240" y="6330240"/>
              <a:ext cx="1216080" cy="363960"/>
            </a:xfrm>
            <a:prstGeom prst="pie">
              <a:avLst/>
            </a:prstGeom>
            <a:solidFill>
              <a:srgbClr val="ff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2058480" y="6339240"/>
              <a:ext cx="1004400" cy="312840"/>
            </a:xfrm>
            <a:prstGeom prst="pie">
              <a:avLst/>
            </a:pr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172600" y="6354360"/>
              <a:ext cx="790200" cy="243720"/>
            </a:xfrm>
            <a:prstGeom prst="pie">
              <a:avLst/>
            </a:pr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2283840" y="6365880"/>
              <a:ext cx="577800" cy="189720"/>
            </a:xfrm>
            <a:prstGeom prst="pie">
              <a:avLst/>
            </a:pr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2395440" y="6384240"/>
              <a:ext cx="369360" cy="114480"/>
            </a:xfrm>
            <a:prstGeom prst="pie">
              <a:avLst/>
            </a:pr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752760" y="6435720"/>
              <a:ext cx="588960" cy="421560"/>
            </a:xfrm>
            <a:prstGeom prst="pie">
              <a:avLst/>
            </a:prstGeom>
            <a:solidFill>
              <a:srgbClr val="ff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766440" y="6447960"/>
              <a:ext cx="515520" cy="367560"/>
            </a:xfrm>
            <a:prstGeom prst="pie">
              <a:avLst/>
            </a:pr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785520" y="6453360"/>
              <a:ext cx="431280" cy="316080"/>
            </a:xfrm>
            <a:prstGeom prst="pie">
              <a:avLst/>
            </a:pr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801360" y="6463080"/>
              <a:ext cx="355680" cy="258840"/>
            </a:xfrm>
            <a:prstGeom prst="pie">
              <a:avLst/>
            </a:pr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818280" y="6477840"/>
              <a:ext cx="276840" cy="201240"/>
            </a:xfrm>
            <a:prstGeom prst="pie">
              <a:avLst/>
            </a:pr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1339560" y="6399360"/>
              <a:ext cx="1082520" cy="448560"/>
            </a:xfrm>
            <a:prstGeom prst="pie">
              <a:avLst/>
            </a:prstGeom>
            <a:solidFill>
              <a:srgbClr val="ff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1431360" y="6432120"/>
              <a:ext cx="904320" cy="376920"/>
            </a:xfrm>
            <a:prstGeom prst="pie">
              <a:avLst/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1521000" y="6474600"/>
              <a:ext cx="724320" cy="294840"/>
            </a:xfrm>
            <a:prstGeom prst="pie">
              <a:avLst/>
            </a:pr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1613520" y="6510600"/>
              <a:ext cx="548280" cy="226080"/>
            </a:xfrm>
            <a:prstGeom prst="pie">
              <a:avLst/>
            </a:pr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1708200" y="6544080"/>
              <a:ext cx="361080" cy="150120"/>
            </a:xfrm>
            <a:prstGeom prst="pie">
              <a:avLst/>
            </a:prstGeom>
            <a:solidFill>
              <a:srgbClr val="f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8"/>
            <p:cNvSpPr/>
            <p:nvPr/>
          </p:nvSpPr>
          <p:spPr>
            <a:xfrm>
              <a:off x="2332440" y="6637320"/>
              <a:ext cx="694800" cy="443160"/>
            </a:xfrm>
            <a:prstGeom prst="pie">
              <a:avLst/>
            </a:prstGeom>
            <a:solidFill>
              <a:srgbClr val="ff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9"/>
            <p:cNvSpPr/>
            <p:nvPr/>
          </p:nvSpPr>
          <p:spPr>
            <a:xfrm>
              <a:off x="2395440" y="6661800"/>
              <a:ext cx="577800" cy="370080"/>
            </a:xfrm>
            <a:prstGeom prst="pie">
              <a:avLst/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0"/>
            <p:cNvSpPr/>
            <p:nvPr/>
          </p:nvSpPr>
          <p:spPr>
            <a:xfrm>
              <a:off x="2454840" y="6688440"/>
              <a:ext cx="464040" cy="304560"/>
            </a:xfrm>
            <a:prstGeom prst="pie">
              <a:avLst/>
            </a:pr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1"/>
            <p:cNvSpPr/>
            <p:nvPr/>
          </p:nvSpPr>
          <p:spPr>
            <a:xfrm>
              <a:off x="2514600" y="6718320"/>
              <a:ext cx="352440" cy="226080"/>
            </a:xfrm>
            <a:prstGeom prst="pie">
              <a:avLst/>
            </a:pr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2"/>
            <p:cNvSpPr/>
            <p:nvPr/>
          </p:nvSpPr>
          <p:spPr>
            <a:xfrm>
              <a:off x="2580120" y="6743160"/>
              <a:ext cx="241200" cy="153720"/>
            </a:xfrm>
            <a:prstGeom prst="pie">
              <a:avLst/>
            </a:prstGeom>
            <a:solidFill>
              <a:srgbClr val="f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3"/>
            <p:cNvSpPr/>
            <p:nvPr/>
          </p:nvSpPr>
          <p:spPr>
            <a:xfrm>
              <a:off x="956520" y="939960"/>
              <a:ext cx="7161120" cy="9147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WordArt 34"/>
          <p:cNvSpPr txBox="1"/>
          <p:nvPr/>
        </p:nvSpPr>
        <p:spPr>
          <a:xfrm>
            <a:off x="3733920" y="609480"/>
            <a:ext cx="4419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ЗУЛЬТА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3" name="Picture 36" descr="bs00967_"/>
          <p:cNvPicPr/>
          <p:nvPr/>
        </p:nvPicPr>
        <p:blipFill>
          <a:blip r:embed="rId1"/>
          <a:stretch/>
        </p:blipFill>
        <p:spPr>
          <a:xfrm>
            <a:off x="-152280" y="0"/>
            <a:ext cx="3024000" cy="19731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7"/>
          <p:cNvSpPr/>
          <p:nvPr/>
        </p:nvSpPr>
        <p:spPr>
          <a:xfrm>
            <a:off x="380880" y="1905120"/>
            <a:ext cx="838224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результате активного внедрения метода про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 уроках  и во внеурочной деятельности у  учащихся формир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 учебные умения, навыки и обобщенные способы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ающиеся более прочно усваивают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енные в ходе самостоятельного решения поставленных зада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ют опыт вдумчивой работы с текстом художе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едения, опыт работы с большим объемом информации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ных источ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кольники приобретают навыки учебного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коммуникации: учатся работать в коллектив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ланировать работу индивидуально и в групп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чатся оценивать ситуации и принимать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ектная деятельность способствуе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ированию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кольников духовности и культуры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ициатив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стоятельности, способности к успешной социализации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304920" y="380880"/>
            <a:ext cx="8458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«Учение – это лишь один из лепестков того цветка, который называется воспитанием в широком смысле этого понятия. В воспитании нет главного и второстепенного, как нет главного лепестка среди множества лепестков, создающих красоту цве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В воспитании всё главное – и урок, и развитие разносторонних интересов детей вне урока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4343400" y="55627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Arial"/>
              </a:rPr>
              <a:t>В. А. Сухомл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990720" y="4655880"/>
            <a:ext cx="7162560" cy="18928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Heavy"/>
              </a:rPr>
              <a:t>Технология проектной деятельности </a:t>
            </a:r>
            <a:r>
              <a:rPr b="1" lang="ru-RU" sz="2000" spc="-1" strike="noStrike">
                <a:solidFill>
                  <a:srgbClr val="000000"/>
                </a:solidFill>
                <a:latin typeface="Franklin Gothic Heavy"/>
              </a:rPr>
              <a:t>– целенаправленная деятельность  по определенному плану  для решения поисковых, исследовательских, практических задач по любому направлению содержания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152280" y="304920"/>
            <a:ext cx="8839440" cy="1981080"/>
          </a:xfrm>
          <a:prstGeom prst="flowChartAlternateProcess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Franklin Gothic Heavy"/>
              </a:rPr>
              <a:t>Проектная деятельность учащихся</a:t>
            </a:r>
            <a:r>
              <a:rPr b="1" lang="ru-RU" sz="2000" spc="-1" strike="noStrike">
                <a:solidFill>
                  <a:srgbClr val="000000"/>
                </a:solidFill>
                <a:latin typeface="Franklin Gothic Heavy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Heavy"/>
              </a:rPr>
              <a:t>это учебно-познавательная, творческая или игровая дея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Heavy"/>
              </a:rPr>
              <a:t>результатом которой становится решение какой-л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Heavy"/>
              </a:rPr>
              <a:t>проблемы, представленное в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Heavy"/>
              </a:rPr>
              <a:t>его подробного описания (проек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762120" y="2743200"/>
            <a:ext cx="7543800" cy="1523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Проект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– это подробно опис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рообраз  будущего объ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или способа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838080" y="91440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ь проектной технологии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создание условий, при которых учащиеся самостоятельно приобретают знания из различных источников, используют их для решения различных познавательных задач, развивают коммуникативные и исследовательские ум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тайская мудрость </a:t>
            </a:r>
            <a:br>
              <a:rPr sz="4400"/>
            </a:br>
            <a:br>
              <a:rPr sz="4400"/>
            </a:br>
            <a:r>
              <a:rPr b="0" i="1" lang="ru-RU" sz="4800" spc="-1" strike="noStrike">
                <a:solidFill>
                  <a:srgbClr val="3366ff"/>
                </a:solidFill>
                <a:latin typeface="Arial"/>
              </a:rPr>
              <a:t>«Скажи мне – и я забуду, покажи мне – и я запомню, </a:t>
            </a:r>
            <a:br>
              <a:rPr sz="4800"/>
            </a:br>
            <a:r>
              <a:rPr b="0" i="1" lang="ru-RU" sz="4800" spc="-1" strike="noStrike">
                <a:solidFill>
                  <a:srgbClr val="3366ff"/>
                </a:solidFill>
                <a:latin typeface="Arial"/>
              </a:rPr>
              <a:t>вовлеки меня – и я научусь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ет общеучебные умения и навыки: исследовательские, рефлексивные, самооценоч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ормирует компетенции, т.е. умения, непосредственно сопряженные с опытом их применения в практ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ормирует активную, самостоятельную  инициативную позицию обучающихся в уч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целивает на развитие познавательного интереса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еализует принцип связи обучения с жизнью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ект – это «пять П»: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Проблем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наличие социально значимой задачи (проблемы) – исследовательской, информационной, практической. Поиск социально значимой проблемы – одна из наиболее трудных организационн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Проек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ланирование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ение проекта начинается с планирования действий по разрешению проблемы, иными словами – с проектирования самого проекта, в частности с определения вида продукта и формы презентации, сроков выполнения и ответстве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Поиск информ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исследовательская деятельность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ом работы над проектом является продукт, т.е. средство, которое разработали участники проектной группы для решения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Презентац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готовленный продукт должен быть представлен заказчику посредством презен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 точки зрения учащегося, это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ь делать что-то интересное самостоятельно, в группе или самому, максимально используя свои возмож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, позволяющая проявить себя, попробовать свои силы, приложить свои знания, принести пользу и показать публично достигнутый результа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, направленная на решение интересной проблемы, сформулированной самими учащимися в виде цели и задачи, когда результат этой деятельности - найденный способ решения проблемы - носит практически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ый проект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 точки зрения учи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— это  средство развития, обучения и воспитания позволяющее вырабатывать и развивать следующие компетентност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а проблемного поля, формулировка ведущей проблемы, постановка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еполагания и планирования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анализ и 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зентации деятельности и ее результа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материала для проведения презентации в наглядной форме, используя для этого специально подготовленный продукт проект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6:29:15Z</dcterms:created>
  <dc:creator>Медведева Елена Евгеньевна</dc:creator>
  <dc:description/>
  <dc:language>en-US</dc:language>
  <cp:lastModifiedBy>Таня</cp:lastModifiedBy>
  <dcterms:modified xsi:type="dcterms:W3CDTF">2016-02-16T18:54:09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