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7.wmf" ContentType="image/x-wmf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chimes.wav" ContentType="audio/x-wav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75A-0548-4FC9-A4E0-E82096A8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601-9E78-4509-BB99-35B2A8B0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D4E-5DF0-4293-ABB2-7E3FA906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3F1-C67B-4925-ABC8-D9223811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512E-4A75-4DC2-AF8B-D50C6F2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8AC-07EC-45B0-BC32-B76806B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D0E6-81CF-47B7-9B46-B6734A8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715F-0EF7-4952-B363-517ECF2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A584-13BC-40D4-A1BC-3F46115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18A7-6D00-410F-B08B-15690CC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881-23FB-4E0C-A3FC-20DB8CB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5D1-3667-4B91-A1B1-14FC21B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0B1-9934-4749-86D8-0BDC34E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897E-18C9-418A-8D5A-47C8CAF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88E8-C7EF-4525-8A48-E945AD66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30D0-8916-4D34-A008-45F3AC23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66F2-F30D-4570-91CF-B902F2EE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5B2-045D-49F4-A65E-702BCBB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CB1-C1A4-41C6-AEBC-F0EEFA0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661-FFFF-4894-821D-BA31BC4D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38E-9F42-47CA-9492-8A5D10D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0A0-4524-4985-B8CC-BF94297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7B8-AD3F-43DA-8CE9-27CAF7C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420-ACBF-4790-9EBA-43149A1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BCB9-07A1-46D0-A7F3-EC71DD322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83F-8870-4840-BF0E-A12C21424AE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9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Русский  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2349360"/>
            <a:ext cx="6553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"БРЕЙН - РИНГ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68680" y="260280"/>
            <a:ext cx="47998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МБОУ «ПЕРОВСКАЯ ШКОЛА-ГИМНАЗИЯ»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00160" y="5681520"/>
            <a:ext cx="39268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ПОДГОТОВИЛ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МОСАЛОВА ЗЕНИФЕ ЮНУСОВН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82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0"/>
            <a:ext cx="7488000" cy="40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ОТДЫХАЙКА"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4437000"/>
            <a:ext cx="835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узыкальная пауза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24000" y="260280"/>
            <a:ext cx="882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ІІІ тур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веряйка"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3500280"/>
            <a:ext cx="9144000" cy="33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ьно л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ны глаголы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7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76280"/>
            <a:ext cx="9612360" cy="5640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БЕГА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ЕШЬ,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ПИШ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ИМ,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НЕНАВИД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ЕШЬ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,ЧИСТ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ИМ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ЗНА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ЕТЕ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, ИГРА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ИТ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, СЛЫШ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ЕМ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, ЗАВИС</a:t>
            </a:r>
            <a:r>
              <a:rPr b="1" lang="ru-RU" sz="6000" spc="-1" strike="noStrike" u="sng">
                <a:solidFill>
                  <a:srgbClr val="ffffcc"/>
                </a:solidFill>
                <a:uFillTx/>
                <a:latin typeface="Arial"/>
              </a:rPr>
              <a:t>ИШЬ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95280" y="404640"/>
            <a:ext cx="295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І спр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64000" y="620640"/>
            <a:ext cx="29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ІІ спр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060640"/>
            <a:ext cx="318924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бегаеш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пише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знает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играет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8720" y="2133720"/>
            <a:ext cx="44676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ненавидиш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чисти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слыши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зависишь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54936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V ТУ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УМАЙ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3645000"/>
            <a:ext cx="9144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Какова роль глагол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речи?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404640"/>
            <a:ext cx="8550360" cy="496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Глагол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– необыкновенная часть речи. Необыкновенна она тем, что глагол выражает бесчисленное количество действи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о употреблению глагол стоит на втором месте, после имени существительного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GRAD1C"/>
          <p:cNvPicPr/>
          <p:nvPr/>
        </p:nvPicPr>
        <p:blipFill>
          <a:blip r:embed="rId1"/>
          <a:stretch/>
        </p:blipFill>
        <p:spPr>
          <a:xfrm>
            <a:off x="6365880" y="2825640"/>
            <a:ext cx="2778120" cy="403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260280"/>
            <a:ext cx="6696000" cy="4464000"/>
          </a:xfrm>
          <a:prstGeom prst="wedgeEllipseCallout">
            <a:avLst>
              <a:gd name="adj1" fmla="val 55453"/>
              <a:gd name="adj2" fmla="val 36166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440" y="333360"/>
            <a:ext cx="629964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Речь ярче,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образнее,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точнее,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лучше передается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</a:rPr>
              <a:t>карти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7" descr="cdolls118.gif"/>
          <p:cNvPicPr/>
          <p:nvPr/>
        </p:nvPicPr>
        <p:blipFill>
          <a:blip r:embed="rId1"/>
          <a:stretch/>
        </p:blipFill>
        <p:spPr>
          <a:xfrm>
            <a:off x="611280" y="835920"/>
            <a:ext cx="8532720" cy="55450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3564000" y="1628640"/>
            <a:ext cx="302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 работу !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7" descr="cdolls118.gif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2124000" y="1268280"/>
            <a:ext cx="5472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ОБЩЕНИЕ ИЗУЧЕННОГ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ГЛАГОЛ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6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6920" y="260280"/>
            <a:ext cx="792036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 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СПОМИНАЙКА"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551664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я знаю о глаголе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3933720"/>
            <a:ext cx="82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ТЫ - МНЕ, Я - ТЕБЕ"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19280" y="549360"/>
            <a:ext cx="84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ІІ ТУР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20011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АПОМИНАЙКА"</a:t>
            </a:r>
            <a:endParaRPr b="0" lang="en-US" sz="1800" spc="1" strike="noStrike">
              <a:ln w="19080">
                <a:solidFill>
                  <a:srgbClr val="220011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3789360"/>
            <a:ext cx="83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писание глагол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..л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vert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4f411cd"/>
          <p:cNvPicPr/>
          <p:nvPr/>
        </p:nvPicPr>
        <p:blipFill>
          <a:blip r:embed="rId1"/>
          <a:stretch/>
        </p:blipFill>
        <p:spPr>
          <a:xfrm>
            <a:off x="900000" y="5013360"/>
            <a:ext cx="1584360" cy="1311120"/>
          </a:xfrm>
          <a:prstGeom prst="rect">
            <a:avLst/>
          </a:prstGeom>
          <a:ln w="0">
            <a:noFill/>
          </a:ln>
        </p:spPr>
      </p:pic>
      <p:sp>
        <p:nvSpPr>
          <p:cNvPr id="113" name="Tree"/>
          <p:cNvSpPr/>
          <p:nvPr/>
        </p:nvSpPr>
        <p:spPr>
          <a:xfrm>
            <a:off x="250920" y="4292640"/>
            <a:ext cx="976320" cy="119232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480 h 1192320"/>
              <a:gd name="textAreaBottom" fmla="*/ 156132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Tree"/>
          <p:cNvSpPr/>
          <p:nvPr/>
        </p:nvSpPr>
        <p:spPr>
          <a:xfrm>
            <a:off x="7956720" y="4869000"/>
            <a:ext cx="976320" cy="119196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120 h 1191960"/>
              <a:gd name="textAreaBottom" fmla="*/ 1560960 h 11919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84720" y="4941720"/>
            <a:ext cx="1872000" cy="1656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5867280" y="4076640"/>
            <a:ext cx="216072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6633"/>
              </a:gs>
              <a:gs pos="100000">
                <a:srgbClr val="472f1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300720" y="5300640"/>
            <a:ext cx="576360" cy="64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08000" y="2565360"/>
            <a:ext cx="1655640" cy="1417680"/>
          </a:xfrm>
          <a:prstGeom prst="irregularSeal1">
            <a:avLst/>
          </a:prstGeom>
          <a:gradFill rotWithShape="0">
            <a:gsLst>
              <a:gs pos="0">
                <a:srgbClr val="ffff66"/>
              </a:gs>
              <a:gs pos="100000">
                <a:srgbClr val="22001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877080" y="4437000"/>
            <a:ext cx="358920" cy="289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451640" y="4076640"/>
            <a:ext cx="216000" cy="360360"/>
          </a:xfrm>
          <a:prstGeom prst="rect">
            <a:avLst/>
          </a:prstGeom>
          <a:solidFill>
            <a:srgbClr val="996633"/>
          </a:solidFill>
          <a:ln w="12600">
            <a:solidFill>
              <a:srgbClr val="663300"/>
            </a:solidFill>
            <a:miter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flipV="1">
            <a:off x="7596360" y="3067920"/>
            <a:ext cx="720720" cy="431640"/>
          </a:xfrm>
          <a:prstGeom prst="cloudCallout">
            <a:avLst>
              <a:gd name="adj1" fmla="val -60796"/>
              <a:gd name="adj2" fmla="val -160296"/>
            </a:avLst>
          </a:prstGeom>
          <a:solidFill>
            <a:srgbClr val="3399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7164360" y="5300640"/>
            <a:ext cx="576360" cy="647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6200000">
            <a:off x="5497560" y="4592520"/>
            <a:ext cx="216000" cy="914400"/>
          </a:xfrm>
          <a:prstGeom prst="rtTriangle">
            <a:avLst/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340000" y="5950080"/>
            <a:ext cx="142920" cy="1220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3276720" y="6093000"/>
            <a:ext cx="142920" cy="1220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3132000" y="6021360"/>
            <a:ext cx="142920" cy="122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2987640" y="5950080"/>
            <a:ext cx="142920" cy="1220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2484360" y="5950080"/>
            <a:ext cx="142920" cy="1220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2771640" y="5950080"/>
            <a:ext cx="142920" cy="1220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Oval 20"/>
          <p:cNvSpPr/>
          <p:nvPr/>
        </p:nvSpPr>
        <p:spPr>
          <a:xfrm flipV="1">
            <a:off x="2627280" y="5950080"/>
            <a:ext cx="144360" cy="7128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 flipV="1">
            <a:off x="7596360" y="2276640"/>
            <a:ext cx="936360" cy="504720"/>
          </a:xfrm>
          <a:prstGeom prst="cloudCallout">
            <a:avLst>
              <a:gd name="adj1" fmla="val -57800"/>
              <a:gd name="adj2" fmla="val -286796"/>
            </a:avLst>
          </a:prstGeom>
          <a:solidFill>
            <a:srgbClr val="3399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 flipV="1">
            <a:off x="7524720" y="1340640"/>
            <a:ext cx="1081080" cy="646200"/>
          </a:xfrm>
          <a:prstGeom prst="cloudCallout">
            <a:avLst>
              <a:gd name="adj1" fmla="val -54407"/>
              <a:gd name="adj2" fmla="val -355652"/>
            </a:avLst>
          </a:prstGeom>
          <a:solidFill>
            <a:srgbClr val="3399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23" descr="4f411cd"/>
          <p:cNvPicPr/>
          <p:nvPr/>
        </p:nvPicPr>
        <p:blipFill>
          <a:blip r:embed="rId5"/>
          <a:stretch/>
        </p:blipFill>
        <p:spPr>
          <a:xfrm flipH="1">
            <a:off x="4788000" y="5229360"/>
            <a:ext cx="1225440" cy="136836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24"/>
          <p:cNvSpPr/>
          <p:nvPr/>
        </p:nvSpPr>
        <p:spPr>
          <a:xfrm>
            <a:off x="351000" y="822240"/>
            <a:ext cx="547560" cy="130320"/>
          </a:xfrm>
          <a:custGeom>
            <a:avLst/>
            <a:gdLst>
              <a:gd name="textAreaLeft" fmla="*/ 0 w 547560"/>
              <a:gd name="textAreaRight" fmla="*/ 547920 w 547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45" h="82">
                <a:moveTo>
                  <a:pt x="0" y="0"/>
                </a:moveTo>
                <a:cubicBezTo>
                  <a:pt x="38" y="3"/>
                  <a:pt x="77" y="5"/>
                  <a:pt x="115" y="10"/>
                </a:cubicBezTo>
                <a:cubicBezTo>
                  <a:pt x="128" y="12"/>
                  <a:pt x="147" y="8"/>
                  <a:pt x="153" y="20"/>
                </a:cubicBezTo>
                <a:cubicBezTo>
                  <a:pt x="160" y="35"/>
                  <a:pt x="147" y="52"/>
                  <a:pt x="144" y="68"/>
                </a:cubicBezTo>
                <a:cubicBezTo>
                  <a:pt x="188" y="82"/>
                  <a:pt x="211" y="61"/>
                  <a:pt x="259" y="58"/>
                </a:cubicBezTo>
                <a:cubicBezTo>
                  <a:pt x="288" y="56"/>
                  <a:pt x="316" y="58"/>
                  <a:pt x="345" y="58"/>
                </a:cubicBez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2484360" y="2492280"/>
            <a:ext cx="289080" cy="144720"/>
          </a:xfrm>
          <a:custGeom>
            <a:avLst/>
            <a:gdLst>
              <a:gd name="textAreaLeft" fmla="*/ 0 w 289080"/>
              <a:gd name="textAreaRight" fmla="*/ 289440 w 28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345" h="82">
                <a:moveTo>
                  <a:pt x="0" y="0"/>
                </a:moveTo>
                <a:cubicBezTo>
                  <a:pt x="38" y="3"/>
                  <a:pt x="77" y="5"/>
                  <a:pt x="115" y="10"/>
                </a:cubicBezTo>
                <a:cubicBezTo>
                  <a:pt x="128" y="12"/>
                  <a:pt x="147" y="8"/>
                  <a:pt x="153" y="20"/>
                </a:cubicBezTo>
                <a:cubicBezTo>
                  <a:pt x="160" y="35"/>
                  <a:pt x="147" y="52"/>
                  <a:pt x="144" y="68"/>
                </a:cubicBezTo>
                <a:cubicBezTo>
                  <a:pt x="188" y="82"/>
                  <a:pt x="211" y="61"/>
                  <a:pt x="259" y="58"/>
                </a:cubicBezTo>
                <a:cubicBezTo>
                  <a:pt x="288" y="56"/>
                  <a:pt x="316" y="58"/>
                  <a:pt x="345" y="58"/>
                </a:cubicBez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4859280" y="285264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45" h="82">
                <a:moveTo>
                  <a:pt x="0" y="0"/>
                </a:moveTo>
                <a:cubicBezTo>
                  <a:pt x="38" y="3"/>
                  <a:pt x="77" y="5"/>
                  <a:pt x="115" y="10"/>
                </a:cubicBezTo>
                <a:cubicBezTo>
                  <a:pt x="128" y="12"/>
                  <a:pt x="147" y="8"/>
                  <a:pt x="153" y="20"/>
                </a:cubicBezTo>
                <a:cubicBezTo>
                  <a:pt x="160" y="35"/>
                  <a:pt x="147" y="52"/>
                  <a:pt x="144" y="68"/>
                </a:cubicBezTo>
                <a:cubicBezTo>
                  <a:pt x="188" y="82"/>
                  <a:pt x="211" y="61"/>
                  <a:pt x="259" y="58"/>
                </a:cubicBezTo>
                <a:cubicBezTo>
                  <a:pt x="288" y="56"/>
                  <a:pt x="316" y="58"/>
                  <a:pt x="345" y="58"/>
                </a:cubicBez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6659640" y="2421000"/>
            <a:ext cx="689040" cy="96840"/>
          </a:xfrm>
          <a:custGeom>
            <a:avLst/>
            <a:gdLst>
              <a:gd name="textAreaLeft" fmla="*/ 0 w 689040"/>
              <a:gd name="textAreaRight" fmla="*/ 689400 w 689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413" h="117">
                <a:moveTo>
                  <a:pt x="0" y="1"/>
                </a:moveTo>
                <a:cubicBezTo>
                  <a:pt x="42" y="4"/>
                  <a:pt x="85" y="0"/>
                  <a:pt x="125" y="11"/>
                </a:cubicBezTo>
                <a:cubicBezTo>
                  <a:pt x="159" y="20"/>
                  <a:pt x="135" y="117"/>
                  <a:pt x="135" y="117"/>
                </a:cubicBezTo>
                <a:cubicBezTo>
                  <a:pt x="163" y="88"/>
                  <a:pt x="202" y="81"/>
                  <a:pt x="240" y="69"/>
                </a:cubicBezTo>
                <a:cubicBezTo>
                  <a:pt x="294" y="12"/>
                  <a:pt x="250" y="49"/>
                  <a:pt x="413" y="49"/>
                </a:cubicBezTo>
              </a:path>
            </a:pathLst>
          </a:custGeom>
          <a:noFill/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-17640" y="2781360"/>
            <a:ext cx="9161640" cy="143964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771" h="704">
                <a:moveTo>
                  <a:pt x="0" y="694"/>
                </a:moveTo>
                <a:cubicBezTo>
                  <a:pt x="13" y="691"/>
                  <a:pt x="27" y="692"/>
                  <a:pt x="38" y="685"/>
                </a:cubicBezTo>
                <a:cubicBezTo>
                  <a:pt x="48" y="679"/>
                  <a:pt x="50" y="665"/>
                  <a:pt x="57" y="656"/>
                </a:cubicBezTo>
                <a:cubicBezTo>
                  <a:pt x="105" y="598"/>
                  <a:pt x="67" y="655"/>
                  <a:pt x="124" y="598"/>
                </a:cubicBezTo>
                <a:cubicBezTo>
                  <a:pt x="142" y="580"/>
                  <a:pt x="154" y="559"/>
                  <a:pt x="172" y="541"/>
                </a:cubicBezTo>
                <a:cubicBezTo>
                  <a:pt x="182" y="544"/>
                  <a:pt x="192" y="554"/>
                  <a:pt x="201" y="550"/>
                </a:cubicBezTo>
                <a:cubicBezTo>
                  <a:pt x="212" y="546"/>
                  <a:pt x="215" y="532"/>
                  <a:pt x="220" y="521"/>
                </a:cubicBezTo>
                <a:cubicBezTo>
                  <a:pt x="266" y="419"/>
                  <a:pt x="216" y="501"/>
                  <a:pt x="259" y="435"/>
                </a:cubicBezTo>
                <a:cubicBezTo>
                  <a:pt x="262" y="419"/>
                  <a:pt x="254" y="395"/>
                  <a:pt x="268" y="387"/>
                </a:cubicBezTo>
                <a:cubicBezTo>
                  <a:pt x="285" y="377"/>
                  <a:pt x="306" y="397"/>
                  <a:pt x="326" y="397"/>
                </a:cubicBezTo>
                <a:cubicBezTo>
                  <a:pt x="358" y="397"/>
                  <a:pt x="390" y="390"/>
                  <a:pt x="422" y="387"/>
                </a:cubicBezTo>
                <a:cubicBezTo>
                  <a:pt x="447" y="314"/>
                  <a:pt x="452" y="328"/>
                  <a:pt x="528" y="339"/>
                </a:cubicBezTo>
                <a:cubicBezTo>
                  <a:pt x="636" y="323"/>
                  <a:pt x="745" y="320"/>
                  <a:pt x="854" y="310"/>
                </a:cubicBezTo>
                <a:cubicBezTo>
                  <a:pt x="886" y="262"/>
                  <a:pt x="895" y="244"/>
                  <a:pt x="940" y="214"/>
                </a:cubicBezTo>
                <a:cubicBezTo>
                  <a:pt x="979" y="224"/>
                  <a:pt x="1007" y="243"/>
                  <a:pt x="1046" y="253"/>
                </a:cubicBezTo>
                <a:cubicBezTo>
                  <a:pt x="1077" y="273"/>
                  <a:pt x="1107" y="289"/>
                  <a:pt x="1142" y="301"/>
                </a:cubicBezTo>
                <a:cubicBezTo>
                  <a:pt x="1179" y="288"/>
                  <a:pt x="1187" y="264"/>
                  <a:pt x="1219" y="243"/>
                </a:cubicBezTo>
                <a:cubicBezTo>
                  <a:pt x="1233" y="197"/>
                  <a:pt x="1262" y="200"/>
                  <a:pt x="1296" y="166"/>
                </a:cubicBezTo>
                <a:cubicBezTo>
                  <a:pt x="1307" y="155"/>
                  <a:pt x="1312" y="138"/>
                  <a:pt x="1324" y="128"/>
                </a:cubicBezTo>
                <a:cubicBezTo>
                  <a:pt x="1330" y="123"/>
                  <a:pt x="1451" y="38"/>
                  <a:pt x="1468" y="32"/>
                </a:cubicBezTo>
                <a:cubicBezTo>
                  <a:pt x="1501" y="20"/>
                  <a:pt x="1540" y="12"/>
                  <a:pt x="1574" y="3"/>
                </a:cubicBezTo>
                <a:cubicBezTo>
                  <a:pt x="1596" y="6"/>
                  <a:pt x="1622" y="0"/>
                  <a:pt x="1641" y="13"/>
                </a:cubicBezTo>
                <a:cubicBezTo>
                  <a:pt x="1688" y="45"/>
                  <a:pt x="1723" y="132"/>
                  <a:pt x="1737" y="185"/>
                </a:cubicBezTo>
                <a:cubicBezTo>
                  <a:pt x="1740" y="198"/>
                  <a:pt x="1739" y="214"/>
                  <a:pt x="1747" y="224"/>
                </a:cubicBezTo>
                <a:cubicBezTo>
                  <a:pt x="1753" y="232"/>
                  <a:pt x="1766" y="232"/>
                  <a:pt x="1776" y="233"/>
                </a:cubicBezTo>
                <a:cubicBezTo>
                  <a:pt x="1814" y="238"/>
                  <a:pt x="1853" y="240"/>
                  <a:pt x="1891" y="243"/>
                </a:cubicBezTo>
                <a:cubicBezTo>
                  <a:pt x="1919" y="271"/>
                  <a:pt x="1935" y="298"/>
                  <a:pt x="1968" y="320"/>
                </a:cubicBezTo>
                <a:cubicBezTo>
                  <a:pt x="1974" y="333"/>
                  <a:pt x="1982" y="345"/>
                  <a:pt x="1987" y="358"/>
                </a:cubicBezTo>
                <a:cubicBezTo>
                  <a:pt x="2023" y="450"/>
                  <a:pt x="1997" y="421"/>
                  <a:pt x="2121" y="435"/>
                </a:cubicBezTo>
                <a:cubicBezTo>
                  <a:pt x="2172" y="468"/>
                  <a:pt x="2180" y="464"/>
                  <a:pt x="2246" y="454"/>
                </a:cubicBezTo>
                <a:cubicBezTo>
                  <a:pt x="2298" y="420"/>
                  <a:pt x="2256" y="434"/>
                  <a:pt x="2294" y="464"/>
                </a:cubicBezTo>
                <a:cubicBezTo>
                  <a:pt x="2302" y="470"/>
                  <a:pt x="2313" y="470"/>
                  <a:pt x="2323" y="473"/>
                </a:cubicBezTo>
                <a:cubicBezTo>
                  <a:pt x="2363" y="470"/>
                  <a:pt x="2460" y="454"/>
                  <a:pt x="2505" y="473"/>
                </a:cubicBezTo>
                <a:cubicBezTo>
                  <a:pt x="2522" y="480"/>
                  <a:pt x="2526" y="509"/>
                  <a:pt x="2544" y="512"/>
                </a:cubicBezTo>
                <a:cubicBezTo>
                  <a:pt x="2605" y="523"/>
                  <a:pt x="2576" y="517"/>
                  <a:pt x="2630" y="531"/>
                </a:cubicBezTo>
                <a:cubicBezTo>
                  <a:pt x="2697" y="521"/>
                  <a:pt x="2754" y="509"/>
                  <a:pt x="2822" y="502"/>
                </a:cubicBezTo>
                <a:cubicBezTo>
                  <a:pt x="2828" y="492"/>
                  <a:pt x="2832" y="481"/>
                  <a:pt x="2841" y="473"/>
                </a:cubicBezTo>
                <a:cubicBezTo>
                  <a:pt x="2858" y="458"/>
                  <a:pt x="2899" y="435"/>
                  <a:pt x="2899" y="435"/>
                </a:cubicBezTo>
                <a:cubicBezTo>
                  <a:pt x="2954" y="443"/>
                  <a:pt x="2980" y="444"/>
                  <a:pt x="3024" y="473"/>
                </a:cubicBezTo>
                <a:cubicBezTo>
                  <a:pt x="3083" y="459"/>
                  <a:pt x="3062" y="447"/>
                  <a:pt x="3110" y="416"/>
                </a:cubicBezTo>
                <a:cubicBezTo>
                  <a:pt x="3167" y="425"/>
                  <a:pt x="3200" y="446"/>
                  <a:pt x="3254" y="464"/>
                </a:cubicBezTo>
                <a:cubicBezTo>
                  <a:pt x="3254" y="464"/>
                  <a:pt x="3334" y="456"/>
                  <a:pt x="3350" y="445"/>
                </a:cubicBezTo>
                <a:cubicBezTo>
                  <a:pt x="3361" y="438"/>
                  <a:pt x="3368" y="424"/>
                  <a:pt x="3379" y="416"/>
                </a:cubicBezTo>
                <a:cubicBezTo>
                  <a:pt x="3414" y="393"/>
                  <a:pt x="3458" y="382"/>
                  <a:pt x="3494" y="358"/>
                </a:cubicBezTo>
                <a:cubicBezTo>
                  <a:pt x="3551" y="378"/>
                  <a:pt x="3571" y="425"/>
                  <a:pt x="3628" y="445"/>
                </a:cubicBezTo>
                <a:cubicBezTo>
                  <a:pt x="3670" y="403"/>
                  <a:pt x="3728" y="373"/>
                  <a:pt x="3782" y="349"/>
                </a:cubicBezTo>
                <a:cubicBezTo>
                  <a:pt x="3801" y="341"/>
                  <a:pt x="3840" y="329"/>
                  <a:pt x="3840" y="329"/>
                </a:cubicBezTo>
                <a:cubicBezTo>
                  <a:pt x="3871" y="340"/>
                  <a:pt x="3888" y="358"/>
                  <a:pt x="3916" y="377"/>
                </a:cubicBezTo>
                <a:cubicBezTo>
                  <a:pt x="3975" y="359"/>
                  <a:pt x="3989" y="358"/>
                  <a:pt x="4051" y="377"/>
                </a:cubicBezTo>
                <a:cubicBezTo>
                  <a:pt x="4155" y="367"/>
                  <a:pt x="4269" y="380"/>
                  <a:pt x="4368" y="349"/>
                </a:cubicBezTo>
                <a:cubicBezTo>
                  <a:pt x="4381" y="352"/>
                  <a:pt x="4395" y="351"/>
                  <a:pt x="4406" y="358"/>
                </a:cubicBezTo>
                <a:cubicBezTo>
                  <a:pt x="4416" y="364"/>
                  <a:pt x="4415" y="381"/>
                  <a:pt x="4425" y="387"/>
                </a:cubicBezTo>
                <a:cubicBezTo>
                  <a:pt x="4442" y="398"/>
                  <a:pt x="4483" y="406"/>
                  <a:pt x="4483" y="406"/>
                </a:cubicBezTo>
                <a:cubicBezTo>
                  <a:pt x="4830" y="394"/>
                  <a:pt x="4656" y="374"/>
                  <a:pt x="4828" y="435"/>
                </a:cubicBezTo>
                <a:cubicBezTo>
                  <a:pt x="4896" y="413"/>
                  <a:pt x="4867" y="423"/>
                  <a:pt x="4915" y="406"/>
                </a:cubicBezTo>
                <a:cubicBezTo>
                  <a:pt x="4981" y="412"/>
                  <a:pt x="5034" y="399"/>
                  <a:pt x="5078" y="445"/>
                </a:cubicBezTo>
                <a:cubicBezTo>
                  <a:pt x="5157" y="438"/>
                  <a:pt x="5192" y="432"/>
                  <a:pt x="5260" y="416"/>
                </a:cubicBezTo>
                <a:cubicBezTo>
                  <a:pt x="5295" y="419"/>
                  <a:pt x="5331" y="420"/>
                  <a:pt x="5366" y="425"/>
                </a:cubicBezTo>
                <a:cubicBezTo>
                  <a:pt x="5387" y="428"/>
                  <a:pt x="5403" y="452"/>
                  <a:pt x="5424" y="454"/>
                </a:cubicBezTo>
                <a:cubicBezTo>
                  <a:pt x="5507" y="463"/>
                  <a:pt x="5590" y="461"/>
                  <a:pt x="5673" y="464"/>
                </a:cubicBezTo>
                <a:cubicBezTo>
                  <a:pt x="5699" y="504"/>
                  <a:pt x="5707" y="497"/>
                  <a:pt x="5750" y="512"/>
                </a:cubicBezTo>
                <a:cubicBezTo>
                  <a:pt x="5756" y="522"/>
                  <a:pt x="5771" y="530"/>
                  <a:pt x="5769" y="541"/>
                </a:cubicBezTo>
                <a:cubicBezTo>
                  <a:pt x="5767" y="552"/>
                  <a:pt x="5751" y="558"/>
                  <a:pt x="5740" y="560"/>
                </a:cubicBezTo>
                <a:cubicBezTo>
                  <a:pt x="5680" y="572"/>
                  <a:pt x="5618" y="571"/>
                  <a:pt x="5558" y="579"/>
                </a:cubicBezTo>
                <a:cubicBezTo>
                  <a:pt x="5444" y="618"/>
                  <a:pt x="5278" y="593"/>
                  <a:pt x="5174" y="589"/>
                </a:cubicBezTo>
                <a:cubicBezTo>
                  <a:pt x="5133" y="575"/>
                  <a:pt x="5099" y="553"/>
                  <a:pt x="5059" y="541"/>
                </a:cubicBezTo>
                <a:cubicBezTo>
                  <a:pt x="4770" y="342"/>
                  <a:pt x="5017" y="504"/>
                  <a:pt x="4080" y="531"/>
                </a:cubicBezTo>
                <a:cubicBezTo>
                  <a:pt x="4060" y="532"/>
                  <a:pt x="4022" y="550"/>
                  <a:pt x="4022" y="550"/>
                </a:cubicBezTo>
                <a:cubicBezTo>
                  <a:pt x="3951" y="537"/>
                  <a:pt x="3993" y="547"/>
                  <a:pt x="3916" y="521"/>
                </a:cubicBezTo>
                <a:cubicBezTo>
                  <a:pt x="3897" y="515"/>
                  <a:pt x="3859" y="502"/>
                  <a:pt x="3859" y="502"/>
                </a:cubicBezTo>
                <a:cubicBezTo>
                  <a:pt x="3798" y="505"/>
                  <a:pt x="3737" y="504"/>
                  <a:pt x="3676" y="512"/>
                </a:cubicBezTo>
                <a:cubicBezTo>
                  <a:pt x="3665" y="514"/>
                  <a:pt x="3658" y="526"/>
                  <a:pt x="3648" y="531"/>
                </a:cubicBezTo>
                <a:cubicBezTo>
                  <a:pt x="3620" y="545"/>
                  <a:pt x="3581" y="546"/>
                  <a:pt x="3552" y="550"/>
                </a:cubicBezTo>
                <a:cubicBezTo>
                  <a:pt x="3410" y="643"/>
                  <a:pt x="3237" y="585"/>
                  <a:pt x="3062" y="589"/>
                </a:cubicBezTo>
                <a:cubicBezTo>
                  <a:pt x="2705" y="637"/>
                  <a:pt x="3047" y="607"/>
                  <a:pt x="2169" y="617"/>
                </a:cubicBezTo>
                <a:cubicBezTo>
                  <a:pt x="2087" y="704"/>
                  <a:pt x="1832" y="655"/>
                  <a:pt x="1795" y="656"/>
                </a:cubicBezTo>
                <a:cubicBezTo>
                  <a:pt x="1726" y="672"/>
                  <a:pt x="1724" y="675"/>
                  <a:pt x="1641" y="665"/>
                </a:cubicBezTo>
                <a:cubicBezTo>
                  <a:pt x="1490" y="618"/>
                  <a:pt x="845" y="628"/>
                  <a:pt x="816" y="627"/>
                </a:cubicBezTo>
                <a:cubicBezTo>
                  <a:pt x="765" y="630"/>
                  <a:pt x="711" y="623"/>
                  <a:pt x="662" y="637"/>
                </a:cubicBezTo>
                <a:cubicBezTo>
                  <a:pt x="640" y="643"/>
                  <a:pt x="630" y="669"/>
                  <a:pt x="614" y="685"/>
                </a:cubicBezTo>
                <a:cubicBezTo>
                  <a:pt x="607" y="692"/>
                  <a:pt x="595" y="691"/>
                  <a:pt x="585" y="694"/>
                </a:cubicBezTo>
                <a:cubicBezTo>
                  <a:pt x="527" y="691"/>
                  <a:pt x="469" y="692"/>
                  <a:pt x="412" y="685"/>
                </a:cubicBezTo>
                <a:cubicBezTo>
                  <a:pt x="392" y="682"/>
                  <a:pt x="355" y="665"/>
                  <a:pt x="355" y="665"/>
                </a:cubicBezTo>
                <a:cubicBezTo>
                  <a:pt x="2" y="675"/>
                  <a:pt x="58" y="571"/>
                  <a:pt x="0" y="694"/>
                </a:cubicBez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1260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ree"/>
          <p:cNvSpPr/>
          <p:nvPr/>
        </p:nvSpPr>
        <p:spPr>
          <a:xfrm>
            <a:off x="1187280" y="3645000"/>
            <a:ext cx="976320" cy="119196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120 h 1191960"/>
              <a:gd name="textAreaBottom" fmla="*/ 1560960 h 11919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Tree"/>
          <p:cNvSpPr/>
          <p:nvPr/>
        </p:nvSpPr>
        <p:spPr>
          <a:xfrm>
            <a:off x="2268360" y="3213000"/>
            <a:ext cx="976320" cy="119232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480 h 1192320"/>
              <a:gd name="textAreaBottom" fmla="*/ 156132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Tree"/>
          <p:cNvSpPr/>
          <p:nvPr/>
        </p:nvSpPr>
        <p:spPr>
          <a:xfrm>
            <a:off x="3276720" y="3789360"/>
            <a:ext cx="976320" cy="119232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480 h 1192320"/>
              <a:gd name="textAreaBottom" fmla="*/ 156132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Tree"/>
          <p:cNvSpPr/>
          <p:nvPr/>
        </p:nvSpPr>
        <p:spPr>
          <a:xfrm>
            <a:off x="4643280" y="3357720"/>
            <a:ext cx="976320" cy="119196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120 h 1191960"/>
              <a:gd name="textAreaBottom" fmla="*/ 1560960 h 11919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ree"/>
          <p:cNvSpPr/>
          <p:nvPr/>
        </p:nvSpPr>
        <p:spPr>
          <a:xfrm>
            <a:off x="5796000" y="3068640"/>
            <a:ext cx="976320" cy="119232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480 h 1192320"/>
              <a:gd name="textAreaBottom" fmla="*/ 156132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AutoShape 34"/>
          <p:cNvSpPr/>
          <p:nvPr/>
        </p:nvSpPr>
        <p:spPr>
          <a:xfrm>
            <a:off x="7956720" y="5805360"/>
            <a:ext cx="14256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AutoShape 35"/>
          <p:cNvSpPr/>
          <p:nvPr/>
        </p:nvSpPr>
        <p:spPr>
          <a:xfrm>
            <a:off x="810108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AutoShape 36"/>
          <p:cNvSpPr/>
          <p:nvPr/>
        </p:nvSpPr>
        <p:spPr>
          <a:xfrm>
            <a:off x="824400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AutoShape 37"/>
          <p:cNvSpPr/>
          <p:nvPr/>
        </p:nvSpPr>
        <p:spPr>
          <a:xfrm>
            <a:off x="838836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AutoShape 38"/>
          <p:cNvSpPr/>
          <p:nvPr/>
        </p:nvSpPr>
        <p:spPr>
          <a:xfrm>
            <a:off x="853272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AutoShape 39"/>
          <p:cNvSpPr/>
          <p:nvPr/>
        </p:nvSpPr>
        <p:spPr>
          <a:xfrm>
            <a:off x="867564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8820000" y="5805360"/>
            <a:ext cx="142920" cy="790560"/>
          </a:xfrm>
          <a:prstGeom prst="can">
            <a:avLst>
              <a:gd name="adj" fmla="val 25000"/>
            </a:avLst>
          </a:prstGeom>
          <a:solidFill>
            <a:srgbClr val="cc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Tree"/>
          <p:cNvSpPr/>
          <p:nvPr/>
        </p:nvSpPr>
        <p:spPr>
          <a:xfrm>
            <a:off x="7956720" y="3357720"/>
            <a:ext cx="976320" cy="1191960"/>
          </a:xfrm>
          <a:custGeom>
            <a:avLst/>
            <a:gdLst>
              <a:gd name="textAreaLeft" fmla="*/ 34200 w 976320"/>
              <a:gd name="textAreaRight" fmla="*/ 952560 w 976320"/>
              <a:gd name="textAreaTop" fmla="*/ 1239120 h 1191960"/>
              <a:gd name="textAreaBottom" fmla="*/ 1560960 h 11919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песенка без слов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7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295 -0.01135 0.00486 -0.01505 0.01007 -0.02454 C 0.01945 -0.04144 0.0125 -0.03403 0.0217 -0.04213 C 0.025 -0.05463 0.03004 -0.06621 0.03837 -0.07338 C 0.03889 -0.0757 0.03889 -0.07848 0.04011 -0.0801 C 0.04132 -0.08172 0.04358 -0.08102 0.04497 -0.08218 C 0.05 -0.08611 0.05243 -0.09074 0.05834 -0.09329 C 0.06615 -0.10023 0.07622 -0.10047 0.08334 -0.10672 C 0.08993 -0.1125 0.08646 -0.11019 0.09341 -0.11343 C 0.1033 -0.12662 0.11163 -0.14098 0.12344 -0.15116 C 0.13038 -0.16528 0.1349 -0.16598 0.1467 -0.17107 C 0.15 -0.17246 0.1566 -0.17547 0.1566 -0.17523 C 0.1632 -0.18148 0.1691 -0.18334 0.17674 -0.18658 C 0.19427 -0.19422 0.21181 -0.19977 0.23004 -0.2044 C 0.2441 -0.20787 0.25799 -0.20996 0.2717 -0.21551 C 0.28438 -0.22662 0.30052 -0.23473 0.31163 -0.24885 C 0.31736 -0.25625 0.32466 -0.26875 0.33316 -0.26898 C 0.36945 -0.26968 0.40556 -0.27037 0.44167 -0.27107 C 0.44931 -0.27593 0.45538 -0.28334 0.46337 -0.28658 C 0.47292 -0.3 0.48525 -0.30486 0.49844 -0.3088 C 0.50608 -0.31598 0.51528 -0.31667 0.52344 -0.32223 C 0.52986 -0.32662 0.53698 -0.32894 0.54341 -0.33334 C 0.54913 -0.33727 0.55313 -0.34144 0.56007 -0.34213 C 0.56563 -0.3426 0.57118 -0.34213 0.57674 -0.34213 E">
                                      <p:cBhvr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023 C 0.04636 -0.00116 0.05296 -0.00301 0.0599 -0.00463 C 0.23299 -0.00209 0.1691 0.00023 0.25157 -0.00348 C 0.2599 -0.01019 0.25643 -0.00741 0.26181 -0.01158 C 0.26407 -0.01343 0.27049 -0.01389 0.27049 -0.01366 C 0.30365 -0.01181 0.33681 -0.01158 0.37014 -0.01158 E">
                                      <p:cBhvr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1157 C 0.37083 -0.00949 0.37135 -0.00718 0.37309 -0.00486 C 0.375 -0.00278 0.3783 -0.00301 0.38403 -0.00093 C 0.39271 0.00255 0.39705 0.00602 0.41302 0.0088 C 0.41701 0.00949 0.42274 0.00972 0.42708 0.01019 C 0.4441 0.01227 0.43837 0.01412 0.46337 0.01574 C 0.4783 0.01852 0.50503 0.01806 0.52483 0.01852 C 0.55295 0.01991 0.5342 0.01898 0.58264 0.01898 E">
                                      <p:cBhvr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2 0.02407 C -0.04428 0.02199 -0.05174 0.01898 -0.05938 0.01528 C -0.06424 0.00903 -0.06962 0.00254 -0.07605 -0.00023 C -0.08612 -0.00903 -0.09619 -0.01111 -0.10782 -0.01366 C -0.1106 -0.01435 -0.11337 -0.01482 -0.11632 -0.01574 C -0.11945 -0.0169 -0.12605 -0.02037 -0.12605 -0.02014 C -0.13056 -0.02593 -0.13264 -0.03125 -0.13785 -0.03588 C -0.1448 -0.05 -0.15191 -0.05718 -0.16441 -0.06019 C -0.17223 -0.06204 -0.18004 -0.0632 -0.18785 -0.06482 C -0.19115 -0.06551 -0.19775 -0.0669 -0.19775 -0.06667 C -0.20608 -0.0706 -0.21441 -0.07454 -0.22292 -0.07801 C -0.26164 -0.07732 -0.30573 -0.09977 -0.33941 -0.07361 C -0.34549 -0.06898 -0.34757 -0.06574 -0.35452 -0.0625 C -0.35955 -0.05232 -0.3658 -0.05208 -0.37448 -0.04908 C -0.38594 -0.03889 -0.38056 -0.0419 -0.38941 -0.03796 C -0.41407 0.01065 -0.49428 -0.02246 -0.53941 -0.02246 E">
                                      <p:cBhvr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4712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9785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ПРОВЕРЬ  СЕБЯ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632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Шёл, дошёл, пришёл, подошёл, обошёл, нашёл, зашёл,  вошёл,  вышел,  перешёл, прошёл,  ушёл.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lady_news_anchor_md_wht"/>
          <p:cNvPicPr/>
          <p:nvPr/>
        </p:nvPicPr>
        <p:blipFill>
          <a:blip r:embed="rId1"/>
          <a:stretch/>
        </p:blipFill>
        <p:spPr>
          <a:xfrm>
            <a:off x="6516720" y="4653000"/>
            <a:ext cx="2305080" cy="1876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1557360"/>
            <a:ext cx="8232840" cy="375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Какие части слова  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участвуют в  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образовании новых слов?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240" y="1773360"/>
            <a:ext cx="9182880" cy="228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Проведите исследов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и назовите, какие орфограм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встречаются в глаголах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4000" y="476280"/>
            <a:ext cx="86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050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0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мотр..м, стрич.., 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не)торопиш..ся, молч..,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л..ёт, стор..ж..ть, крич..ть,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(за)пиш..ш.., прогулят..ся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3:35:13Z</dcterms:created>
  <dc:creator>user</dc:creator>
  <dc:description/>
  <dc:language>en-US</dc:language>
  <cp:lastModifiedBy>User</cp:lastModifiedBy>
  <dcterms:modified xsi:type="dcterms:W3CDTF">2016-03-10T20:23:31Z</dcterms:modified>
  <cp:revision>79</cp:revision>
  <dc:subject/>
  <dc:title>Презентация PowerPoint</dc:title>
</cp:coreProperties>
</file>