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3.png" ContentType="image/png"/>
  <Override PartName="/ppt/media/image22.png" ContentType="image/png"/>
  <Override PartName="/ppt/media/image15.png" ContentType="image/png"/>
  <Override PartName="/ppt/media/image24.jpeg" ContentType="image/jpe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37B-1ED3-4C94-B031-42955A98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EC4-3BC4-4DD7-B2FD-99530AAE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79C-91DD-46B2-92B6-EE041CC3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E18-8D87-4E55-BC3B-FEB70AE5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99EF-F6F4-49A0-9E0A-137C9854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BAE1-2138-4FA3-92F6-08C625A8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D0F1-DE2D-4A4C-AAEC-56074DD1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1A0A-823F-4502-AD85-22F16F8B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57FF-BA08-4FC7-9F03-F6026ADA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818D-7CF6-4286-A025-093CCCD3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A806-8102-4104-AB78-83974D31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F6C-2F92-4ADB-A229-86B9A235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BA5E-8522-422C-A2FF-3A62E998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654D-9A6B-49DF-BE85-47C539A0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DC54-A1B4-41D6-8C6F-C7003AAD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61CF-1252-4B18-A0F9-C4542A00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FE99-6A6E-4F22-A54B-5C548045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E199D-D964-4FCA-8E97-4EB56996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2BAF-F584-4EE5-80E3-809FAFFC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87452-56E4-42A8-938E-E7653BF5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6C91-6DDC-4A20-8389-D0A6F36F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5B4F6-0225-4CEB-8AC0-A2F4CF5F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E1B-A999-4E78-98AE-A9CE7A86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1F8BE-DBC2-4675-9B63-41A34113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50D5-3D6F-4E0D-BFF3-33ACDCB4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CF170-A2CF-4BD0-86DF-4B5ED5EE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822C-BB24-4D0A-84BF-F7C275F5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083F-59E3-4433-ADB4-EDAD9CDB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9109-46A3-4ABA-A8C8-F05B6F00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50E7E-07A9-49AF-BEAC-422F72B8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B164F-60AE-4A02-8DFB-21A8E7CC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6F4E-E105-4CA4-8035-3F16B09F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7FA67-33D6-4FCD-993F-02925919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C97-D8EE-4115-A045-7D714B7F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FC80-A07E-4270-B0BD-CA952D8A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D3AB-8F68-481B-AA55-922F3F22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10316-5739-448A-850F-42FE07FF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C4C9-27B2-4D4F-8B90-57A8F87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5CB36-F3E8-4971-A69E-06DB2DEF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D4AAB-4B7B-4E58-9D9D-6AD3EEDA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D227-4E28-4E31-8C46-A275961F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C76A1-D15E-4009-AACF-179F40B3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4D0E7-EEAC-4B4C-800E-6EB1E892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5EA-1A8B-405A-B2E6-2EE35F20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F33-406B-4FD1-82EC-08832778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D6E-336C-4592-AFCB-E091F225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440-57F3-436D-9457-060EC2DB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55E-17D1-41C6-AD73-50526CD7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11D2-636F-4FDA-BB75-7F75B405CC8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5248-C8FC-4322-9CE0-B3E396D10EA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ECF6-E9F7-48CB-89C3-64D779DDFBC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A935-0219-4B53-B0F9-DFD28A27462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5120" y="836640"/>
            <a:ext cx="77040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«Воспитание нравственных качеств детей дошкольного возраста по средством русских народных сказок».</a:t>
            </a:r>
            <a:br>
              <a:rPr sz="3200"/>
            </a:br>
            <a:r>
              <a:rPr b="0" i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дготовил: воспитатель </a:t>
            </a:r>
            <a:br>
              <a:rPr sz="2000"/>
            </a:br>
            <a:r>
              <a:rPr b="0" i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едосова Ю.В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Содержимое 3" descr="руск сказк.jpg"/>
          <p:cNvPicPr/>
          <p:nvPr/>
        </p:nvPicPr>
        <p:blipFill>
          <a:blip r:embed="rId1"/>
          <a:stretch/>
        </p:blipFill>
        <p:spPr>
          <a:xfrm>
            <a:off x="0" y="2786040"/>
            <a:ext cx="2946240" cy="40719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" descr="руск сказ 2.jpg"/>
          <p:cNvPicPr/>
          <p:nvPr/>
        </p:nvPicPr>
        <p:blipFill>
          <a:blip r:embed="rId2"/>
          <a:stretch/>
        </p:blipFill>
        <p:spPr>
          <a:xfrm>
            <a:off x="2944800" y="2786040"/>
            <a:ext cx="3286080" cy="40719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5" descr="руск сказк 3.jpg"/>
          <p:cNvPicPr/>
          <p:nvPr/>
        </p:nvPicPr>
        <p:blipFill>
          <a:blip r:embed="rId3"/>
          <a:stretch/>
        </p:blipFill>
        <p:spPr>
          <a:xfrm>
            <a:off x="6245280" y="2778120"/>
            <a:ext cx="292896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лан рабо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ая работа: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дборка и изучение методической литературы;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Изучение проблем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работа: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одбор дидактических игр;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Составление перспективного плана;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Работа с родителями. (Консультации, памятки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41432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бота с детьм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0" y="1143000"/>
            <a:ext cx="3643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дактические игры, </a:t>
            </a:r>
            <a:br>
              <a:rPr sz="3200"/>
            </a:br>
            <a:r>
              <a:rPr b="0" i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альчиковые игры,</a:t>
            </a:r>
            <a:br>
              <a:rPr sz="3200"/>
            </a:br>
            <a:r>
              <a:rPr b="0" i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альчиковый театр,</a:t>
            </a:r>
            <a:br>
              <a:rPr sz="3200"/>
            </a:br>
            <a:r>
              <a:rPr b="0" i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настольный театр, кукольный театр,</a:t>
            </a:r>
            <a:br>
              <a:rPr sz="3200"/>
            </a:br>
            <a:r>
              <a:rPr b="0" i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самостоятельная  деятельнос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Объект 5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275440" cy="3957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2640" y="571320"/>
            <a:ext cx="718668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чтение худ. литературы, худ. творчест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Рисунок 2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51640" cy="5588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спитание сказкой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Облако 3" descr=""/>
          <p:cNvPicPr/>
          <p:nvPr/>
        </p:nvPicPr>
        <p:blipFill>
          <a:blip r:embed="rId1"/>
          <a:stretch/>
        </p:blipFill>
        <p:spPr>
          <a:xfrm>
            <a:off x="-19080" y="1633680"/>
            <a:ext cx="3749760" cy="1384200"/>
          </a:xfrm>
          <a:prstGeom prst="rect">
            <a:avLst/>
          </a:prstGeom>
          <a:ln w="0">
            <a:noFill/>
          </a:ln>
        </p:spPr>
      </p:pic>
      <p:sp>
        <p:nvSpPr>
          <p:cNvPr id="233" name="Облако 4"/>
          <p:cNvSpPr/>
          <p:nvPr/>
        </p:nvSpPr>
        <p:spPr>
          <a:xfrm>
            <a:off x="2214720" y="2857680"/>
            <a:ext cx="4000320" cy="13572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др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блако 5"/>
          <p:cNvSpPr/>
          <p:nvPr/>
        </p:nvSpPr>
        <p:spPr>
          <a:xfrm>
            <a:off x="4429080" y="3857760"/>
            <a:ext cx="4714920" cy="150012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блако 6"/>
          <p:cNvSpPr/>
          <p:nvPr/>
        </p:nvSpPr>
        <p:spPr>
          <a:xfrm>
            <a:off x="214200" y="4214880"/>
            <a:ext cx="3643560" cy="121428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блако 7"/>
          <p:cNvSpPr/>
          <p:nvPr/>
        </p:nvSpPr>
        <p:spPr>
          <a:xfrm>
            <a:off x="4643280" y="1428840"/>
            <a:ext cx="4071960" cy="1571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ж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500040" y="550080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Ребенок, воспитанный на русских народных сказках, никогда не будет трудновоспитуем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Содержимое 2" descr=""/>
          <p:cNvPicPr/>
          <p:nvPr/>
        </p:nvPicPr>
        <p:blipFill>
          <a:blip r:embed="rId1"/>
          <a:stretch/>
        </p:blipFill>
        <p:spPr>
          <a:xfrm>
            <a:off x="426960" y="1712880"/>
            <a:ext cx="822960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настоящее время мы все чаще наблюдаем примеры детской жестокости, агрессивности по отношению  друг другу, по отношению к близким людям. Под влиянием далеко не нравственных мультфильмов у детей искажены представления о нравственных качествах: о доброте, милосердие, справедливости. С рождения ребенок нацелен на идеал хорошего, поэтому считают, что уже с младшего дошкольного возраста необходимо показать малышу нравственную суть каждого поступ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000080"/>
            <a:ext cx="328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Чтобы сказки не обидеть –</a:t>
            </a:r>
            <a:br>
              <a:rPr sz="2400"/>
            </a:br>
            <a:r>
              <a:rPr b="0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Надо их почаще видеть.</a:t>
            </a:r>
            <a:br>
              <a:rPr sz="2400"/>
            </a:br>
            <a:r>
              <a:rPr b="0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Их читать и рисовать,</a:t>
            </a:r>
            <a:br>
              <a:rPr sz="2400"/>
            </a:br>
            <a:r>
              <a:rPr b="0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Их любить и в них играть!</a:t>
            </a:r>
            <a:br>
              <a:rPr sz="2400"/>
            </a:br>
            <a:r>
              <a:rPr b="0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Сказки всех отучат злиться,</a:t>
            </a:r>
            <a:br>
              <a:rPr sz="2400"/>
            </a:br>
            <a:r>
              <a:rPr b="0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 научат веселиться,</a:t>
            </a:r>
            <a:br>
              <a:rPr sz="2400"/>
            </a:br>
            <a:r>
              <a:rPr b="0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Быть добрее и скромнее,</a:t>
            </a:r>
            <a:br>
              <a:rPr sz="2400"/>
            </a:br>
            <a:r>
              <a:rPr b="0" i="1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рпеливее, мудрее</a:t>
            </a:r>
            <a:r>
              <a:rPr b="0" i="1" lang="ru-RU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Объект 4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37192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звить и воспитать в душе каждого ребенка духовное начало, чувство, чтобы он не вырос бездушным, равнодушным человеко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здать необходимые условия для знакомства детей с русскими народными сказк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ть представление о добре и зле, показать красоту добрых поступков и их необходимость в жизни люд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вать умение сравнивать и анализировать поступки сказочных героев, учить  давать оценку своему и других поведени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итывать бережное отношение к книг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ить правилам пользования книг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мочь родителям понять ценность сказки, ее особую роль в воспитании детей дошкольного обра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51865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казка</a:t>
            </a: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то могучее, действенное средство в нравственном воспитании детей</a:t>
            </a: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Рисунок 3" descr="важно.jpg"/>
          <p:cNvPicPr/>
          <p:nvPr/>
        </p:nvPicPr>
        <p:blipFill>
          <a:blip r:embed="rId1"/>
          <a:stretch/>
        </p:blipFill>
        <p:spPr>
          <a:xfrm>
            <a:off x="5857920" y="1143000"/>
            <a:ext cx="2857320" cy="488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4" descr=""/>
          <p:cNvPicPr/>
          <p:nvPr/>
        </p:nvPicPr>
        <p:blipFill>
          <a:blip r:embed="rId1"/>
          <a:stretch/>
        </p:blipFill>
        <p:spPr>
          <a:xfrm>
            <a:off x="182520" y="328680"/>
            <a:ext cx="774864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357120" y="1928880"/>
          <a:ext cx="8229600" cy="3697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 ска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о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Волк и семеро козлят», «Заюшкина избуш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беда добра над з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Теремок», «Зимовье звере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ружба помогает победить тру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Реп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удолюбие, взаимопомощ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Гуси-лебеди», «Сестрица Аленушка и братец Иванушка», «Маша и медвед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каз слушаться стар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Петушок и бобовое зернышк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бота о ближн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Методы и при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Облако 8" descr=""/>
          <p:cNvPicPr/>
          <p:nvPr/>
        </p:nvPicPr>
        <p:blipFill>
          <a:blip r:embed="rId1"/>
          <a:stretch/>
        </p:blipFill>
        <p:spPr>
          <a:xfrm>
            <a:off x="-79200" y="1249200"/>
            <a:ext cx="2803320" cy="1371600"/>
          </a:xfrm>
          <a:prstGeom prst="rect">
            <a:avLst/>
          </a:prstGeom>
          <a:ln w="0">
            <a:noFill/>
          </a:ln>
        </p:spPr>
      </p:pic>
      <p:pic>
        <p:nvPicPr>
          <p:cNvPr id="213" name="Облако 15" descr=""/>
          <p:cNvPicPr/>
          <p:nvPr/>
        </p:nvPicPr>
        <p:blipFill>
          <a:blip r:embed="rId2"/>
          <a:stretch/>
        </p:blipFill>
        <p:spPr>
          <a:xfrm>
            <a:off x="2279520" y="1322280"/>
            <a:ext cx="3872160" cy="1586160"/>
          </a:xfrm>
          <a:prstGeom prst="rect">
            <a:avLst/>
          </a:prstGeom>
          <a:ln w="0">
            <a:noFill/>
          </a:ln>
        </p:spPr>
      </p:pic>
      <p:pic>
        <p:nvPicPr>
          <p:cNvPr id="214" name="Облако 16" descr=""/>
          <p:cNvPicPr/>
          <p:nvPr/>
        </p:nvPicPr>
        <p:blipFill>
          <a:blip r:embed="rId3"/>
          <a:stretch/>
        </p:blipFill>
        <p:spPr>
          <a:xfrm>
            <a:off x="5492880" y="1176480"/>
            <a:ext cx="3730320" cy="1444320"/>
          </a:xfrm>
          <a:prstGeom prst="rect">
            <a:avLst/>
          </a:prstGeom>
          <a:ln w="0">
            <a:noFill/>
          </a:ln>
        </p:spPr>
      </p:pic>
      <p:pic>
        <p:nvPicPr>
          <p:cNvPr id="215" name="Облако 18" descr=""/>
          <p:cNvPicPr/>
          <p:nvPr/>
        </p:nvPicPr>
        <p:blipFill>
          <a:blip r:embed="rId4"/>
          <a:stretch/>
        </p:blipFill>
        <p:spPr>
          <a:xfrm>
            <a:off x="-66600" y="2901960"/>
            <a:ext cx="3279600" cy="1352520"/>
          </a:xfrm>
          <a:prstGeom prst="rect">
            <a:avLst/>
          </a:prstGeom>
          <a:ln w="0">
            <a:noFill/>
          </a:ln>
        </p:spPr>
      </p:pic>
      <p:pic>
        <p:nvPicPr>
          <p:cNvPr id="216" name="Облако 21" descr=""/>
          <p:cNvPicPr/>
          <p:nvPr/>
        </p:nvPicPr>
        <p:blipFill>
          <a:blip r:embed="rId5"/>
          <a:stretch/>
        </p:blipFill>
        <p:spPr>
          <a:xfrm>
            <a:off x="-66600" y="5334120"/>
            <a:ext cx="4346640" cy="1633320"/>
          </a:xfrm>
          <a:prstGeom prst="rect">
            <a:avLst/>
          </a:prstGeom>
          <a:ln w="0">
            <a:noFill/>
          </a:ln>
        </p:spPr>
      </p:pic>
      <p:pic>
        <p:nvPicPr>
          <p:cNvPr id="217" name="Облако 22" descr=""/>
          <p:cNvPicPr/>
          <p:nvPr/>
        </p:nvPicPr>
        <p:blipFill>
          <a:blip r:embed="rId6"/>
          <a:stretch/>
        </p:blipFill>
        <p:spPr>
          <a:xfrm>
            <a:off x="5864400" y="4834080"/>
            <a:ext cx="3346200" cy="1774800"/>
          </a:xfrm>
          <a:prstGeom prst="rect">
            <a:avLst/>
          </a:prstGeom>
          <a:ln w="0">
            <a:noFill/>
          </a:ln>
        </p:spPr>
      </p:pic>
      <p:pic>
        <p:nvPicPr>
          <p:cNvPr id="218" name="Облако 23" descr=""/>
          <p:cNvPicPr/>
          <p:nvPr/>
        </p:nvPicPr>
        <p:blipFill>
          <a:blip r:embed="rId7"/>
          <a:stretch/>
        </p:blipFill>
        <p:spPr>
          <a:xfrm>
            <a:off x="2146320" y="3833640"/>
            <a:ext cx="4565520" cy="1847880"/>
          </a:xfrm>
          <a:prstGeom prst="rect">
            <a:avLst/>
          </a:prstGeom>
          <a:ln w="0">
            <a:noFill/>
          </a:ln>
        </p:spPr>
      </p:pic>
      <p:pic>
        <p:nvPicPr>
          <p:cNvPr id="219" name="Облако 24" descr=""/>
          <p:cNvPicPr/>
          <p:nvPr/>
        </p:nvPicPr>
        <p:blipFill>
          <a:blip r:embed="rId8"/>
          <a:stretch/>
        </p:blipFill>
        <p:spPr>
          <a:xfrm>
            <a:off x="4718160" y="2762280"/>
            <a:ext cx="4206600" cy="1492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5" descr=""/>
          <p:cNvPicPr/>
          <p:nvPr/>
        </p:nvPicPr>
        <p:blipFill>
          <a:blip r:embed="rId1"/>
          <a:stretch/>
        </p:blipFill>
        <p:spPr>
          <a:xfrm>
            <a:off x="0" y="285840"/>
            <a:ext cx="9113760" cy="920520"/>
          </a:xfrm>
          <a:prstGeom prst="rect">
            <a:avLst/>
          </a:prstGeom>
          <a:ln w="0">
            <a:noFill/>
          </a:ln>
        </p:spPr>
      </p:pic>
      <p:pic>
        <p:nvPicPr>
          <p:cNvPr id="221" name="Облако 9" descr=""/>
          <p:cNvPicPr/>
          <p:nvPr/>
        </p:nvPicPr>
        <p:blipFill>
          <a:blip r:embed="rId2"/>
          <a:stretch/>
        </p:blipFill>
        <p:spPr>
          <a:xfrm>
            <a:off x="-79200" y="1103400"/>
            <a:ext cx="4590720" cy="1731960"/>
          </a:xfrm>
          <a:prstGeom prst="rect">
            <a:avLst/>
          </a:prstGeom>
          <a:ln w="0">
            <a:noFill/>
          </a:ln>
        </p:spPr>
      </p:pic>
      <p:pic>
        <p:nvPicPr>
          <p:cNvPr id="222" name="Облако 11" descr=""/>
          <p:cNvPicPr/>
          <p:nvPr/>
        </p:nvPicPr>
        <p:blipFill>
          <a:blip r:embed="rId3"/>
          <a:stretch/>
        </p:blipFill>
        <p:spPr>
          <a:xfrm>
            <a:off x="2494080" y="2610000"/>
            <a:ext cx="4230720" cy="1869840"/>
          </a:xfrm>
          <a:prstGeom prst="rect">
            <a:avLst/>
          </a:prstGeom>
          <a:ln w="0">
            <a:noFill/>
          </a:ln>
        </p:spPr>
      </p:pic>
      <p:pic>
        <p:nvPicPr>
          <p:cNvPr id="223" name="Облако 12" descr=""/>
          <p:cNvPicPr/>
          <p:nvPr/>
        </p:nvPicPr>
        <p:blipFill>
          <a:blip r:embed="rId4"/>
          <a:stretch/>
        </p:blipFill>
        <p:spPr>
          <a:xfrm>
            <a:off x="4780080" y="4535640"/>
            <a:ext cx="4155840" cy="194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8:11:35Z</dcterms:created>
  <dc:creator>5252</dc:creator>
  <dc:description/>
  <dc:language>en-US</dc:language>
  <cp:lastModifiedBy>Сергей Федосов</cp:lastModifiedBy>
  <dcterms:modified xsi:type="dcterms:W3CDTF">2018-01-31T13:16:09Z</dcterms:modified>
  <cp:revision>40</cp:revision>
  <dc:subject/>
  <dc:title>МКДОУ Нововоронежский детский сад №8</dc:title>
</cp:coreProperties>
</file>