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BE3-DDA2-4F7F-BF95-D5A3DFA6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321-8A71-4170-ADF9-1B043EB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A91-F3B4-42F2-B4B4-648A03D3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897-AAF0-4A10-B766-F08E31CA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9FAD-B9C0-43E5-9D99-531EF7D3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4655-F039-43DE-9CAC-1DE6F659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22D-9980-4C3C-8BF6-6E167E2A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943-F3DC-4244-8391-53252AF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FE1-B0E0-45A4-9E4E-0D522EE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4AA6-6437-4285-A03F-B7596BDE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9FFB-E3CE-4C54-BFC8-5C2BC3A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190-2C39-45C5-A7C9-F14F979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C0C3-49B3-43F3-B1F4-72121CA8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301B-B1AA-4D7B-9357-4BEF1F66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747-8829-4C90-975E-A2226AB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68D2-72A9-41D4-AA14-6BE3A247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6389-92A5-49B0-8869-2922D34F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B56-0B89-4F55-8B7D-97C60CF5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A68-D6E5-4406-8D85-85FB9DAB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BEF-8E8A-422B-9010-A53B4061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AB3-E9DA-4C22-A715-F77C13A1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355-0449-4980-BBB6-EECD958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432-BEEE-4E95-B092-7CC837E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1AE-616A-4394-96F6-CA94627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D7B1-7927-476B-86F2-368EBF16D4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A25-B372-483F-B7BE-5C16F0F3B1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Играем с пальчикам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елкой мо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5000" y="358920"/>
            <a:ext cx="5191200" cy="981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74680" y="1868400"/>
            <a:ext cx="3697200" cy="3598920"/>
            <a:chOff x="1174680" y="1868400"/>
            <a:chExt cx="3697200" cy="359892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174680" y="1868400"/>
              <a:ext cx="3697200" cy="35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174680" y="1868400"/>
              <a:ext cx="3697200" cy="35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и толстый карандаш. Положи его на стол. «Прогладь» карандаш сначала одной ладонью, потом другой. Покатай карандаш по столу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 я покачу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Вправо-влево — как хоч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19400" y="358920"/>
            <a:ext cx="5162400" cy="981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и карандаш на одну ладошку, прикрой его другой. Прокатывай карандаш между ладонями сначала медленно, а потом быстрее, от кончиков пальцев к запястьям. А теперь попробуй сделать это сразу с двумя карандашами. Получилось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372960"/>
            <a:ext cx="518184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жимай карандаш, который лежит на столе, кончиком каждого пальца. Прижимай сильнее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64040" y="353880"/>
            <a:ext cx="327312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и короткий карандашик и сожми его в кулачке, спрячь. А теперь спрячь в другой руке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ик я сжимаю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И ладошку поменя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27320" y="358920"/>
            <a:ext cx="514656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щай карандаш на столе двумя пальцами сначала одной руки, а потом другой. Попробуй сделать то же большим и средним пальцам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По столу круги катаю, </a:t>
            </a:r>
            <a:br>
              <a:rPr sz="2400"/>
            </a:b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Карандаш не выпуск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57640" y="306360"/>
            <a:ext cx="3085920" cy="108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 карандаш на тыльную сторону кисти. Наклони руку вниз. Придерживай карандаш другой рукой. Пусть он скатится вниз с твоей руки, как с гор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14720" y="344520"/>
            <a:ext cx="5171760" cy="10094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914400" y="1600200"/>
            <a:ext cx="3814920" cy="4530600"/>
            <a:chOff x="914400" y="1600200"/>
            <a:chExt cx="3814920" cy="45306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381492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914400" y="1600200"/>
              <a:ext cx="381492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2b2b2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 карандаш на край стола. Попробуй поднять его, подцепив снизу одним пальцем. А теперь выполни это упражнение другими пальчиками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арандашик поднимаю, 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Крепко пальцем прижимаю.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277920"/>
            <a:ext cx="77724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и тонкий длинный карандаш тремя пальцами. Покрути его. Пусть он вращается быстро-быстро, как винт вертолёта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Отправляется в полёт</a:t>
            </a:r>
            <a:br>
              <a:rPr sz="2400"/>
            </a:b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Наш красавец-вертол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0-12-02T07:01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