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12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50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41.png" ContentType="image/png"/>
  <Override PartName="/ppt/media/image48.gif" ContentType="image/gif"/>
  <Override PartName="/ppt/media/image54.jpeg" ContentType="image/jpeg"/>
  <Override PartName="/ppt/media/image55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1.gif" ContentType="image/gif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566-3ED6-4A61-98EE-69D9333E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5C4-D4A1-41D2-9963-2497CC71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C2F-F20E-4F47-8DBA-F1E4F47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022-D4E1-446E-B019-46C38F63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828-C520-47F4-BD3F-BF7CC53C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EEC-B88E-4AA4-BA0A-62F1421B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958-0C56-4A10-BCB0-B24B81B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548-ABC3-4F98-8413-7A0B7B4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3AF-8671-46C4-A8D6-53D239B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AE9-0E78-4602-903B-4E8D72D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EE2-4E40-4FD7-AD54-F3A836CF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A88-D453-4D38-957E-BAB7628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FD25-7AA7-4859-991A-8BBEE4F96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gif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ogoportal.ru/razvitie-fonematicheskogo-sluha-u-detey-5-6-let-s-pomoshhyu-igr/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9280" y="1052640"/>
            <a:ext cx="8136000" cy="53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ОБУЧЕНИЕ 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ДЕТЕЙ 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ПРАВИЛЬНОЙ 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Bookman Old Style"/>
              </a:rPr>
              <a:t>РЕЧИ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55268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 Black"/>
              </a:rPr>
              <a:t>РАЗВИТИЕ ФОНЕМАТИЧЕСКОГО ВОСПРИ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и картинки п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034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 Black"/>
              </a:rPr>
              <a:t>РАЗВИТИЕ ФОНЕМАТИЧЕСКОГО ВОСПРИЯТИЯ</a:t>
            </a:r>
            <a:br>
              <a:rPr sz="3500"/>
            </a:br>
            <a:br>
              <a:rPr sz="35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читать слова по первым буквам названий картин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4753080" cy="98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619280" y="4797360"/>
            <a:ext cx="5616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 Black"/>
              </a:rPr>
              <a:t>РАЗВИТИЕ ФОНЕМАТИЧЕСКОГО ВОСПРИ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нести название предметов. Какие из них начинаются на твердые звуки, а какие - на мяг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3816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2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19324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1403280" y="1419120"/>
            <a:ext cx="6553440" cy="36655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7" descr=""/>
          <p:cNvPicPr/>
          <p:nvPr/>
        </p:nvPicPr>
        <p:blipFill>
          <a:blip r:embed="rId3"/>
          <a:stretch/>
        </p:blipFill>
        <p:spPr>
          <a:xfrm>
            <a:off x="506520" y="4602240"/>
            <a:ext cx="89614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7002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акаем как котенок: быстрое выбрасывание и втягивание языка (распластывание я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386028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локочем как индюк: такие же движения с раздуванием щек и включением гол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дготовка к артикуляции звука 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16000" y="170028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граем на губах: упражнение для артикуляции звука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4360" y="189000"/>
            <a:ext cx="792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РТИКУЛЯЦИОННАЯ ГИМНА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10" name="Picture 18" descr="Изображение 041_новый размер"/>
          <p:cNvPicPr/>
          <p:nvPr/>
        </p:nvPicPr>
        <p:blipFill>
          <a:blip r:embed="rId1"/>
          <a:stretch/>
        </p:blipFill>
        <p:spPr>
          <a:xfrm>
            <a:off x="1763640" y="2637000"/>
            <a:ext cx="1408320" cy="1170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0"/>
          <p:cNvSpPr/>
          <p:nvPr/>
        </p:nvSpPr>
        <p:spPr>
          <a:xfrm>
            <a:off x="4716360" y="4149720"/>
            <a:ext cx="44276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цокаем как лошадки: прищелкивание язы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дготовка для артикуляции звука 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1" descr=""/>
          <p:cNvPicPr/>
          <p:nvPr/>
        </p:nvPicPr>
        <p:blipFill>
          <a:blip r:embed="rId2"/>
          <a:stretch/>
        </p:blipFill>
        <p:spPr>
          <a:xfrm>
            <a:off x="1619280" y="5300640"/>
            <a:ext cx="1440000" cy="126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158436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"/>
          <p:cNvPicPr/>
          <p:nvPr/>
        </p:nvPicPr>
        <p:blipFill>
          <a:blip r:embed="rId4"/>
          <a:stretch/>
        </p:blipFill>
        <p:spPr>
          <a:xfrm>
            <a:off x="5796000" y="5157720"/>
            <a:ext cx="187164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"/>
              </a:rPr>
              <a:t>КАРТОЧКИ - 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360" y="1628280"/>
            <a:ext cx="404316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Вкусное варень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ь 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им язы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орме «чашеч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изать верхнюю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у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227664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Месим тесто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шлепать язы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 губами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я-пя-пя-пя-пя... 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усать конч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ка зуб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довать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 движ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1164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Гармошк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делать «грибоче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т. е. присосать широ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к к нёб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отрывая язы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вать и закры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т (зубы не смык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9" descr="http://www.novgorod.fio.ru/projects/Project1201/15a.jpg"/>
          <p:cNvPicPr/>
          <p:nvPr/>
        </p:nvPicPr>
        <p:blipFill>
          <a:blip r:embed="rId1"/>
          <a:stretch/>
        </p:blipFill>
        <p:spPr>
          <a:xfrm>
            <a:off x="6948360" y="2060640"/>
            <a:ext cx="1729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1" descr="http://www.novgorod.fio.ru/projects/Project1201/13a.jpg"/>
          <p:cNvPicPr/>
          <p:nvPr/>
        </p:nvPicPr>
        <p:blipFill>
          <a:blip r:embed="rId2"/>
          <a:stretch/>
        </p:blipFill>
        <p:spPr>
          <a:xfrm>
            <a:off x="7020000" y="4797360"/>
            <a:ext cx="1771560" cy="1478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3" descr="http://www.novgorod.fio.ru/projects/Project1201/16a.jpg"/>
          <p:cNvPicPr/>
          <p:nvPr/>
        </p:nvPicPr>
        <p:blipFill>
          <a:blip r:embed="rId3"/>
          <a:stretch/>
        </p:blipFill>
        <p:spPr>
          <a:xfrm>
            <a:off x="2411280" y="3141720"/>
            <a:ext cx="1727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Diagram 18"/>
          <p:cNvGrpSpPr/>
          <p:nvPr/>
        </p:nvGrpSpPr>
        <p:grpSpPr>
          <a:xfrm>
            <a:off x="250920" y="404640"/>
            <a:ext cx="8733960" cy="5917680"/>
            <a:chOff x="250920" y="404640"/>
            <a:chExt cx="8733960" cy="5917680"/>
          </a:xfrm>
        </p:grpSpPr>
        <p:sp>
          <p:nvSpPr>
            <p:cNvPr id="123" name="_s2052"/>
            <p:cNvSpPr/>
            <p:nvPr/>
          </p:nvSpPr>
          <p:spPr>
            <a:xfrm flipV="1">
              <a:off x="4402800" y="1859040"/>
              <a:ext cx="1800" cy="149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3"/>
            <p:cNvSpPr/>
            <p:nvPr/>
          </p:nvSpPr>
          <p:spPr>
            <a:xfrm>
              <a:off x="3125880" y="404640"/>
              <a:ext cx="2751480" cy="14266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навыки звуков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анализа предлож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 сл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4"/>
            <p:cNvSpPr/>
            <p:nvPr/>
          </p:nvSpPr>
          <p:spPr>
            <a:xfrm flipV="1">
              <a:off x="5362200" y="2714040"/>
              <a:ext cx="1198080" cy="857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5"/>
            <p:cNvSpPr/>
            <p:nvPr/>
          </p:nvSpPr>
          <p:spPr>
            <a:xfrm>
              <a:off x="5847480" y="1268640"/>
              <a:ext cx="3113280" cy="1809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обследование реч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и произнош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6"/>
            <p:cNvSpPr/>
            <p:nvPr/>
          </p:nvSpPr>
          <p:spPr>
            <a:xfrm>
              <a:off x="5724000" y="4292640"/>
              <a:ext cx="642240" cy="477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7"/>
            <p:cNvSpPr/>
            <p:nvPr/>
          </p:nvSpPr>
          <p:spPr>
            <a:xfrm>
              <a:off x="5867640" y="4509000"/>
              <a:ext cx="3117240" cy="1807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равиль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артикуля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8"/>
            <p:cNvSpPr/>
            <p:nvPr/>
          </p:nvSpPr>
          <p:spPr>
            <a:xfrm flipH="1">
              <a:off x="2737440" y="4437360"/>
              <a:ext cx="700920" cy="29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250920" y="4512960"/>
              <a:ext cx="3115440" cy="180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закрепление правиль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роизношения 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вободной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0"/>
            <p:cNvSpPr/>
            <p:nvPr/>
          </p:nvSpPr>
          <p:spPr>
            <a:xfrm flipH="1" flipV="1">
              <a:off x="2406240" y="2800080"/>
              <a:ext cx="716760" cy="685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1"/>
            <p:cNvSpPr/>
            <p:nvPr/>
          </p:nvSpPr>
          <p:spPr>
            <a:xfrm>
              <a:off x="250920" y="1342080"/>
              <a:ext cx="3115440" cy="1809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фонематичес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вос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2"/>
            <p:cNvSpPr/>
            <p:nvPr/>
          </p:nvSpPr>
          <p:spPr>
            <a:xfrm>
              <a:off x="2556000" y="3141000"/>
              <a:ext cx="3850920" cy="1426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АБОТА НАД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ЗВУКОПРОИЗНОШЕНИЕ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азка о веселом язы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Жил-был Веселый Язычок в своем домике. Догадайся, что это за доми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В домике этом красные двер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Рядом с дверями белые звери.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Любят зверюшки конфеты и плюш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огадались? Это домик-ро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оснулся Язычок рано утр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ткрыл окошк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мотрел налево, направо. (При открытом рте движения языка направо - налево). Вниз посмотрел: нет ли луж?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движение  языка вниз). Вверх посмотрел: светит ли солнышк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движение языка вверх). Вышел Язычок на крыльцо дома. Вокруг дома длинный забо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от такой!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лыбнуться, с напряжением обнажив сомкнутые губы). Посмотрел                             он вокруг.                          Увидел Язычок, как кошк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губы в улыбке, рот открыт, кончик языка упирается в нижние зубы, язык горкой, упираясь кончиком языка в нижние зубы) ловит мышку за хвости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губы в улыбке, приоткрыть рот, произнести «а-а» и прикусить широкий кончик языка). Вернулся Язычок домой, посмотрел на часы, они тикали: «тик-так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рот открыт, губы в улыбке, кончиком языка дотрагиваемся до уголков рта).                         Котенок свернулся клубочк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Пора и мне спать», - подумал Язычо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1" descr="http://www.novgorod.fio.ru/projects/Project1201/31.gif"/>
          <p:cNvPicPr/>
          <p:nvPr/>
        </p:nvPicPr>
        <p:blipFill>
          <a:blip r:embed="rId1"/>
          <a:stretch/>
        </p:blipFill>
        <p:spPr>
          <a:xfrm>
            <a:off x="3564000" y="1989000"/>
            <a:ext cx="723960" cy="847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2" descr="http://www.novgorod.fio.ru/projects/Project1201/32.gif"/>
          <p:cNvPicPr/>
          <p:nvPr/>
        </p:nvPicPr>
        <p:blipFill>
          <a:blip r:embed="rId2"/>
          <a:stretch/>
        </p:blipFill>
        <p:spPr>
          <a:xfrm>
            <a:off x="6012000" y="2060640"/>
            <a:ext cx="799920" cy="657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3" descr="http://www.novgorod.fio.ru/projects/Project1201/lu.gif"/>
          <p:cNvPicPr/>
          <p:nvPr/>
        </p:nvPicPr>
        <p:blipFill>
          <a:blip r:embed="rId3"/>
          <a:stretch/>
        </p:blipFill>
        <p:spPr>
          <a:xfrm>
            <a:off x="755640" y="3141720"/>
            <a:ext cx="905040" cy="419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4" descr="http://www.novgorod.fio.ru/projects/Project1201/33.gif"/>
          <p:cNvPicPr/>
          <p:nvPr/>
        </p:nvPicPr>
        <p:blipFill>
          <a:blip r:embed="rId4"/>
          <a:stretch/>
        </p:blipFill>
        <p:spPr>
          <a:xfrm>
            <a:off x="7885080" y="2997360"/>
            <a:ext cx="92412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5" descr="http://www.novgorod.fio.ru/projects/Project1201/sa.gif"/>
          <p:cNvPicPr/>
          <p:nvPr/>
        </p:nvPicPr>
        <p:blipFill>
          <a:blip r:embed="rId5"/>
          <a:stretch/>
        </p:blipFill>
        <p:spPr>
          <a:xfrm>
            <a:off x="1332000" y="4005360"/>
            <a:ext cx="1066680" cy="809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6" descr="http://www.novgorod.fio.ru/projects/Project1201/cat2.gif"/>
          <p:cNvPicPr/>
          <p:nvPr/>
        </p:nvPicPr>
        <p:blipFill>
          <a:blip r:embed="rId6"/>
          <a:stretch/>
        </p:blipFill>
        <p:spPr>
          <a:xfrm>
            <a:off x="5796000" y="4581360"/>
            <a:ext cx="809640" cy="3906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7" descr="http://www.novgorod.fio.ru/projects/Project1201/ma.gif"/>
          <p:cNvPicPr/>
          <p:nvPr/>
        </p:nvPicPr>
        <p:blipFill>
          <a:blip r:embed="rId7"/>
          <a:stretch/>
        </p:blipFill>
        <p:spPr>
          <a:xfrm>
            <a:off x="4572000" y="5013360"/>
            <a:ext cx="619200" cy="3142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8" descr="http://www.novgorod.fio.ru/projects/Project1201/wa.gif"/>
          <p:cNvPicPr/>
          <p:nvPr/>
        </p:nvPicPr>
        <p:blipFill>
          <a:blip r:embed="rId8"/>
          <a:stretch/>
        </p:blipFill>
        <p:spPr>
          <a:xfrm>
            <a:off x="4500720" y="5516640"/>
            <a:ext cx="485640" cy="5713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9" descr="http://www.novgorod.fio.ru/projects/Project1201/cat1.gif"/>
          <p:cNvPicPr/>
          <p:nvPr/>
        </p:nvPicPr>
        <p:blipFill>
          <a:blip r:embed="rId9"/>
          <a:stretch/>
        </p:blipFill>
        <p:spPr>
          <a:xfrm>
            <a:off x="8244000" y="5734080"/>
            <a:ext cx="695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ПЕСЕНКИ ВЕСЕЛОГО ЯЗЫ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«ЖУК ЖУЖЖИТ»                              «САМОЛЕТ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при постановке звука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)                                                    (при постановке звука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«СЕРДИТЫЙ ГУСЬ»             «ПЕСЕНКА КОМАР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при постановке звука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)                                                 (при постановке звука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71640" y="4869000"/>
            <a:ext cx="2087640" cy="1554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372360" y="2421000"/>
            <a:ext cx="1942920" cy="13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2016360" cy="143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6012000" y="4797360"/>
            <a:ext cx="2160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goportal.ru/razvitie-fonematicheskogo-sluha-u-detey-5-6-let-s-pomoshhyu-igr/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56468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802320" cy="2332080"/>
          </a:xfrm>
          <a:prstGeom prst="rect">
            <a:avLst/>
          </a:prstGeom>
          <a:ln w="0">
            <a:noFill/>
          </a:ln>
        </p:spPr>
      </p:pic>
      <p:grpSp>
        <p:nvGrpSpPr>
          <p:cNvPr id="46" name="TextBox 5"/>
          <p:cNvGrpSpPr/>
          <p:nvPr/>
        </p:nvGrpSpPr>
        <p:grpSpPr>
          <a:xfrm>
            <a:off x="-165240" y="2273400"/>
            <a:ext cx="4932360" cy="1927080"/>
            <a:chOff x="-165240" y="2273400"/>
            <a:chExt cx="4932360" cy="1927080"/>
          </a:xfrm>
        </p:grpSpPr>
        <p:pic>
          <p:nvPicPr>
            <p:cNvPr id="47" name="TextBox 5" descr=""/>
            <p:cNvPicPr/>
            <p:nvPr/>
          </p:nvPicPr>
          <p:blipFill>
            <a:blip r:embed="rId3"/>
            <a:stretch/>
          </p:blipFill>
          <p:spPr>
            <a:xfrm>
              <a:off x="-165240" y="2273400"/>
              <a:ext cx="49323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8000" y="2494080"/>
              <a:ext cx="439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«Сказка о весёлом язычк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Box 6"/>
          <p:cNvSpPr/>
          <p:nvPr/>
        </p:nvSpPr>
        <p:spPr>
          <a:xfrm>
            <a:off x="611280" y="455292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73"/>
                </a:solidFill>
                <a:latin typeface="Arial"/>
              </a:rPr>
              <a:t>В ней говорится о важности развития фонематического слуха и фонематического восприятия у детей старшего дошкольного возраста с любым уровнем речевого развития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Organization Chart 14"/>
          <p:cNvGrpSpPr/>
          <p:nvPr/>
        </p:nvGrpSpPr>
        <p:grpSpPr>
          <a:xfrm>
            <a:off x="468360" y="549360"/>
            <a:ext cx="8208000" cy="5493960"/>
            <a:chOff x="468360" y="549360"/>
            <a:chExt cx="8208000" cy="5493960"/>
          </a:xfrm>
        </p:grpSpPr>
        <p:cxnSp>
          <p:nvCxnSpPr>
            <p:cNvPr id="51" name="_s1028"/>
            <p:cNvCxnSpPr>
              <a:stCxn id="52" idx="1"/>
              <a:endCxn id="53" idx="2"/>
            </p:cNvCxnSpPr>
            <p:nvPr/>
          </p:nvCxnSpPr>
          <p:spPr>
            <a:xfrm rot="10800000">
              <a:off x="2930040" y="1333440"/>
              <a:ext cx="821520" cy="1962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4" name="_s1029"/>
            <p:cNvCxnSpPr>
              <a:stCxn id="55" idx="1"/>
              <a:endCxn id="53" idx="2"/>
            </p:cNvCxnSpPr>
            <p:nvPr/>
          </p:nvCxnSpPr>
          <p:spPr>
            <a:xfrm rot="10800000">
              <a:off x="2930040" y="1333440"/>
              <a:ext cx="821520" cy="4317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6" name="_s1030"/>
            <p:cNvCxnSpPr>
              <a:stCxn id="57" idx="1"/>
              <a:endCxn id="53" idx="2"/>
            </p:cNvCxnSpPr>
            <p:nvPr/>
          </p:nvCxnSpPr>
          <p:spPr>
            <a:xfrm rot="10800000">
              <a:off x="2930040" y="1333440"/>
              <a:ext cx="821520" cy="3139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8" name="_s1031"/>
            <p:cNvCxnSpPr>
              <a:stCxn id="59" idx="1"/>
              <a:endCxn id="53" idx="2"/>
            </p:cNvCxnSpPr>
            <p:nvPr/>
          </p:nvCxnSpPr>
          <p:spPr>
            <a:xfrm rot="10800000">
              <a:off x="2930040" y="1333440"/>
              <a:ext cx="821520" cy="785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3" name="_s1032"/>
            <p:cNvSpPr/>
            <p:nvPr/>
          </p:nvSpPr>
          <p:spPr>
            <a:xfrm>
              <a:off x="468360" y="549360"/>
              <a:ext cx="4924800" cy="784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500" spc="-1" strike="noStrike">
                  <a:solidFill>
                    <a:srgbClr val="000000"/>
                  </a:solidFill>
                  <a:latin typeface="Times New Roman"/>
                </a:rPr>
                <a:t>РАЗВИТИЕ РЕЧИ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3"/>
            <p:cNvSpPr/>
            <p:nvPr/>
          </p:nvSpPr>
          <p:spPr>
            <a:xfrm>
              <a:off x="3751560" y="1832760"/>
              <a:ext cx="4924800" cy="784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ПОПОЛНЕНИЕ СЛОВАР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4"/>
            <p:cNvSpPr/>
            <p:nvPr/>
          </p:nvSpPr>
          <p:spPr>
            <a:xfrm>
              <a:off x="3751560" y="4080960"/>
              <a:ext cx="4924800" cy="784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УСВО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ГРАММАТИЧЕСКОГО СТРОЯ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5"/>
            <p:cNvSpPr/>
            <p:nvPr/>
          </p:nvSpPr>
          <p:spPr>
            <a:xfrm>
              <a:off x="3751560" y="5258520"/>
              <a:ext cx="4924800" cy="784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ВЫРАБОТКА ПРАВИЛЬ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ПРОИЗНОШЕНИЯ ЗВУ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6"/>
            <p:cNvSpPr/>
            <p:nvPr/>
          </p:nvSpPr>
          <p:spPr>
            <a:xfrm>
              <a:off x="3751560" y="2903760"/>
              <a:ext cx="4924800" cy="784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ОБУЧЕНИЕ РАССКАЗЫВАН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1042920" y="549360"/>
            <a:ext cx="7201080" cy="2232000"/>
          </a:xfrm>
          <a:prstGeom prst="downArrowCallout">
            <a:avLst>
              <a:gd name="adj1" fmla="val 80157"/>
              <a:gd name="adj2" fmla="val 80149"/>
              <a:gd name="adj3" fmla="val 16667"/>
              <a:gd name="adj4" fmla="val 66667"/>
            </a:avLst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НЕМАТИЧЕСКОЕ В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763640" y="3357720"/>
            <a:ext cx="6048360" cy="1655640"/>
          </a:xfrm>
          <a:prstGeom prst="flowChartProcess">
            <a:avLst/>
          </a:prstGeom>
          <a:solidFill>
            <a:srgbClr val="ffff99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ВОСПРИНИ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ЛУХ И ТОЧНО ДИФФЕРЕНЦ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ЗВУКИ РЕЧ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Е ПО ЗВУЧ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«Кто что слышит?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детям предлагается закрыть глаза и прислушаться к звукам и шумам, доносящимся с улицы или из корид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«Что я делаю?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дети с закрытыми глазами по характерным звукам и стукам определяют действие, производимое воспитател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«Кто тебя позвал?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детей просят закрыть глаза и определить по голосу, кто назвал его им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«Угадай, на чем играют?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детей знакомят со звучащими игрушками, затем дети по очереди отворачиваются и угадывают, какая игрушка звучи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РАЗВИТИЕ СЛУХОВОГО ВНИМА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Rockwell Extra Bold"/>
              </a:rPr>
              <a:t>РАБОТА ПО РАЗВИТИЮ ФОНЕМАТИЧЕСКОГО ВОСПРИ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468360" y="1268280"/>
            <a:ext cx="2808360" cy="1800360"/>
          </a:xfrm>
          <a:prstGeom prst="cloudCallout">
            <a:avLst>
              <a:gd name="adj1" fmla="val 139879"/>
              <a:gd name="adj2" fmla="val 78041"/>
            </a:avLst>
          </a:prstGeom>
          <a:solidFill>
            <a:srgbClr val="99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 Знакомство с изолированным звуком, связанным с конкретным обр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4284720" y="5013360"/>
            <a:ext cx="2592360" cy="1341360"/>
          </a:xfrm>
          <a:prstGeom prst="cloudCallout">
            <a:avLst>
              <a:gd name="adj1" fmla="val 169597"/>
              <a:gd name="adj2" fmla="val 152013"/>
            </a:avLst>
          </a:prstGeom>
          <a:solidFill>
            <a:srgbClr val="99cc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 Придумывание слов на определенный зву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611280" y="3429000"/>
            <a:ext cx="3024000" cy="792000"/>
          </a:xfrm>
          <a:prstGeom prst="cloudCallout">
            <a:avLst>
              <a:gd name="adj1" fmla="val 156087"/>
              <a:gd name="adj2" fmla="val -222745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 Узнавание звука в сло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5940360" y="4149720"/>
            <a:ext cx="3024360" cy="863640"/>
          </a:xfrm>
          <a:prstGeom prst="cloudCallout">
            <a:avLst>
              <a:gd name="adj1" fmla="val -45120"/>
              <a:gd name="adj2" fmla="val -266912"/>
            </a:avLst>
          </a:prstGeom>
          <a:solidFill>
            <a:srgbClr val="99cc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 Определение места звука в слов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539640" y="4869000"/>
            <a:ext cx="3024360" cy="1800000"/>
          </a:xfrm>
          <a:prstGeom prst="cloudCallout">
            <a:avLst>
              <a:gd name="adj1" fmla="val 131101"/>
              <a:gd name="adj2" fmla="val -101939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 Различение на слух в словах звуков, близких по звучанию или артикуля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5651640" y="1341360"/>
            <a:ext cx="3024000" cy="1800360"/>
          </a:xfrm>
          <a:prstGeom prst="cloudCallout">
            <a:avLst>
              <a:gd name="adj1" fmla="val -46222"/>
              <a:gd name="adj2" fmla="val 106083"/>
            </a:avLst>
          </a:prstGeom>
          <a:solidFill>
            <a:srgbClr val="99cc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 Различение изолированных звуков, связанных с конкретным обр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 Black"/>
              </a:rPr>
              <a:t>РАЗВИТИЕ ФОНЕМАТИЧЕСКОГО ВОСПРИ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йди место звука в слов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1942920" cy="30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2952720" cy="172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087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 Black"/>
              </a:rPr>
              <a:t>РАЗВИТИЕ ФОНЕМАТИЧЕСКОГО ВОСПРИ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бери слово к схем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1871640" cy="120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1663560" cy="125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5940360" y="5516640"/>
            <a:ext cx="1728720" cy="117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7885080" y="5516640"/>
            <a:ext cx="1081080" cy="115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5"/>
          <a:stretch/>
        </p:blipFill>
        <p:spPr>
          <a:xfrm>
            <a:off x="4427640" y="5516640"/>
            <a:ext cx="1224000" cy="118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6"/>
          <a:stretch/>
        </p:blipFill>
        <p:spPr>
          <a:xfrm>
            <a:off x="2771640" y="5516640"/>
            <a:ext cx="136872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7"/>
          <a:stretch/>
        </p:blipFill>
        <p:spPr>
          <a:xfrm>
            <a:off x="4500720" y="4149720"/>
            <a:ext cx="1366560" cy="1139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8"/>
          <a:stretch/>
        </p:blipFill>
        <p:spPr>
          <a:xfrm>
            <a:off x="7812000" y="4149720"/>
            <a:ext cx="1087560" cy="111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9"/>
          <a:stretch/>
        </p:blipFill>
        <p:spPr>
          <a:xfrm>
            <a:off x="179280" y="5516640"/>
            <a:ext cx="2232000" cy="116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10"/>
          <a:stretch/>
        </p:blipFill>
        <p:spPr>
          <a:xfrm>
            <a:off x="6084720" y="4076640"/>
            <a:ext cx="1440000" cy="1179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11"/>
          <a:stretch/>
        </p:blipFill>
        <p:spPr>
          <a:xfrm>
            <a:off x="6227640" y="2492280"/>
            <a:ext cx="2808360" cy="105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12"/>
          <a:stretch/>
        </p:blipFill>
        <p:spPr>
          <a:xfrm>
            <a:off x="179280" y="2421000"/>
            <a:ext cx="2664000" cy="105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"/>
          <p:cNvPicPr/>
          <p:nvPr/>
        </p:nvPicPr>
        <p:blipFill>
          <a:blip r:embed="rId13"/>
          <a:stretch/>
        </p:blipFill>
        <p:spPr>
          <a:xfrm>
            <a:off x="3059280" y="2421000"/>
            <a:ext cx="302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 Black"/>
              </a:rPr>
              <a:t>РАЗВИТИЕ ФОНЕМАТИЧЕСКОГО ВОСПРИ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оскажи словеч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лесу - ….(мишка)   В норке -  ….(мышк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полни предложение, выбрав по картинкам нужное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девочки …(батон, бутон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папы …(плетка, пленк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мальчика …(бинт, винт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Выбрать нужное слово в соответствии со знач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дом, ком, гном, с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то скатали мы зимой? … Что построили с тобой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крючок в реке попался…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ет все, хоть ростом мал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добрать картинки к словам, близким по звуковому соста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ук – сук, булка – белка, удочка – уточка, ночь – дочь, сова – софа …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0:42:41Z</dcterms:created>
  <dc:creator>Наталия</dc:creator>
  <dc:description/>
  <dc:language>en-US</dc:language>
  <cp:lastModifiedBy>Пользователь</cp:lastModifiedBy>
  <dcterms:modified xsi:type="dcterms:W3CDTF">2017-02-11T15:00:17Z</dcterms:modified>
  <cp:revision>69</cp:revision>
  <dc:subject/>
  <dc:title>Общие правила составления тестовых заданий </dc:title>
</cp:coreProperties>
</file>