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Пользователь Windows" initials="П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8-01-24T15:52:45.793000000" idx="1">
    <p:pos x="5758" y="0"/>
    <p:text/>
  </p:cm>
</p:cmLst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4183593-EE6E-43EF-9933-F93E8164D7C9}" type="doc">
      <dgm:prSet loTypeId="urn:microsoft.com/office/officeart/2008/layout/VerticalCurvedLis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19054DE-BC58-4FE1-9365-B294686C69B9}">
      <dgm:prSet phldrT="[Текст]" custT="1"/>
      <dgm:spPr/>
      <dgm:t>
        <a:bodyPr/>
        <a:lstStyle/>
        <a:p>
          <a:r>
            <a:rPr lang="ru-RU" sz="1800" dirty="0" smtClean="0"/>
            <a:t>-</a:t>
          </a:r>
          <a:endParaRPr lang="ru-RU" sz="1800" dirty="0"/>
        </a:p>
      </dgm:t>
    </dgm:pt>
    <dgm:pt modelId="{FB475D91-2967-4A0A-A1FD-8D48D7156621}" type="parTrans" cxnId="{DD5990DE-5262-4808-9160-AEA7C39D199E}">
      <dgm:prSet/>
      <dgm:spPr/>
      <dgm:t>
        <a:bodyPr/>
        <a:lstStyle/>
        <a:p>
          <a:endParaRPr lang="ru-RU"/>
        </a:p>
      </dgm:t>
    </dgm:pt>
    <dgm:pt modelId="{40298677-04C2-414D-AC7E-E3A365944AE2}" type="sibTrans" cxnId="{DD5990DE-5262-4808-9160-AEA7C39D199E}">
      <dgm:prSet/>
      <dgm:spPr/>
      <dgm:t>
        <a:bodyPr/>
        <a:lstStyle/>
        <a:p>
          <a:endParaRPr lang="ru-RU"/>
        </a:p>
      </dgm:t>
    </dgm:pt>
    <dgm:pt modelId="{F999FA11-9ECB-4605-B166-AAAA578E9BD9}">
      <dgm:prSet phldrT="[Текст]"/>
      <dgm:spPr/>
      <dgm:t>
        <a:bodyPr/>
        <a:lstStyle/>
        <a:p>
          <a:endParaRPr lang="ru-RU" dirty="0"/>
        </a:p>
      </dgm:t>
    </dgm:pt>
    <dgm:pt modelId="{17A8DAF4-CDD2-4F23-8F6B-C2ACE5354DB0}" type="parTrans" cxnId="{36BA2451-FEB5-4EF5-BAC3-D342A7AAAC9B}">
      <dgm:prSet/>
      <dgm:spPr/>
      <dgm:t>
        <a:bodyPr/>
        <a:lstStyle/>
        <a:p>
          <a:endParaRPr lang="ru-RU"/>
        </a:p>
      </dgm:t>
    </dgm:pt>
    <dgm:pt modelId="{8094E4DD-78D5-4072-B459-D04D2ED2203A}" type="sibTrans" cxnId="{36BA2451-FEB5-4EF5-BAC3-D342A7AAAC9B}">
      <dgm:prSet/>
      <dgm:spPr/>
      <dgm:t>
        <a:bodyPr/>
        <a:lstStyle/>
        <a:p>
          <a:endParaRPr lang="ru-RU"/>
        </a:p>
      </dgm:t>
    </dgm:pt>
    <dgm:pt modelId="{C7E336F3-57BB-466A-8325-ADF78FB4BD13}">
      <dgm:prSet phldrT="[Текст]" custT="1"/>
      <dgm:spPr/>
      <dgm:t>
        <a:bodyPr/>
        <a:lstStyle/>
        <a:p>
          <a:endParaRPr lang="ru-RU" sz="1800" dirty="0"/>
        </a:p>
      </dgm:t>
    </dgm:pt>
    <dgm:pt modelId="{8E06DE4D-2131-4A98-A8F6-13445FE18919}" type="sibTrans" cxnId="{4369A3D5-612B-4F22-92DD-8E793F90379F}">
      <dgm:prSet/>
      <dgm:spPr/>
      <dgm:t>
        <a:bodyPr/>
        <a:lstStyle/>
        <a:p>
          <a:endParaRPr lang="ru-RU"/>
        </a:p>
      </dgm:t>
    </dgm:pt>
    <dgm:pt modelId="{C8DAD7ED-A176-4A55-AED0-18A0074C1614}" type="parTrans" cxnId="{4369A3D5-612B-4F22-92DD-8E793F90379F}">
      <dgm:prSet/>
      <dgm:spPr/>
      <dgm:t>
        <a:bodyPr/>
        <a:lstStyle/>
        <a:p>
          <a:endParaRPr lang="ru-RU"/>
        </a:p>
      </dgm:t>
    </dgm:pt>
    <dgm:pt modelId="{D97C3FA5-9F7A-45D7-BBBB-035A71E36A1B}" type="pres">
      <dgm:prSet presAssocID="{B4183593-EE6E-43EF-9933-F93E8164D7C9}" presName="Name0" presStyleCnt="0">
        <dgm:presLayoutVars>
          <dgm:chMax val="7"/>
          <dgm:chPref val="7"/>
          <dgm:dir/>
        </dgm:presLayoutVars>
      </dgm:prSet>
      <dgm:spPr/>
      <dgm:t>
        <a:bodyPr/>
        <a:lstStyle/>
        <a:p>
          <a:endParaRPr lang="ru-RU"/>
        </a:p>
      </dgm:t>
    </dgm:pt>
    <dgm:pt modelId="{ACDCD48B-2611-4406-BE8B-8CE115A81940}" type="pres">
      <dgm:prSet presAssocID="{B4183593-EE6E-43EF-9933-F93E8164D7C9}" presName="Name1" presStyleCnt="0"/>
      <dgm:spPr/>
    </dgm:pt>
    <dgm:pt modelId="{C19289FC-AF20-4FDB-8ECC-A0E3ACA45207}" type="pres">
      <dgm:prSet presAssocID="{B4183593-EE6E-43EF-9933-F93E8164D7C9}" presName="cycle" presStyleCnt="0"/>
      <dgm:spPr/>
    </dgm:pt>
    <dgm:pt modelId="{A921CE34-DADF-4301-8EFE-72F62C7DA4B9}" type="pres">
      <dgm:prSet presAssocID="{B4183593-EE6E-43EF-9933-F93E8164D7C9}" presName="srcNode" presStyleLbl="node1" presStyleIdx="0" presStyleCnt="3"/>
      <dgm:spPr/>
    </dgm:pt>
    <dgm:pt modelId="{218917BB-733A-4F9F-A6A1-BD33CC040283}" type="pres">
      <dgm:prSet presAssocID="{B4183593-EE6E-43EF-9933-F93E8164D7C9}" presName="conn" presStyleLbl="parChTrans1D2" presStyleIdx="0" presStyleCnt="1"/>
      <dgm:spPr/>
      <dgm:t>
        <a:bodyPr/>
        <a:lstStyle/>
        <a:p>
          <a:endParaRPr lang="ru-RU"/>
        </a:p>
      </dgm:t>
    </dgm:pt>
    <dgm:pt modelId="{8F2AB203-7453-42A6-AF32-1E742714CAEA}" type="pres">
      <dgm:prSet presAssocID="{B4183593-EE6E-43EF-9933-F93E8164D7C9}" presName="extraNode" presStyleLbl="node1" presStyleIdx="0" presStyleCnt="3"/>
      <dgm:spPr/>
    </dgm:pt>
    <dgm:pt modelId="{CA2CEF60-55B6-4E69-AAD4-C116864FC0C4}" type="pres">
      <dgm:prSet presAssocID="{B4183593-EE6E-43EF-9933-F93E8164D7C9}" presName="dstNode" presStyleLbl="node1" presStyleIdx="0" presStyleCnt="3"/>
      <dgm:spPr/>
    </dgm:pt>
    <dgm:pt modelId="{B67C7283-F86D-4013-82A7-CF7C0C95C03A}" type="pres">
      <dgm:prSet presAssocID="{C7E336F3-57BB-466A-8325-ADF78FB4BD13}" presName="text_1" presStyleLbl="node1" presStyleIdx="0" presStyleCnt="3" custScaleX="80386" custLinFactNeighborX="9460" custLinFactNeighborY="-1043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35CA0E-20A6-4861-9444-2BBD7D4F4DD7}" type="pres">
      <dgm:prSet presAssocID="{C7E336F3-57BB-466A-8325-ADF78FB4BD13}" presName="accent_1" presStyleCnt="0"/>
      <dgm:spPr/>
    </dgm:pt>
    <dgm:pt modelId="{2421F965-0936-4A65-B89F-C84F6DC06037}" type="pres">
      <dgm:prSet presAssocID="{C7E336F3-57BB-466A-8325-ADF78FB4BD13}" presName="accentRepeatNode" presStyleLbl="solidFgAcc1" presStyleIdx="0" presStyleCnt="3" custScaleX="171938" custScaleY="139863" custLinFactNeighborX="-15626" custLinFactNeighborY="-9046"/>
      <dgm:spPr/>
    </dgm:pt>
    <dgm:pt modelId="{A58123F7-F942-47CE-A37A-A59EF45E5B90}" type="pres">
      <dgm:prSet presAssocID="{119054DE-BC58-4FE1-9365-B294686C69B9}" presName="text_2" presStyleLbl="node1" presStyleIdx="1" presStyleCnt="3" custScaleX="85120" custLinFactNeighborX="3335" custLinFactNeighborY="729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970D8E6-3DA9-46A2-B9EC-4567E3AFC114}" type="pres">
      <dgm:prSet presAssocID="{119054DE-BC58-4FE1-9365-B294686C69B9}" presName="accent_2" presStyleCnt="0"/>
      <dgm:spPr/>
    </dgm:pt>
    <dgm:pt modelId="{BB7B9A50-9324-428D-9507-6C601CDC9EEA}" type="pres">
      <dgm:prSet presAssocID="{119054DE-BC58-4FE1-9365-B294686C69B9}" presName="accentRepeatNode" presStyleLbl="solidFgAcc1" presStyleIdx="1" presStyleCnt="3" custScaleX="164456" custScaleY="146151" custLinFactNeighborX="-31242" custLinFactNeighborY="-3571"/>
      <dgm:spPr/>
    </dgm:pt>
    <dgm:pt modelId="{DE6C60C6-2767-4DAA-BEE3-985CA019083F}" type="pres">
      <dgm:prSet presAssocID="{F999FA11-9ECB-4605-B166-AAAA578E9BD9}" presName="text_3" presStyleLbl="node1" presStyleIdx="2" presStyleCnt="3" custScaleX="83167" custScaleY="97247" custLinFactNeighborX="4361" custLinFactNeighborY="95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AFAB9C6-0CEF-45E1-A840-47FA117F7FC1}" type="pres">
      <dgm:prSet presAssocID="{F999FA11-9ECB-4605-B166-AAAA578E9BD9}" presName="accent_3" presStyleCnt="0"/>
      <dgm:spPr/>
    </dgm:pt>
    <dgm:pt modelId="{4695F0D2-80DA-4E84-9266-DA9D29B408A0}" type="pres">
      <dgm:prSet presAssocID="{F999FA11-9ECB-4605-B166-AAAA578E9BD9}" presName="accentRepeatNode" presStyleLbl="solidFgAcc1" presStyleIdx="2" presStyleCnt="3" custScaleX="163448" custScaleY="139074" custLinFactNeighborX="-8921" custLinFactNeighborY="9445"/>
      <dgm:spPr/>
    </dgm:pt>
  </dgm:ptLst>
  <dgm:cxnLst>
    <dgm:cxn modelId="{7A1D87BF-43CC-4029-A2E8-15C2F440461F}" type="presOf" srcId="{B4183593-EE6E-43EF-9933-F93E8164D7C9}" destId="{D97C3FA5-9F7A-45D7-BBBB-035A71E36A1B}" srcOrd="0" destOrd="0" presId="urn:microsoft.com/office/officeart/2008/layout/VerticalCurvedList"/>
    <dgm:cxn modelId="{17A3AAB8-9531-4201-8136-8EB707116E8B}" type="presOf" srcId="{F999FA11-9ECB-4605-B166-AAAA578E9BD9}" destId="{DE6C60C6-2767-4DAA-BEE3-985CA019083F}" srcOrd="0" destOrd="0" presId="urn:microsoft.com/office/officeart/2008/layout/VerticalCurvedList"/>
    <dgm:cxn modelId="{36BA2451-FEB5-4EF5-BAC3-D342A7AAAC9B}" srcId="{B4183593-EE6E-43EF-9933-F93E8164D7C9}" destId="{F999FA11-9ECB-4605-B166-AAAA578E9BD9}" srcOrd="2" destOrd="0" parTransId="{17A8DAF4-CDD2-4F23-8F6B-C2ACE5354DB0}" sibTransId="{8094E4DD-78D5-4072-B459-D04D2ED2203A}"/>
    <dgm:cxn modelId="{DD5990DE-5262-4808-9160-AEA7C39D199E}" srcId="{B4183593-EE6E-43EF-9933-F93E8164D7C9}" destId="{119054DE-BC58-4FE1-9365-B294686C69B9}" srcOrd="1" destOrd="0" parTransId="{FB475D91-2967-4A0A-A1FD-8D48D7156621}" sibTransId="{40298677-04C2-414D-AC7E-E3A365944AE2}"/>
    <dgm:cxn modelId="{4369A3D5-612B-4F22-92DD-8E793F90379F}" srcId="{B4183593-EE6E-43EF-9933-F93E8164D7C9}" destId="{C7E336F3-57BB-466A-8325-ADF78FB4BD13}" srcOrd="0" destOrd="0" parTransId="{C8DAD7ED-A176-4A55-AED0-18A0074C1614}" sibTransId="{8E06DE4D-2131-4A98-A8F6-13445FE18919}"/>
    <dgm:cxn modelId="{F4519010-313F-419D-852F-E94AE121082C}" type="presOf" srcId="{119054DE-BC58-4FE1-9365-B294686C69B9}" destId="{A58123F7-F942-47CE-A37A-A59EF45E5B90}" srcOrd="0" destOrd="0" presId="urn:microsoft.com/office/officeart/2008/layout/VerticalCurvedList"/>
    <dgm:cxn modelId="{08B23AEE-5CFD-42F4-A102-A059709B537E}" type="presOf" srcId="{8E06DE4D-2131-4A98-A8F6-13445FE18919}" destId="{218917BB-733A-4F9F-A6A1-BD33CC040283}" srcOrd="0" destOrd="0" presId="urn:microsoft.com/office/officeart/2008/layout/VerticalCurvedList"/>
    <dgm:cxn modelId="{ACBC3DE5-A5A0-4540-A09E-59AC87598299}" type="presOf" srcId="{C7E336F3-57BB-466A-8325-ADF78FB4BD13}" destId="{B67C7283-F86D-4013-82A7-CF7C0C95C03A}" srcOrd="0" destOrd="0" presId="urn:microsoft.com/office/officeart/2008/layout/VerticalCurvedList"/>
    <dgm:cxn modelId="{92407BDE-FA4B-4A34-B0EA-BBEF3FC4C1EE}" type="presParOf" srcId="{D97C3FA5-9F7A-45D7-BBBB-035A71E36A1B}" destId="{ACDCD48B-2611-4406-BE8B-8CE115A81940}" srcOrd="0" destOrd="0" presId="urn:microsoft.com/office/officeart/2008/layout/VerticalCurvedList"/>
    <dgm:cxn modelId="{97668475-B018-429D-A457-627C140F206C}" type="presParOf" srcId="{ACDCD48B-2611-4406-BE8B-8CE115A81940}" destId="{C19289FC-AF20-4FDB-8ECC-A0E3ACA45207}" srcOrd="0" destOrd="0" presId="urn:microsoft.com/office/officeart/2008/layout/VerticalCurvedList"/>
    <dgm:cxn modelId="{152340BA-7135-43C5-8A88-8A526C5F9B32}" type="presParOf" srcId="{C19289FC-AF20-4FDB-8ECC-A0E3ACA45207}" destId="{A921CE34-DADF-4301-8EFE-72F62C7DA4B9}" srcOrd="0" destOrd="0" presId="urn:microsoft.com/office/officeart/2008/layout/VerticalCurvedList"/>
    <dgm:cxn modelId="{52BE576D-897D-45AA-A79D-EB012492841A}" type="presParOf" srcId="{C19289FC-AF20-4FDB-8ECC-A0E3ACA45207}" destId="{218917BB-733A-4F9F-A6A1-BD33CC040283}" srcOrd="1" destOrd="0" presId="urn:microsoft.com/office/officeart/2008/layout/VerticalCurvedList"/>
    <dgm:cxn modelId="{736F8A18-4867-4B8A-99E9-C0976FEFA6A3}" type="presParOf" srcId="{C19289FC-AF20-4FDB-8ECC-A0E3ACA45207}" destId="{8F2AB203-7453-42A6-AF32-1E742714CAEA}" srcOrd="2" destOrd="0" presId="urn:microsoft.com/office/officeart/2008/layout/VerticalCurvedList"/>
    <dgm:cxn modelId="{65FDC19C-1352-4D01-98D8-BB285E39A8CC}" type="presParOf" srcId="{C19289FC-AF20-4FDB-8ECC-A0E3ACA45207}" destId="{CA2CEF60-55B6-4E69-AAD4-C116864FC0C4}" srcOrd="3" destOrd="0" presId="urn:microsoft.com/office/officeart/2008/layout/VerticalCurvedList"/>
    <dgm:cxn modelId="{DE7F8AE0-8E90-4540-ADDC-F4580EE89C7F}" type="presParOf" srcId="{ACDCD48B-2611-4406-BE8B-8CE115A81940}" destId="{B67C7283-F86D-4013-82A7-CF7C0C95C03A}" srcOrd="1" destOrd="0" presId="urn:microsoft.com/office/officeart/2008/layout/VerticalCurvedList"/>
    <dgm:cxn modelId="{E6F49E40-8EB3-4417-9E90-E22D973AEB95}" type="presParOf" srcId="{ACDCD48B-2611-4406-BE8B-8CE115A81940}" destId="{6D35CA0E-20A6-4861-9444-2BBD7D4F4DD7}" srcOrd="2" destOrd="0" presId="urn:microsoft.com/office/officeart/2008/layout/VerticalCurvedList"/>
    <dgm:cxn modelId="{8B31BA4A-1C34-4C8D-86AE-23D9D1C308F9}" type="presParOf" srcId="{6D35CA0E-20A6-4861-9444-2BBD7D4F4DD7}" destId="{2421F965-0936-4A65-B89F-C84F6DC06037}" srcOrd="0" destOrd="0" presId="urn:microsoft.com/office/officeart/2008/layout/VerticalCurvedList"/>
    <dgm:cxn modelId="{3C9DFB93-6D0E-4C3D-9F06-823BE1457091}" type="presParOf" srcId="{ACDCD48B-2611-4406-BE8B-8CE115A81940}" destId="{A58123F7-F942-47CE-A37A-A59EF45E5B90}" srcOrd="3" destOrd="0" presId="urn:microsoft.com/office/officeart/2008/layout/VerticalCurvedList"/>
    <dgm:cxn modelId="{A26D63E1-50E8-4A67-A37B-A6950275C5CE}" type="presParOf" srcId="{ACDCD48B-2611-4406-BE8B-8CE115A81940}" destId="{4970D8E6-3DA9-46A2-B9EC-4567E3AFC114}" srcOrd="4" destOrd="0" presId="urn:microsoft.com/office/officeart/2008/layout/VerticalCurvedList"/>
    <dgm:cxn modelId="{70263300-45A1-4B14-B61C-BFD07B72B580}" type="presParOf" srcId="{4970D8E6-3DA9-46A2-B9EC-4567E3AFC114}" destId="{BB7B9A50-9324-428D-9507-6C601CDC9EEA}" srcOrd="0" destOrd="0" presId="urn:microsoft.com/office/officeart/2008/layout/VerticalCurvedList"/>
    <dgm:cxn modelId="{2A8C3194-FEA7-4AB3-9AB7-56AF46019454}" type="presParOf" srcId="{ACDCD48B-2611-4406-BE8B-8CE115A81940}" destId="{DE6C60C6-2767-4DAA-BEE3-985CA019083F}" srcOrd="5" destOrd="0" presId="urn:microsoft.com/office/officeart/2008/layout/VerticalCurvedList"/>
    <dgm:cxn modelId="{6861DCE2-0597-46C7-B953-01A5693CFECD}" type="presParOf" srcId="{ACDCD48B-2611-4406-BE8B-8CE115A81940}" destId="{7AFAB9C6-0CEF-45E1-A840-47FA117F7FC1}" srcOrd="6" destOrd="0" presId="urn:microsoft.com/office/officeart/2008/layout/VerticalCurvedList"/>
    <dgm:cxn modelId="{2CE8802D-C549-490E-83B6-18D87785B69C}" type="presParOf" srcId="{7AFAB9C6-0CEF-45E1-A840-47FA117F7FC1}" destId="{4695F0D2-80DA-4E84-9266-DA9D29B408A0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78706CC-8553-4894-AC2A-5074A453A670}" type="doc">
      <dgm:prSet loTypeId="urn:microsoft.com/office/officeart/2005/8/layout/hList3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5D00CFE8-A6B9-426D-9AA2-28064E6A315B}">
      <dgm:prSet phldrT="[Текст]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ru-RU" b="1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Первые трудности</a:t>
          </a:r>
          <a:endParaRPr lang="ru-RU" b="1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F4BEA9B4-2B9B-4958-A1C9-BDBEFA30D224}" type="parTrans" cxnId="{79C8A78C-73BB-40CC-8D9B-CE4C6317776C}">
      <dgm:prSet/>
      <dgm:spPr/>
      <dgm:t>
        <a:bodyPr/>
        <a:lstStyle/>
        <a:p>
          <a:endParaRPr lang="ru-RU"/>
        </a:p>
      </dgm:t>
    </dgm:pt>
    <dgm:pt modelId="{A607D18F-5704-48BB-9ED4-26B4B2DF9FE6}" type="sibTrans" cxnId="{79C8A78C-73BB-40CC-8D9B-CE4C6317776C}">
      <dgm:prSet/>
      <dgm:spPr/>
      <dgm:t>
        <a:bodyPr/>
        <a:lstStyle/>
        <a:p>
          <a:endParaRPr lang="ru-RU"/>
        </a:p>
      </dgm:t>
    </dgm:pt>
    <dgm:pt modelId="{B1219979-1DC0-42CD-B89A-2DDDAF795AEF}">
      <dgm:prSet phldrT="[Текст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ru-RU" sz="2200" b="1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Неуспеваемость</a:t>
          </a:r>
          <a:endParaRPr lang="ru-RU" sz="2200" b="1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5E38C84F-E6E4-4FBD-9E3F-6A5E9A27E81C}" type="parTrans" cxnId="{DAEBF52A-A5A6-43A0-8C24-238A6782FFC1}">
      <dgm:prSet/>
      <dgm:spPr/>
      <dgm:t>
        <a:bodyPr/>
        <a:lstStyle/>
        <a:p>
          <a:endParaRPr lang="ru-RU"/>
        </a:p>
      </dgm:t>
    </dgm:pt>
    <dgm:pt modelId="{D41A79BC-BC8A-46CA-8B44-C499EBE2D5DB}" type="sibTrans" cxnId="{DAEBF52A-A5A6-43A0-8C24-238A6782FFC1}">
      <dgm:prSet/>
      <dgm:spPr/>
      <dgm:t>
        <a:bodyPr/>
        <a:lstStyle/>
        <a:p>
          <a:endParaRPr lang="ru-RU"/>
        </a:p>
      </dgm:t>
    </dgm:pt>
    <dgm:pt modelId="{124EDA18-4472-4B40-8C14-9D976632BDD2}">
      <dgm:prSet phldrT="[Текст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ru-RU" sz="2200" b="1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Лень</a:t>
          </a:r>
          <a:endParaRPr lang="ru-RU" sz="2200" b="1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492CAD89-132A-4C48-8444-266502C126CD}" type="parTrans" cxnId="{7C31D968-7529-4168-A08B-384270DF8A08}">
      <dgm:prSet/>
      <dgm:spPr/>
      <dgm:t>
        <a:bodyPr/>
        <a:lstStyle/>
        <a:p>
          <a:endParaRPr lang="ru-RU"/>
        </a:p>
      </dgm:t>
    </dgm:pt>
    <dgm:pt modelId="{CE8F1BC4-BB6F-45F7-B13B-7594DA988D31}" type="sibTrans" cxnId="{7C31D968-7529-4168-A08B-384270DF8A08}">
      <dgm:prSet/>
      <dgm:spPr/>
      <dgm:t>
        <a:bodyPr/>
        <a:lstStyle/>
        <a:p>
          <a:endParaRPr lang="ru-RU"/>
        </a:p>
      </dgm:t>
    </dgm:pt>
    <dgm:pt modelId="{05A633E8-AB31-423A-8357-0514C87CCFEC}">
      <dgm:prSet phldrT="[Текст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ru-RU" sz="2200" b="1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Нежелание что- то делать</a:t>
          </a:r>
          <a:endParaRPr lang="ru-RU" sz="2200" b="1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E7889C6E-7C31-47EA-86B1-9EDCE7AB557A}" type="parTrans" cxnId="{6DA86A76-77D5-44FB-968A-9524206590FE}">
      <dgm:prSet/>
      <dgm:spPr/>
      <dgm:t>
        <a:bodyPr/>
        <a:lstStyle/>
        <a:p>
          <a:endParaRPr lang="ru-RU"/>
        </a:p>
      </dgm:t>
    </dgm:pt>
    <dgm:pt modelId="{2B1665AF-9AB0-49BD-85BC-7CEB2CE8A76C}" type="sibTrans" cxnId="{6DA86A76-77D5-44FB-968A-9524206590FE}">
      <dgm:prSet/>
      <dgm:spPr/>
      <dgm:t>
        <a:bodyPr/>
        <a:lstStyle/>
        <a:p>
          <a:endParaRPr lang="ru-RU"/>
        </a:p>
      </dgm:t>
    </dgm:pt>
    <dgm:pt modelId="{F640E0F5-0819-4F57-AE2C-D112DB814456}">
      <dgm:prSet phldrT="[Текст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ru-RU" sz="2200" b="1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Негативизм</a:t>
          </a:r>
          <a:endParaRPr lang="ru-RU" sz="2200" b="1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FDA0C32E-B7E9-4240-967E-125FF4E1A6C5}" type="parTrans" cxnId="{72DF4735-FB60-455E-B006-C01BB38911AC}">
      <dgm:prSet/>
      <dgm:spPr/>
      <dgm:t>
        <a:bodyPr/>
        <a:lstStyle/>
        <a:p>
          <a:endParaRPr lang="ru-RU"/>
        </a:p>
      </dgm:t>
    </dgm:pt>
    <dgm:pt modelId="{00765D17-5EEE-41B3-8187-3BF28A23F061}" type="sibTrans" cxnId="{72DF4735-FB60-455E-B006-C01BB38911AC}">
      <dgm:prSet/>
      <dgm:spPr/>
      <dgm:t>
        <a:bodyPr/>
        <a:lstStyle/>
        <a:p>
          <a:endParaRPr lang="ru-RU"/>
        </a:p>
      </dgm:t>
    </dgm:pt>
    <dgm:pt modelId="{ABB05E36-98DE-4219-8E57-35938EE63623}">
      <dgm:prSet phldrT="[Текст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ru-RU" sz="2000" b="1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Демонстративность</a:t>
          </a:r>
          <a:endParaRPr lang="ru-RU" sz="2000" b="1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9D93A2D0-922A-4C96-B7F4-9089301C80AB}" type="parTrans" cxnId="{ECF6D1BE-E217-46CB-914B-5360107552C5}">
      <dgm:prSet/>
      <dgm:spPr/>
      <dgm:t>
        <a:bodyPr/>
        <a:lstStyle/>
        <a:p>
          <a:endParaRPr lang="ru-RU"/>
        </a:p>
      </dgm:t>
    </dgm:pt>
    <dgm:pt modelId="{059198FB-3BC0-4E16-9DB6-241C385E66F1}" type="sibTrans" cxnId="{ECF6D1BE-E217-46CB-914B-5360107552C5}">
      <dgm:prSet/>
      <dgm:spPr/>
      <dgm:t>
        <a:bodyPr/>
        <a:lstStyle/>
        <a:p>
          <a:endParaRPr lang="ru-RU"/>
        </a:p>
      </dgm:t>
    </dgm:pt>
    <dgm:pt modelId="{9B26CA62-868D-4702-87EE-FADD77F2BD56}" type="pres">
      <dgm:prSet presAssocID="{B78706CC-8553-4894-AC2A-5074A453A670}" presName="composite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3FF34F8-1C66-4CAF-8AE5-0C084B5D3295}" type="pres">
      <dgm:prSet presAssocID="{5D00CFE8-A6B9-426D-9AA2-28064E6A315B}" presName="roof" presStyleLbl="dkBgShp" presStyleIdx="0" presStyleCnt="2" custLinFactNeighborX="-2391"/>
      <dgm:spPr/>
      <dgm:t>
        <a:bodyPr/>
        <a:lstStyle/>
        <a:p>
          <a:endParaRPr lang="ru-RU"/>
        </a:p>
      </dgm:t>
    </dgm:pt>
    <dgm:pt modelId="{AE17FB51-826C-40BB-BE9A-EE42396CBB43}" type="pres">
      <dgm:prSet presAssocID="{5D00CFE8-A6B9-426D-9AA2-28064E6A315B}" presName="pillars" presStyleCnt="0"/>
      <dgm:spPr/>
    </dgm:pt>
    <dgm:pt modelId="{7F10753E-6FB0-46A7-AC8C-B05F1DF52977}" type="pres">
      <dgm:prSet presAssocID="{5D00CFE8-A6B9-426D-9AA2-28064E6A315B}" presName="pillar1" presStyleLbl="node1" presStyleIdx="0" presStyleCnt="5" custScaleX="128721" custLinFactNeighborX="-147" custLinFactNeighborY="-28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3C5283-786F-4C7F-B778-8E5D1CFC308F}" type="pres">
      <dgm:prSet presAssocID="{F640E0F5-0819-4F57-AE2C-D112DB814456}" presName="pillarX" presStyleLbl="node1" presStyleIdx="1" presStyleCnt="5" custLinFactNeighborX="1251" custLinFactNeighborY="-28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99E6C7-6174-4A47-8F05-6EAD4745A4A3}" type="pres">
      <dgm:prSet presAssocID="{124EDA18-4472-4B40-8C14-9D976632BDD2}" presName="pillarX" presStyleLbl="node1" presStyleIdx="2" presStyleCnt="5" custScaleX="79651" custLinFactNeighborX="-1073" custLinFactNeighborY="-28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93721F-589D-4B10-BFB8-17ADA44A2EB5}" type="pres">
      <dgm:prSet presAssocID="{ABB05E36-98DE-4219-8E57-35938EE63623}" presName="pillarX" presStyleLbl="node1" presStyleIdx="3" presStyleCnt="5" custScaleX="146347" custLinFactNeighborX="-178" custLinFactNeighborY="8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D1F586-19D9-4254-AAE2-305A9BB10572}" type="pres">
      <dgm:prSet presAssocID="{05A633E8-AB31-423A-8357-0514C87CCFEC}" presName="pillarX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D70FB70-CCA2-42CD-8B7F-9264625FAAD5}" type="pres">
      <dgm:prSet presAssocID="{5D00CFE8-A6B9-426D-9AA2-28064E6A315B}" presName="base" presStyleLbl="dkBgShp" presStyleIdx="1" presStyleCnt="2"/>
      <dgm:spPr>
        <a:solidFill>
          <a:schemeClr val="accent1">
            <a:lumMod val="60000"/>
            <a:lumOff val="40000"/>
          </a:schemeClr>
        </a:solidFill>
      </dgm:spPr>
    </dgm:pt>
  </dgm:ptLst>
  <dgm:cxnLst>
    <dgm:cxn modelId="{A768D1B5-1E34-42EA-9B61-6869A5076AE0}" type="presOf" srcId="{B1219979-1DC0-42CD-B89A-2DDDAF795AEF}" destId="{7F10753E-6FB0-46A7-AC8C-B05F1DF52977}" srcOrd="0" destOrd="0" presId="urn:microsoft.com/office/officeart/2005/8/layout/hList3"/>
    <dgm:cxn modelId="{6DA86A76-77D5-44FB-968A-9524206590FE}" srcId="{5D00CFE8-A6B9-426D-9AA2-28064E6A315B}" destId="{05A633E8-AB31-423A-8357-0514C87CCFEC}" srcOrd="4" destOrd="0" parTransId="{E7889C6E-7C31-47EA-86B1-9EDCE7AB557A}" sibTransId="{2B1665AF-9AB0-49BD-85BC-7CEB2CE8A76C}"/>
    <dgm:cxn modelId="{8B53CB21-E2D2-40A9-B517-A7AE64D17539}" type="presOf" srcId="{05A633E8-AB31-423A-8357-0514C87CCFEC}" destId="{59D1F586-19D9-4254-AAE2-305A9BB10572}" srcOrd="0" destOrd="0" presId="urn:microsoft.com/office/officeart/2005/8/layout/hList3"/>
    <dgm:cxn modelId="{72DF4735-FB60-455E-B006-C01BB38911AC}" srcId="{5D00CFE8-A6B9-426D-9AA2-28064E6A315B}" destId="{F640E0F5-0819-4F57-AE2C-D112DB814456}" srcOrd="1" destOrd="0" parTransId="{FDA0C32E-B7E9-4240-967E-125FF4E1A6C5}" sibTransId="{00765D17-5EEE-41B3-8187-3BF28A23F061}"/>
    <dgm:cxn modelId="{79C8A78C-73BB-40CC-8D9B-CE4C6317776C}" srcId="{B78706CC-8553-4894-AC2A-5074A453A670}" destId="{5D00CFE8-A6B9-426D-9AA2-28064E6A315B}" srcOrd="0" destOrd="0" parTransId="{F4BEA9B4-2B9B-4958-A1C9-BDBEFA30D224}" sibTransId="{A607D18F-5704-48BB-9ED4-26B4B2DF9FE6}"/>
    <dgm:cxn modelId="{71395791-8768-4042-A32B-3DBB5DCA1689}" type="presOf" srcId="{124EDA18-4472-4B40-8C14-9D976632BDD2}" destId="{EC99E6C7-6174-4A47-8F05-6EAD4745A4A3}" srcOrd="0" destOrd="0" presId="urn:microsoft.com/office/officeart/2005/8/layout/hList3"/>
    <dgm:cxn modelId="{6A5A2116-570E-41CF-AE7D-8AF2916E16C6}" type="presOf" srcId="{ABB05E36-98DE-4219-8E57-35938EE63623}" destId="{1893721F-589D-4B10-BFB8-17ADA44A2EB5}" srcOrd="0" destOrd="0" presId="urn:microsoft.com/office/officeart/2005/8/layout/hList3"/>
    <dgm:cxn modelId="{ECF6D1BE-E217-46CB-914B-5360107552C5}" srcId="{5D00CFE8-A6B9-426D-9AA2-28064E6A315B}" destId="{ABB05E36-98DE-4219-8E57-35938EE63623}" srcOrd="3" destOrd="0" parTransId="{9D93A2D0-922A-4C96-B7F4-9089301C80AB}" sibTransId="{059198FB-3BC0-4E16-9DB6-241C385E66F1}"/>
    <dgm:cxn modelId="{12DE0319-49E0-4E99-A98D-D7A41B7D1E5D}" type="presOf" srcId="{5D00CFE8-A6B9-426D-9AA2-28064E6A315B}" destId="{F3FF34F8-1C66-4CAF-8AE5-0C084B5D3295}" srcOrd="0" destOrd="0" presId="urn:microsoft.com/office/officeart/2005/8/layout/hList3"/>
    <dgm:cxn modelId="{759D8EC4-9D65-4EBE-929C-9B66F9BA95E2}" type="presOf" srcId="{F640E0F5-0819-4F57-AE2C-D112DB814456}" destId="{EC3C5283-786F-4C7F-B778-8E5D1CFC308F}" srcOrd="0" destOrd="0" presId="urn:microsoft.com/office/officeart/2005/8/layout/hList3"/>
    <dgm:cxn modelId="{7C31D968-7529-4168-A08B-384270DF8A08}" srcId="{5D00CFE8-A6B9-426D-9AA2-28064E6A315B}" destId="{124EDA18-4472-4B40-8C14-9D976632BDD2}" srcOrd="2" destOrd="0" parTransId="{492CAD89-132A-4C48-8444-266502C126CD}" sibTransId="{CE8F1BC4-BB6F-45F7-B13B-7594DA988D31}"/>
    <dgm:cxn modelId="{2F358A59-FAB5-4002-AE99-C9E72868DF6F}" type="presOf" srcId="{B78706CC-8553-4894-AC2A-5074A453A670}" destId="{9B26CA62-868D-4702-87EE-FADD77F2BD56}" srcOrd="0" destOrd="0" presId="urn:microsoft.com/office/officeart/2005/8/layout/hList3"/>
    <dgm:cxn modelId="{DAEBF52A-A5A6-43A0-8C24-238A6782FFC1}" srcId="{5D00CFE8-A6B9-426D-9AA2-28064E6A315B}" destId="{B1219979-1DC0-42CD-B89A-2DDDAF795AEF}" srcOrd="0" destOrd="0" parTransId="{5E38C84F-E6E4-4FBD-9E3F-6A5E9A27E81C}" sibTransId="{D41A79BC-BC8A-46CA-8B44-C499EBE2D5DB}"/>
    <dgm:cxn modelId="{4516EA2D-4579-4CDD-8F99-97F89B4C4FE0}" type="presParOf" srcId="{9B26CA62-868D-4702-87EE-FADD77F2BD56}" destId="{F3FF34F8-1C66-4CAF-8AE5-0C084B5D3295}" srcOrd="0" destOrd="0" presId="urn:microsoft.com/office/officeart/2005/8/layout/hList3"/>
    <dgm:cxn modelId="{2E8D7397-1A6F-4A87-9DAB-E9988FC49221}" type="presParOf" srcId="{9B26CA62-868D-4702-87EE-FADD77F2BD56}" destId="{AE17FB51-826C-40BB-BE9A-EE42396CBB43}" srcOrd="1" destOrd="0" presId="urn:microsoft.com/office/officeart/2005/8/layout/hList3"/>
    <dgm:cxn modelId="{642E7707-5717-42A9-8E4C-29FF9DD4B907}" type="presParOf" srcId="{AE17FB51-826C-40BB-BE9A-EE42396CBB43}" destId="{7F10753E-6FB0-46A7-AC8C-B05F1DF52977}" srcOrd="0" destOrd="0" presId="urn:microsoft.com/office/officeart/2005/8/layout/hList3"/>
    <dgm:cxn modelId="{0C1AF02A-A23D-438D-B7EF-5650539F570C}" type="presParOf" srcId="{AE17FB51-826C-40BB-BE9A-EE42396CBB43}" destId="{EC3C5283-786F-4C7F-B778-8E5D1CFC308F}" srcOrd="1" destOrd="0" presId="urn:microsoft.com/office/officeart/2005/8/layout/hList3"/>
    <dgm:cxn modelId="{93976FC4-3895-4FA7-A6D8-8243AA17D0F4}" type="presParOf" srcId="{AE17FB51-826C-40BB-BE9A-EE42396CBB43}" destId="{EC99E6C7-6174-4A47-8F05-6EAD4745A4A3}" srcOrd="2" destOrd="0" presId="urn:microsoft.com/office/officeart/2005/8/layout/hList3"/>
    <dgm:cxn modelId="{0129F2A2-D710-43B7-B2CB-EB61F8BBEF5E}" type="presParOf" srcId="{AE17FB51-826C-40BB-BE9A-EE42396CBB43}" destId="{1893721F-589D-4B10-BFB8-17ADA44A2EB5}" srcOrd="3" destOrd="0" presId="urn:microsoft.com/office/officeart/2005/8/layout/hList3"/>
    <dgm:cxn modelId="{DA0F2115-CECE-435D-A3FD-D272AAA25FA5}" type="presParOf" srcId="{AE17FB51-826C-40BB-BE9A-EE42396CBB43}" destId="{59D1F586-19D9-4254-AAE2-305A9BB10572}" srcOrd="4" destOrd="0" presId="urn:microsoft.com/office/officeart/2005/8/layout/hList3"/>
    <dgm:cxn modelId="{3B712398-5E14-4388-A7A3-74F685B67851}" type="presParOf" srcId="{9B26CA62-868D-4702-87EE-FADD77F2BD56}" destId="{DD70FB70-CCA2-42CD-8B7F-9264625FAAD5}" srcOrd="2" destOrd="0" presId="urn:microsoft.com/office/officeart/2005/8/layout/h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14EDB8C7-FF41-46BD-BDD0-C2BBC234261D}" type="doc">
      <dgm:prSet loTypeId="urn:microsoft.com/office/officeart/2008/layout/CircularPictureCallout" loCatId="picture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CC78BEC-9F42-4086-A294-9F8483F9E029}">
      <dgm:prSet/>
      <dgm:spPr/>
      <dgm:t>
        <a:bodyPr/>
        <a:lstStyle/>
        <a:p>
          <a:endParaRPr lang="ru-RU"/>
        </a:p>
      </dgm:t>
    </dgm:pt>
    <dgm:pt modelId="{545A03A8-232D-44B0-B2C0-BAA2B3AAA1A9}" type="parTrans" cxnId="{47AD7E8D-FCA5-4340-95A1-FF83794CBA94}">
      <dgm:prSet/>
      <dgm:spPr/>
      <dgm:t>
        <a:bodyPr/>
        <a:lstStyle/>
        <a:p>
          <a:endParaRPr lang="ru-RU"/>
        </a:p>
      </dgm:t>
    </dgm:pt>
    <dgm:pt modelId="{C265BA65-1819-4525-9067-B36722F3724A}" type="sibTrans" cxnId="{47AD7E8D-FCA5-4340-95A1-FF83794CBA94}">
      <dgm:prSet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endParaRPr lang="ru-RU"/>
        </a:p>
      </dgm:t>
    </dgm:pt>
    <dgm:pt modelId="{0B8D0D5F-A198-4BCF-AC1B-12DD943CE04E}">
      <dgm:prSet phldrT="[Текст]" phldr="1"/>
      <dgm:spPr/>
      <dgm:t>
        <a:bodyPr/>
        <a:lstStyle/>
        <a:p>
          <a:endParaRPr lang="ru-RU"/>
        </a:p>
      </dgm:t>
    </dgm:pt>
    <dgm:pt modelId="{497A4508-E64E-4D12-AFB4-BBDA739F9709}" type="parTrans" cxnId="{86F2F0AE-C295-467E-8625-B1D2C78C5E70}">
      <dgm:prSet/>
      <dgm:spPr/>
      <dgm:t>
        <a:bodyPr/>
        <a:lstStyle/>
        <a:p>
          <a:endParaRPr lang="ru-RU"/>
        </a:p>
      </dgm:t>
    </dgm:pt>
    <dgm:pt modelId="{678D0476-D87F-4682-B6B9-954B0AA8BFCE}" type="sibTrans" cxnId="{86F2F0AE-C295-467E-8625-B1D2C78C5E70}">
      <dgm:prSet/>
      <dgm:spPr>
        <a:solidFill>
          <a:schemeClr val="accent1"/>
        </a:solidFill>
      </dgm:spPr>
      <dgm:t>
        <a:bodyPr/>
        <a:lstStyle/>
        <a:p>
          <a:endParaRPr lang="ru-RU"/>
        </a:p>
      </dgm:t>
    </dgm:pt>
    <dgm:pt modelId="{49CD1252-6C62-4433-A8BB-89AE49D6BD15}">
      <dgm:prSet phldrT="[Текст]" phldr="1"/>
      <dgm:spPr/>
      <dgm:t>
        <a:bodyPr/>
        <a:lstStyle/>
        <a:p>
          <a:endParaRPr lang="ru-RU"/>
        </a:p>
      </dgm:t>
    </dgm:pt>
    <dgm:pt modelId="{DBF880B4-0017-4591-B1D7-7003C402EF14}" type="parTrans" cxnId="{FAD593FB-5D75-4586-9551-1096F1FE48E2}">
      <dgm:prSet/>
      <dgm:spPr/>
      <dgm:t>
        <a:bodyPr/>
        <a:lstStyle/>
        <a:p>
          <a:endParaRPr lang="ru-RU"/>
        </a:p>
      </dgm:t>
    </dgm:pt>
    <dgm:pt modelId="{E43DEA44-32BC-40C7-B597-D472AB63FBAD}" type="sibTrans" cxnId="{FAD593FB-5D75-4586-9551-1096F1FE48E2}">
      <dgm:prSet/>
      <dgm:spPr>
        <a:solidFill>
          <a:schemeClr val="accent1"/>
        </a:solidFill>
      </dgm:spPr>
      <dgm:t>
        <a:bodyPr/>
        <a:lstStyle/>
        <a:p>
          <a:endParaRPr lang="ru-RU"/>
        </a:p>
      </dgm:t>
    </dgm:pt>
    <dgm:pt modelId="{A6DB0EDA-E3DE-46EE-9B54-D013398A994A}">
      <dgm:prSet/>
      <dgm:spPr/>
      <dgm:t>
        <a:bodyPr/>
        <a:lstStyle/>
        <a:p>
          <a:endParaRPr lang="ru-RU"/>
        </a:p>
      </dgm:t>
    </dgm:pt>
    <dgm:pt modelId="{685D621B-12E5-4396-9553-B0FF33C89B9F}" type="parTrans" cxnId="{627C8925-E803-46F3-850C-58023C6AF2B0}">
      <dgm:prSet/>
      <dgm:spPr/>
      <dgm:t>
        <a:bodyPr/>
        <a:lstStyle/>
        <a:p>
          <a:endParaRPr lang="ru-RU"/>
        </a:p>
      </dgm:t>
    </dgm:pt>
    <dgm:pt modelId="{813A18FB-3F26-4070-B882-C0D1B62EE6A2}" type="sibTrans" cxnId="{627C8925-E803-46F3-850C-58023C6AF2B0}">
      <dgm:prSet/>
      <dgm:spPr>
        <a:solidFill>
          <a:schemeClr val="accent1"/>
        </a:solidFill>
      </dgm:spPr>
      <dgm:t>
        <a:bodyPr/>
        <a:lstStyle/>
        <a:p>
          <a:endParaRPr lang="ru-RU"/>
        </a:p>
      </dgm:t>
    </dgm:pt>
    <dgm:pt modelId="{EB6D7C75-2FFF-4505-9051-40F671FC5600}">
      <dgm:prSet/>
      <dgm:spPr/>
      <dgm:t>
        <a:bodyPr/>
        <a:lstStyle/>
        <a:p>
          <a:endParaRPr lang="ru-RU"/>
        </a:p>
      </dgm:t>
    </dgm:pt>
    <dgm:pt modelId="{0BB269DF-A011-4142-94F7-1B53699D7D63}" type="parTrans" cxnId="{33777A33-858A-4EC6-9FCC-936A581E9037}">
      <dgm:prSet/>
      <dgm:spPr/>
      <dgm:t>
        <a:bodyPr/>
        <a:lstStyle/>
        <a:p>
          <a:endParaRPr lang="ru-RU"/>
        </a:p>
      </dgm:t>
    </dgm:pt>
    <dgm:pt modelId="{6004077C-0922-4928-9CDD-298F8C1F9FD1}" type="sibTrans" cxnId="{33777A33-858A-4EC6-9FCC-936A581E9037}">
      <dgm:prSet/>
      <dgm:spPr/>
      <dgm:t>
        <a:bodyPr/>
        <a:lstStyle/>
        <a:p>
          <a:endParaRPr lang="ru-RU"/>
        </a:p>
      </dgm:t>
    </dgm:pt>
    <dgm:pt modelId="{FABCD5B3-22FE-473B-A8E0-FCF2229E41FD}">
      <dgm:prSet/>
      <dgm:spPr/>
      <dgm:t>
        <a:bodyPr/>
        <a:lstStyle/>
        <a:p>
          <a:endParaRPr lang="ru-RU"/>
        </a:p>
      </dgm:t>
    </dgm:pt>
    <dgm:pt modelId="{C830EE5F-82BB-42BE-87CD-7207F8CD3524}" type="parTrans" cxnId="{C97A2388-C7B3-4699-B460-A34F07E071B7}">
      <dgm:prSet/>
      <dgm:spPr/>
      <dgm:t>
        <a:bodyPr/>
        <a:lstStyle/>
        <a:p>
          <a:endParaRPr lang="ru-RU"/>
        </a:p>
      </dgm:t>
    </dgm:pt>
    <dgm:pt modelId="{074C9CBE-26D5-490B-8484-1D28CEB36A05}" type="sibTrans" cxnId="{C97A2388-C7B3-4699-B460-A34F07E071B7}">
      <dgm:prSet/>
      <dgm:spPr>
        <a:solidFill>
          <a:schemeClr val="accent1"/>
        </a:solidFill>
      </dgm:spPr>
      <dgm:t>
        <a:bodyPr/>
        <a:lstStyle/>
        <a:p>
          <a:endParaRPr lang="ru-RU"/>
        </a:p>
      </dgm:t>
    </dgm:pt>
    <dgm:pt modelId="{BD8B076D-8A5E-4418-9C2D-1E35F6461740}">
      <dgm:prSet/>
      <dgm:spPr/>
      <dgm:t>
        <a:bodyPr/>
        <a:lstStyle/>
        <a:p>
          <a:endParaRPr lang="ru-RU" dirty="0"/>
        </a:p>
      </dgm:t>
    </dgm:pt>
    <dgm:pt modelId="{57904AED-04D3-4CFA-8ED5-9E9725194795}" type="parTrans" cxnId="{5E0C1B56-C7A3-4169-8832-6469E2EF035F}">
      <dgm:prSet/>
      <dgm:spPr/>
      <dgm:t>
        <a:bodyPr/>
        <a:lstStyle/>
        <a:p>
          <a:endParaRPr lang="ru-RU"/>
        </a:p>
      </dgm:t>
    </dgm:pt>
    <dgm:pt modelId="{ED044430-B7C5-43B4-B2B0-29F461B79E1A}" type="sibTrans" cxnId="{5E0C1B56-C7A3-4169-8832-6469E2EF035F}">
      <dgm:prSet/>
      <dgm:spPr>
        <a:solidFill>
          <a:schemeClr val="tx2">
            <a:lumMod val="60000"/>
            <a:lumOff val="40000"/>
          </a:schemeClr>
        </a:solidFill>
      </dgm:spPr>
      <dgm:t>
        <a:bodyPr/>
        <a:lstStyle/>
        <a:p>
          <a:endParaRPr lang="ru-RU"/>
        </a:p>
      </dgm:t>
    </dgm:pt>
    <dgm:pt modelId="{BFCC5203-1AB5-4BF9-918D-4D61AAD74DD5}">
      <dgm:prSet phldrT="[Текст]" phldr="1"/>
      <dgm:spPr/>
      <dgm:t>
        <a:bodyPr/>
        <a:lstStyle/>
        <a:p>
          <a:endParaRPr lang="ru-RU" dirty="0"/>
        </a:p>
      </dgm:t>
    </dgm:pt>
    <dgm:pt modelId="{69C0090F-0305-4BB4-861A-FD47E436C829}" type="sibTrans" cxnId="{A4909D68-AD90-4FDF-9A53-3846B91BA7B3}">
      <dgm:prSet/>
      <dgm:spPr>
        <a:solidFill>
          <a:schemeClr val="accent1"/>
        </a:solidFill>
      </dgm:spPr>
      <dgm:t>
        <a:bodyPr/>
        <a:lstStyle/>
        <a:p>
          <a:endParaRPr lang="ru-RU"/>
        </a:p>
      </dgm:t>
    </dgm:pt>
    <dgm:pt modelId="{8259062F-3597-4A35-9854-87E02C0E3AC5}" type="parTrans" cxnId="{A4909D68-AD90-4FDF-9A53-3846B91BA7B3}">
      <dgm:prSet/>
      <dgm:spPr/>
      <dgm:t>
        <a:bodyPr/>
        <a:lstStyle/>
        <a:p>
          <a:endParaRPr lang="ru-RU"/>
        </a:p>
      </dgm:t>
    </dgm:pt>
    <dgm:pt modelId="{B172F067-FC33-43BE-B5BE-965B5014733F}" type="pres">
      <dgm:prSet presAssocID="{14EDB8C7-FF41-46BD-BDD0-C2BBC234261D}" presName="Name0" presStyleCnt="0">
        <dgm:presLayoutVars>
          <dgm:chMax val="7"/>
          <dgm:chPref val="7"/>
          <dgm:dir/>
        </dgm:presLayoutVars>
      </dgm:prSet>
      <dgm:spPr/>
      <dgm:t>
        <a:bodyPr/>
        <a:lstStyle/>
        <a:p>
          <a:endParaRPr lang="ru-RU"/>
        </a:p>
      </dgm:t>
    </dgm:pt>
    <dgm:pt modelId="{5B738FA4-6744-400B-8613-A8B682466071}" type="pres">
      <dgm:prSet presAssocID="{14EDB8C7-FF41-46BD-BDD0-C2BBC234261D}" presName="Name1" presStyleCnt="0"/>
      <dgm:spPr/>
    </dgm:pt>
    <dgm:pt modelId="{A05A5466-B465-49EA-8643-D8F2F6109743}" type="pres">
      <dgm:prSet presAssocID="{C265BA65-1819-4525-9067-B36722F3724A}" presName="picture_1" presStyleCnt="0"/>
      <dgm:spPr/>
    </dgm:pt>
    <dgm:pt modelId="{C8BA4CCA-9322-4195-8DFC-3D8658FFBB04}" type="pres">
      <dgm:prSet presAssocID="{C265BA65-1819-4525-9067-B36722F3724A}" presName="pictureRepeatNode" presStyleLbl="alignImgPlace1" presStyleIdx="0" presStyleCnt="7" custScaleX="100771" custScaleY="117439" custLinFactNeighborX="-26194" custLinFactNeighborY="-10839"/>
      <dgm:spPr/>
      <dgm:t>
        <a:bodyPr/>
        <a:lstStyle/>
        <a:p>
          <a:endParaRPr lang="ru-RU"/>
        </a:p>
      </dgm:t>
    </dgm:pt>
    <dgm:pt modelId="{F16AA760-CA04-4C44-9268-8434089F1D93}" type="pres">
      <dgm:prSet presAssocID="{BCC78BEC-9F42-4086-A294-9F8483F9E029}" presName="text_1" presStyleLbl="node1" presStyleIdx="0" presStyleCnt="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A5785B9-D7FD-4EEF-B4E4-068E4AC135F4}" type="pres">
      <dgm:prSet presAssocID="{ED044430-B7C5-43B4-B2B0-29F461B79E1A}" presName="picture_2" presStyleCnt="0"/>
      <dgm:spPr/>
    </dgm:pt>
    <dgm:pt modelId="{663FBE92-1F36-4E1D-8F70-E755B5265BE7}" type="pres">
      <dgm:prSet presAssocID="{ED044430-B7C5-43B4-B2B0-29F461B79E1A}" presName="pictureRepeatNode" presStyleLbl="alignImgPlace1" presStyleIdx="1" presStyleCnt="7" custScaleX="280778" custScaleY="176244" custLinFactY="-17284" custLinFactNeighborX="-21884" custLinFactNeighborY="-100000"/>
      <dgm:spPr/>
      <dgm:t>
        <a:bodyPr/>
        <a:lstStyle/>
        <a:p>
          <a:endParaRPr lang="ru-RU"/>
        </a:p>
      </dgm:t>
    </dgm:pt>
    <dgm:pt modelId="{42CE2CE8-5273-45F5-A0B0-014657640D92}" type="pres">
      <dgm:prSet presAssocID="{BD8B076D-8A5E-4418-9C2D-1E35F6461740}" presName="line_2" presStyleLbl="parChTrans1D1" presStyleIdx="0" presStyleCnt="6" custFlipVert="1" custSzY="1296144" custScaleX="84242" custLinFactY="-200000" custLinFactNeighborX="2785" custLinFactNeighborY="-257972"/>
      <dgm:spPr/>
    </dgm:pt>
    <dgm:pt modelId="{E4EB210D-6B7C-47C1-A108-258ACAF22EA5}" type="pres">
      <dgm:prSet presAssocID="{BD8B076D-8A5E-4418-9C2D-1E35F6461740}" presName="textparent_2" presStyleLbl="node1" presStyleIdx="0" presStyleCnt="0"/>
      <dgm:spPr/>
    </dgm:pt>
    <dgm:pt modelId="{437AC08E-8CA9-492F-A236-0085F60B2C71}" type="pres">
      <dgm:prSet presAssocID="{BD8B076D-8A5E-4418-9C2D-1E35F6461740}" presName="text_2" presStyleLbl="revTx" presStyleIdx="0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6B91A13-EFA2-4239-BFFC-537BF8168914}" type="pres">
      <dgm:prSet presAssocID="{69C0090F-0305-4BB4-861A-FD47E436C829}" presName="picture_3" presStyleCnt="0"/>
      <dgm:spPr/>
    </dgm:pt>
    <dgm:pt modelId="{43646E56-54F4-4F06-AC6F-C12B41809DF8}" type="pres">
      <dgm:prSet presAssocID="{69C0090F-0305-4BB4-861A-FD47E436C829}" presName="pictureRepeatNode" presStyleLbl="alignImgPlace1" presStyleIdx="2" presStyleCnt="7" custAng="0" custScaleX="290960" custScaleY="212759" custLinFactNeighborX="80297" custLinFactNeighborY="-30495"/>
      <dgm:spPr/>
      <dgm:t>
        <a:bodyPr/>
        <a:lstStyle/>
        <a:p>
          <a:endParaRPr lang="ru-RU"/>
        </a:p>
      </dgm:t>
    </dgm:pt>
    <dgm:pt modelId="{505C13D2-4101-41EA-B724-E223569D96B3}" type="pres">
      <dgm:prSet presAssocID="{BFCC5203-1AB5-4BF9-918D-4D61AAD74DD5}" presName="line_3" presStyleLbl="parChTrans1D1" presStyleIdx="1" presStyleCnt="6"/>
      <dgm:spPr/>
    </dgm:pt>
    <dgm:pt modelId="{A67F085F-744D-4C5B-95F3-5D9EDE779090}" type="pres">
      <dgm:prSet presAssocID="{BFCC5203-1AB5-4BF9-918D-4D61AAD74DD5}" presName="textparent_3" presStyleLbl="node1" presStyleIdx="0" presStyleCnt="0"/>
      <dgm:spPr/>
    </dgm:pt>
    <dgm:pt modelId="{990191C9-86E1-4597-B1A3-799700746ADB}" type="pres">
      <dgm:prSet presAssocID="{BFCC5203-1AB5-4BF9-918D-4D61AAD74DD5}" presName="text_3" presStyleLbl="revTx" presStyleIdx="1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1131889-D2F0-4BAA-A5DC-5CE445F97D0E}" type="pres">
      <dgm:prSet presAssocID="{074C9CBE-26D5-490B-8484-1D28CEB36A05}" presName="picture_4" presStyleCnt="0"/>
      <dgm:spPr/>
    </dgm:pt>
    <dgm:pt modelId="{52041963-1603-48A0-A443-A8B9FA7CA71B}" type="pres">
      <dgm:prSet presAssocID="{074C9CBE-26D5-490B-8484-1D28CEB36A05}" presName="pictureRepeatNode" presStyleLbl="alignImgPlace1" presStyleIdx="3" presStyleCnt="7" custScaleX="279762" custScaleY="190945" custLinFactX="17850" custLinFactNeighborX="100000" custLinFactNeighborY="20684"/>
      <dgm:spPr/>
      <dgm:t>
        <a:bodyPr/>
        <a:lstStyle/>
        <a:p>
          <a:endParaRPr lang="ru-RU"/>
        </a:p>
      </dgm:t>
    </dgm:pt>
    <dgm:pt modelId="{69A4956B-C547-4942-A1CC-0DF1AFB01DAA}" type="pres">
      <dgm:prSet presAssocID="{FABCD5B3-22FE-473B-A8E0-FCF2229E41FD}" presName="line_4" presStyleLbl="parChTrans1D1" presStyleIdx="2" presStyleCnt="6"/>
      <dgm:spPr/>
    </dgm:pt>
    <dgm:pt modelId="{B9AD68B5-E5E0-4F9D-9B3C-048ED049194E}" type="pres">
      <dgm:prSet presAssocID="{FABCD5B3-22FE-473B-A8E0-FCF2229E41FD}" presName="textparent_4" presStyleLbl="node1" presStyleIdx="0" presStyleCnt="0"/>
      <dgm:spPr/>
    </dgm:pt>
    <dgm:pt modelId="{BE0931BD-19FD-4C02-AEDA-D68628359938}" type="pres">
      <dgm:prSet presAssocID="{FABCD5B3-22FE-473B-A8E0-FCF2229E41FD}" presName="text_4" presStyleLbl="revTx" presStyleIdx="2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0582924-A1A7-44E3-A2E2-FEF6A854195C}" type="pres">
      <dgm:prSet presAssocID="{678D0476-D87F-4682-B6B9-954B0AA8BFCE}" presName="picture_5" presStyleCnt="0"/>
      <dgm:spPr/>
    </dgm:pt>
    <dgm:pt modelId="{CF93CA7A-AA0B-4307-B279-DEF983624862}" type="pres">
      <dgm:prSet presAssocID="{678D0476-D87F-4682-B6B9-954B0AA8BFCE}" presName="pictureRepeatNode" presStyleLbl="alignImgPlace1" presStyleIdx="4" presStyleCnt="7" custScaleX="320306" custScaleY="176244" custLinFactX="5023" custLinFactNeighborX="100000" custLinFactNeighborY="21447"/>
      <dgm:spPr/>
      <dgm:t>
        <a:bodyPr/>
        <a:lstStyle/>
        <a:p>
          <a:endParaRPr lang="ru-RU"/>
        </a:p>
      </dgm:t>
    </dgm:pt>
    <dgm:pt modelId="{F887A8B7-4951-4BFC-ABC7-8C1829E8BB5B}" type="pres">
      <dgm:prSet presAssocID="{0B8D0D5F-A198-4BCF-AC1B-12DD943CE04E}" presName="line_5" presStyleLbl="parChTrans1D1" presStyleIdx="3" presStyleCnt="6"/>
      <dgm:spPr/>
    </dgm:pt>
    <dgm:pt modelId="{2B77B469-8B2B-426A-ACAA-3BAF5A19151D}" type="pres">
      <dgm:prSet presAssocID="{0B8D0D5F-A198-4BCF-AC1B-12DD943CE04E}" presName="textparent_5" presStyleLbl="node1" presStyleIdx="0" presStyleCnt="0"/>
      <dgm:spPr/>
    </dgm:pt>
    <dgm:pt modelId="{1CD1352F-C910-429C-9DB4-74CD8488EA5B}" type="pres">
      <dgm:prSet presAssocID="{0B8D0D5F-A198-4BCF-AC1B-12DD943CE04E}" presName="text_5" presStyleLbl="revTx" presStyleIdx="3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7D814A-C1FA-4702-92C8-10299EAF78B4}" type="pres">
      <dgm:prSet presAssocID="{E43DEA44-32BC-40C7-B597-D472AB63FBAD}" presName="picture_6" presStyleCnt="0"/>
      <dgm:spPr/>
    </dgm:pt>
    <dgm:pt modelId="{660C0F8E-D16D-4DE6-8262-70E7EEC705EE}" type="pres">
      <dgm:prSet presAssocID="{E43DEA44-32BC-40C7-B597-D472AB63FBAD}" presName="pictureRepeatNode" presStyleLbl="alignImgPlace1" presStyleIdx="5" presStyleCnt="7" custScaleX="388740" custScaleY="172203" custLinFactNeighborX="63625" custLinFactNeighborY="63731"/>
      <dgm:spPr/>
      <dgm:t>
        <a:bodyPr/>
        <a:lstStyle/>
        <a:p>
          <a:endParaRPr lang="ru-RU"/>
        </a:p>
      </dgm:t>
    </dgm:pt>
    <dgm:pt modelId="{31593E6D-AFCE-4FFC-A0E5-65B587C17B87}" type="pres">
      <dgm:prSet presAssocID="{49CD1252-6C62-4433-A8BB-89AE49D6BD15}" presName="line_6" presStyleLbl="parChTrans1D1" presStyleIdx="4" presStyleCnt="6" custFlipVert="0" custSzY="432048" custScaleX="91658" custLinFactY="300000" custLinFactNeighborX="4022" custLinFactNeighborY="312142"/>
      <dgm:spPr/>
    </dgm:pt>
    <dgm:pt modelId="{602B7480-8497-4D80-8FA5-EEE449B02916}" type="pres">
      <dgm:prSet presAssocID="{49CD1252-6C62-4433-A8BB-89AE49D6BD15}" presName="textparent_6" presStyleLbl="node1" presStyleIdx="0" presStyleCnt="0"/>
      <dgm:spPr/>
    </dgm:pt>
    <dgm:pt modelId="{411C903D-C0F6-435A-8509-AB1BB12DE9DF}" type="pres">
      <dgm:prSet presAssocID="{49CD1252-6C62-4433-A8BB-89AE49D6BD15}" presName="text_6" presStyleLbl="revTx" presStyleIdx="4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85BC1E0-C8F2-43B0-9DEB-7C36544F5601}" type="pres">
      <dgm:prSet presAssocID="{813A18FB-3F26-4070-B882-C0D1B62EE6A2}" presName="picture_7" presStyleCnt="0"/>
      <dgm:spPr/>
    </dgm:pt>
    <dgm:pt modelId="{4983A928-C645-4C95-92A9-768D0C0625C0}" type="pres">
      <dgm:prSet presAssocID="{813A18FB-3F26-4070-B882-C0D1B62EE6A2}" presName="pictureRepeatNode" presStyleLbl="alignImgPlace1" presStyleIdx="6" presStyleCnt="7" custScaleX="346242" custScaleY="204812" custLinFactY="50461" custLinFactNeighborX="20107" custLinFactNeighborY="100000"/>
      <dgm:spPr/>
      <dgm:t>
        <a:bodyPr/>
        <a:lstStyle/>
        <a:p>
          <a:endParaRPr lang="ru-RU"/>
        </a:p>
      </dgm:t>
    </dgm:pt>
    <dgm:pt modelId="{8A836402-A9E5-4D20-8E11-61866CE1EA96}" type="pres">
      <dgm:prSet presAssocID="{A6DB0EDA-E3DE-46EE-9B54-D013398A994A}" presName="line_7" presStyleLbl="parChTrans1D1" presStyleIdx="5" presStyleCnt="6" custSzY="1008112" custScaleX="98797" custLinFactY="704747" custLinFactNeighborX="1986" custLinFactNeighborY="800000"/>
      <dgm:spPr/>
    </dgm:pt>
    <dgm:pt modelId="{C00CA9C1-1DC4-433A-A91A-071297889970}" type="pres">
      <dgm:prSet presAssocID="{A6DB0EDA-E3DE-46EE-9B54-D013398A994A}" presName="textparent_7" presStyleLbl="node1" presStyleIdx="0" presStyleCnt="0"/>
      <dgm:spPr/>
    </dgm:pt>
    <dgm:pt modelId="{779375D4-BBE9-4F82-9A93-D931A866A491}" type="pres">
      <dgm:prSet presAssocID="{A6DB0EDA-E3DE-46EE-9B54-D013398A994A}" presName="text_7" presStyleLbl="revTx" presStyleIdx="5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0C0D338-23C1-4A4E-892A-ABF6226B1A0C}" type="presOf" srcId="{678D0476-D87F-4682-B6B9-954B0AA8BFCE}" destId="{CF93CA7A-AA0B-4307-B279-DEF983624862}" srcOrd="0" destOrd="0" presId="urn:microsoft.com/office/officeart/2008/layout/CircularPictureCallout"/>
    <dgm:cxn modelId="{492E2A94-BA17-4AC5-9EFF-C34B4FC6037A}" type="presOf" srcId="{ED044430-B7C5-43B4-B2B0-29F461B79E1A}" destId="{663FBE92-1F36-4E1D-8F70-E755B5265BE7}" srcOrd="0" destOrd="0" presId="urn:microsoft.com/office/officeart/2008/layout/CircularPictureCallout"/>
    <dgm:cxn modelId="{3E2C1614-78CD-4B85-AEBF-929F95333D86}" type="presOf" srcId="{69C0090F-0305-4BB4-861A-FD47E436C829}" destId="{43646E56-54F4-4F06-AC6F-C12B41809DF8}" srcOrd="0" destOrd="0" presId="urn:microsoft.com/office/officeart/2008/layout/CircularPictureCallout"/>
    <dgm:cxn modelId="{2BCACBB4-2EC4-49CD-A863-12E890ED269A}" type="presOf" srcId="{FABCD5B3-22FE-473B-A8E0-FCF2229E41FD}" destId="{BE0931BD-19FD-4C02-AEDA-D68628359938}" srcOrd="0" destOrd="0" presId="urn:microsoft.com/office/officeart/2008/layout/CircularPictureCallout"/>
    <dgm:cxn modelId="{33777A33-858A-4EC6-9FCC-936A581E9037}" srcId="{14EDB8C7-FF41-46BD-BDD0-C2BBC234261D}" destId="{EB6D7C75-2FFF-4505-9051-40F671FC5600}" srcOrd="7" destOrd="0" parTransId="{0BB269DF-A011-4142-94F7-1B53699D7D63}" sibTransId="{6004077C-0922-4928-9CDD-298F8C1F9FD1}"/>
    <dgm:cxn modelId="{E10B2B05-B866-4E0B-A9A8-5586A4F15EC8}" type="presOf" srcId="{BD8B076D-8A5E-4418-9C2D-1E35F6461740}" destId="{437AC08E-8CA9-492F-A236-0085F60B2C71}" srcOrd="0" destOrd="0" presId="urn:microsoft.com/office/officeart/2008/layout/CircularPictureCallout"/>
    <dgm:cxn modelId="{953F3236-8463-4910-B751-77A19417E620}" type="presOf" srcId="{813A18FB-3F26-4070-B882-C0D1B62EE6A2}" destId="{4983A928-C645-4C95-92A9-768D0C0625C0}" srcOrd="0" destOrd="0" presId="urn:microsoft.com/office/officeart/2008/layout/CircularPictureCallout"/>
    <dgm:cxn modelId="{C97A2388-C7B3-4699-B460-A34F07E071B7}" srcId="{14EDB8C7-FF41-46BD-BDD0-C2BBC234261D}" destId="{FABCD5B3-22FE-473B-A8E0-FCF2229E41FD}" srcOrd="3" destOrd="0" parTransId="{C830EE5F-82BB-42BE-87CD-7207F8CD3524}" sibTransId="{074C9CBE-26D5-490B-8484-1D28CEB36A05}"/>
    <dgm:cxn modelId="{86F2F0AE-C295-467E-8625-B1D2C78C5E70}" srcId="{14EDB8C7-FF41-46BD-BDD0-C2BBC234261D}" destId="{0B8D0D5F-A198-4BCF-AC1B-12DD943CE04E}" srcOrd="4" destOrd="0" parTransId="{497A4508-E64E-4D12-AFB4-BBDA739F9709}" sibTransId="{678D0476-D87F-4682-B6B9-954B0AA8BFCE}"/>
    <dgm:cxn modelId="{A6E78266-3291-4478-8CD7-ADD2BF88DB7C}" type="presOf" srcId="{C265BA65-1819-4525-9067-B36722F3724A}" destId="{C8BA4CCA-9322-4195-8DFC-3D8658FFBB04}" srcOrd="0" destOrd="0" presId="urn:microsoft.com/office/officeart/2008/layout/CircularPictureCallout"/>
    <dgm:cxn modelId="{0BB1F7B3-BBD8-4FAD-83E9-DC42F01CE0BF}" type="presOf" srcId="{BFCC5203-1AB5-4BF9-918D-4D61AAD74DD5}" destId="{990191C9-86E1-4597-B1A3-799700746ADB}" srcOrd="0" destOrd="0" presId="urn:microsoft.com/office/officeart/2008/layout/CircularPictureCallout"/>
    <dgm:cxn modelId="{A4909D68-AD90-4FDF-9A53-3846B91BA7B3}" srcId="{14EDB8C7-FF41-46BD-BDD0-C2BBC234261D}" destId="{BFCC5203-1AB5-4BF9-918D-4D61AAD74DD5}" srcOrd="2" destOrd="0" parTransId="{8259062F-3597-4A35-9854-87E02C0E3AC5}" sibTransId="{69C0090F-0305-4BB4-861A-FD47E436C829}"/>
    <dgm:cxn modelId="{47AD7E8D-FCA5-4340-95A1-FF83794CBA94}" srcId="{14EDB8C7-FF41-46BD-BDD0-C2BBC234261D}" destId="{BCC78BEC-9F42-4086-A294-9F8483F9E029}" srcOrd="0" destOrd="0" parTransId="{545A03A8-232D-44B0-B2C0-BAA2B3AAA1A9}" sibTransId="{C265BA65-1819-4525-9067-B36722F3724A}"/>
    <dgm:cxn modelId="{9D1B2BE2-6134-41DF-A401-85D0E40F7D10}" type="presOf" srcId="{E43DEA44-32BC-40C7-B597-D472AB63FBAD}" destId="{660C0F8E-D16D-4DE6-8262-70E7EEC705EE}" srcOrd="0" destOrd="0" presId="urn:microsoft.com/office/officeart/2008/layout/CircularPictureCallout"/>
    <dgm:cxn modelId="{1E1AA54E-346D-46EA-A926-D98CAB5F6A43}" type="presOf" srcId="{BCC78BEC-9F42-4086-A294-9F8483F9E029}" destId="{F16AA760-CA04-4C44-9268-8434089F1D93}" srcOrd="0" destOrd="0" presId="urn:microsoft.com/office/officeart/2008/layout/CircularPictureCallout"/>
    <dgm:cxn modelId="{9D9A1130-7ED8-485E-ACDD-556579F83CFF}" type="presOf" srcId="{074C9CBE-26D5-490B-8484-1D28CEB36A05}" destId="{52041963-1603-48A0-A443-A8B9FA7CA71B}" srcOrd="0" destOrd="0" presId="urn:microsoft.com/office/officeart/2008/layout/CircularPictureCallout"/>
    <dgm:cxn modelId="{4F1C27AB-C9BB-450C-A255-790DC007C1BD}" type="presOf" srcId="{14EDB8C7-FF41-46BD-BDD0-C2BBC234261D}" destId="{B172F067-FC33-43BE-B5BE-965B5014733F}" srcOrd="0" destOrd="0" presId="urn:microsoft.com/office/officeart/2008/layout/CircularPictureCallout"/>
    <dgm:cxn modelId="{FAD593FB-5D75-4586-9551-1096F1FE48E2}" srcId="{14EDB8C7-FF41-46BD-BDD0-C2BBC234261D}" destId="{49CD1252-6C62-4433-A8BB-89AE49D6BD15}" srcOrd="5" destOrd="0" parTransId="{DBF880B4-0017-4591-B1D7-7003C402EF14}" sibTransId="{E43DEA44-32BC-40C7-B597-D472AB63FBAD}"/>
    <dgm:cxn modelId="{627C8925-E803-46F3-850C-58023C6AF2B0}" srcId="{14EDB8C7-FF41-46BD-BDD0-C2BBC234261D}" destId="{A6DB0EDA-E3DE-46EE-9B54-D013398A994A}" srcOrd="6" destOrd="0" parTransId="{685D621B-12E5-4396-9553-B0FF33C89B9F}" sibTransId="{813A18FB-3F26-4070-B882-C0D1B62EE6A2}"/>
    <dgm:cxn modelId="{472ACC69-CE40-4C26-91D9-03E8E72A24CB}" type="presOf" srcId="{0B8D0D5F-A198-4BCF-AC1B-12DD943CE04E}" destId="{1CD1352F-C910-429C-9DB4-74CD8488EA5B}" srcOrd="0" destOrd="0" presId="urn:microsoft.com/office/officeart/2008/layout/CircularPictureCallout"/>
    <dgm:cxn modelId="{57771EB4-F6F5-458C-B7B5-9CFC72C4E9A9}" type="presOf" srcId="{49CD1252-6C62-4433-A8BB-89AE49D6BD15}" destId="{411C903D-C0F6-435A-8509-AB1BB12DE9DF}" srcOrd="0" destOrd="0" presId="urn:microsoft.com/office/officeart/2008/layout/CircularPictureCallout"/>
    <dgm:cxn modelId="{08EF4638-EAF8-4105-90F4-E2714E8A50B7}" type="presOf" srcId="{A6DB0EDA-E3DE-46EE-9B54-D013398A994A}" destId="{779375D4-BBE9-4F82-9A93-D931A866A491}" srcOrd="0" destOrd="0" presId="urn:microsoft.com/office/officeart/2008/layout/CircularPictureCallout"/>
    <dgm:cxn modelId="{5E0C1B56-C7A3-4169-8832-6469E2EF035F}" srcId="{14EDB8C7-FF41-46BD-BDD0-C2BBC234261D}" destId="{BD8B076D-8A5E-4418-9C2D-1E35F6461740}" srcOrd="1" destOrd="0" parTransId="{57904AED-04D3-4CFA-8ED5-9E9725194795}" sibTransId="{ED044430-B7C5-43B4-B2B0-29F461B79E1A}"/>
    <dgm:cxn modelId="{A8F3DB96-C82A-46B0-9AB7-9A10175EE7EF}" type="presParOf" srcId="{B172F067-FC33-43BE-B5BE-965B5014733F}" destId="{5B738FA4-6744-400B-8613-A8B682466071}" srcOrd="0" destOrd="0" presId="urn:microsoft.com/office/officeart/2008/layout/CircularPictureCallout"/>
    <dgm:cxn modelId="{C9AA312A-9C88-4CA4-A614-A6BA5917BC7F}" type="presParOf" srcId="{5B738FA4-6744-400B-8613-A8B682466071}" destId="{A05A5466-B465-49EA-8643-D8F2F6109743}" srcOrd="0" destOrd="0" presId="urn:microsoft.com/office/officeart/2008/layout/CircularPictureCallout"/>
    <dgm:cxn modelId="{91B03949-DEF6-486E-BC31-9C70E45DC82A}" type="presParOf" srcId="{A05A5466-B465-49EA-8643-D8F2F6109743}" destId="{C8BA4CCA-9322-4195-8DFC-3D8658FFBB04}" srcOrd="0" destOrd="0" presId="urn:microsoft.com/office/officeart/2008/layout/CircularPictureCallout"/>
    <dgm:cxn modelId="{800EDC06-62E4-4157-9233-2F97A4E9321B}" type="presParOf" srcId="{5B738FA4-6744-400B-8613-A8B682466071}" destId="{F16AA760-CA04-4C44-9268-8434089F1D93}" srcOrd="1" destOrd="0" presId="urn:microsoft.com/office/officeart/2008/layout/CircularPictureCallout"/>
    <dgm:cxn modelId="{7156F4BA-78BE-4AD5-ACEF-EA141ACDC547}" type="presParOf" srcId="{5B738FA4-6744-400B-8613-A8B682466071}" destId="{3A5785B9-D7FD-4EEF-B4E4-068E4AC135F4}" srcOrd="2" destOrd="0" presId="urn:microsoft.com/office/officeart/2008/layout/CircularPictureCallout"/>
    <dgm:cxn modelId="{C12C0AC0-DDF3-4207-8F77-AAAA462893DE}" type="presParOf" srcId="{3A5785B9-D7FD-4EEF-B4E4-068E4AC135F4}" destId="{663FBE92-1F36-4E1D-8F70-E755B5265BE7}" srcOrd="0" destOrd="0" presId="urn:microsoft.com/office/officeart/2008/layout/CircularPictureCallout"/>
    <dgm:cxn modelId="{3E00800D-0831-4B0E-9261-1ACE68FACAA5}" type="presParOf" srcId="{5B738FA4-6744-400B-8613-A8B682466071}" destId="{42CE2CE8-5273-45F5-A0B0-014657640D92}" srcOrd="3" destOrd="0" presId="urn:microsoft.com/office/officeart/2008/layout/CircularPictureCallout"/>
    <dgm:cxn modelId="{90FA056F-E96F-4BA5-9889-FE70765E7333}" type="presParOf" srcId="{5B738FA4-6744-400B-8613-A8B682466071}" destId="{E4EB210D-6B7C-47C1-A108-258ACAF22EA5}" srcOrd="4" destOrd="0" presId="urn:microsoft.com/office/officeart/2008/layout/CircularPictureCallout"/>
    <dgm:cxn modelId="{4409F0E9-4A7F-45FD-B085-50D04AA47A48}" type="presParOf" srcId="{E4EB210D-6B7C-47C1-A108-258ACAF22EA5}" destId="{437AC08E-8CA9-492F-A236-0085F60B2C71}" srcOrd="0" destOrd="0" presId="urn:microsoft.com/office/officeart/2008/layout/CircularPictureCallout"/>
    <dgm:cxn modelId="{25592588-103C-4922-9E13-485525891E35}" type="presParOf" srcId="{5B738FA4-6744-400B-8613-A8B682466071}" destId="{36B91A13-EFA2-4239-BFFC-537BF8168914}" srcOrd="5" destOrd="0" presId="urn:microsoft.com/office/officeart/2008/layout/CircularPictureCallout"/>
    <dgm:cxn modelId="{934961EB-2754-44CC-91A2-67DA3CCC6E98}" type="presParOf" srcId="{36B91A13-EFA2-4239-BFFC-537BF8168914}" destId="{43646E56-54F4-4F06-AC6F-C12B41809DF8}" srcOrd="0" destOrd="0" presId="urn:microsoft.com/office/officeart/2008/layout/CircularPictureCallout"/>
    <dgm:cxn modelId="{DC67B489-A393-4582-AE65-67A25A79A20A}" type="presParOf" srcId="{5B738FA4-6744-400B-8613-A8B682466071}" destId="{505C13D2-4101-41EA-B724-E223569D96B3}" srcOrd="6" destOrd="0" presId="urn:microsoft.com/office/officeart/2008/layout/CircularPictureCallout"/>
    <dgm:cxn modelId="{77B8F67E-D31F-4EFC-8024-B9AA8E4223A6}" type="presParOf" srcId="{5B738FA4-6744-400B-8613-A8B682466071}" destId="{A67F085F-744D-4C5B-95F3-5D9EDE779090}" srcOrd="7" destOrd="0" presId="urn:microsoft.com/office/officeart/2008/layout/CircularPictureCallout"/>
    <dgm:cxn modelId="{D829C8CB-DF0B-40BF-B0B5-C4C82291684D}" type="presParOf" srcId="{A67F085F-744D-4C5B-95F3-5D9EDE779090}" destId="{990191C9-86E1-4597-B1A3-799700746ADB}" srcOrd="0" destOrd="0" presId="urn:microsoft.com/office/officeart/2008/layout/CircularPictureCallout"/>
    <dgm:cxn modelId="{2FB1500C-E555-4E05-A5AD-65AE088B7E64}" type="presParOf" srcId="{5B738FA4-6744-400B-8613-A8B682466071}" destId="{31131889-D2F0-4BAA-A5DC-5CE445F97D0E}" srcOrd="8" destOrd="0" presId="urn:microsoft.com/office/officeart/2008/layout/CircularPictureCallout"/>
    <dgm:cxn modelId="{3B358429-B10A-4662-8792-CF32B90E511A}" type="presParOf" srcId="{31131889-D2F0-4BAA-A5DC-5CE445F97D0E}" destId="{52041963-1603-48A0-A443-A8B9FA7CA71B}" srcOrd="0" destOrd="0" presId="urn:microsoft.com/office/officeart/2008/layout/CircularPictureCallout"/>
    <dgm:cxn modelId="{09BFCE2F-CFB1-499C-9DD0-B583E9A0D064}" type="presParOf" srcId="{5B738FA4-6744-400B-8613-A8B682466071}" destId="{69A4956B-C547-4942-A1CC-0DF1AFB01DAA}" srcOrd="9" destOrd="0" presId="urn:microsoft.com/office/officeart/2008/layout/CircularPictureCallout"/>
    <dgm:cxn modelId="{A46EB660-8C31-4FF7-AA41-9FA55187A7C5}" type="presParOf" srcId="{5B738FA4-6744-400B-8613-A8B682466071}" destId="{B9AD68B5-E5E0-4F9D-9B3C-048ED049194E}" srcOrd="10" destOrd="0" presId="urn:microsoft.com/office/officeart/2008/layout/CircularPictureCallout"/>
    <dgm:cxn modelId="{C9FB5150-F784-41BC-B2CD-CF2615D0736E}" type="presParOf" srcId="{B9AD68B5-E5E0-4F9D-9B3C-048ED049194E}" destId="{BE0931BD-19FD-4C02-AEDA-D68628359938}" srcOrd="0" destOrd="0" presId="urn:microsoft.com/office/officeart/2008/layout/CircularPictureCallout"/>
    <dgm:cxn modelId="{91963F39-AA38-4B9D-B8A6-D3C01614DA47}" type="presParOf" srcId="{5B738FA4-6744-400B-8613-A8B682466071}" destId="{90582924-A1A7-44E3-A2E2-FEF6A854195C}" srcOrd="11" destOrd="0" presId="urn:microsoft.com/office/officeart/2008/layout/CircularPictureCallout"/>
    <dgm:cxn modelId="{116B8E86-E8B4-4650-8019-AA2AE379E1A2}" type="presParOf" srcId="{90582924-A1A7-44E3-A2E2-FEF6A854195C}" destId="{CF93CA7A-AA0B-4307-B279-DEF983624862}" srcOrd="0" destOrd="0" presId="urn:microsoft.com/office/officeart/2008/layout/CircularPictureCallout"/>
    <dgm:cxn modelId="{E1D802CF-AA83-469A-A48F-DDC9B4607E3D}" type="presParOf" srcId="{5B738FA4-6744-400B-8613-A8B682466071}" destId="{F887A8B7-4951-4BFC-ABC7-8C1829E8BB5B}" srcOrd="12" destOrd="0" presId="urn:microsoft.com/office/officeart/2008/layout/CircularPictureCallout"/>
    <dgm:cxn modelId="{256B9285-FFA9-4492-9C21-026012B05574}" type="presParOf" srcId="{5B738FA4-6744-400B-8613-A8B682466071}" destId="{2B77B469-8B2B-426A-ACAA-3BAF5A19151D}" srcOrd="13" destOrd="0" presId="urn:microsoft.com/office/officeart/2008/layout/CircularPictureCallout"/>
    <dgm:cxn modelId="{B7D0F518-EC7C-4350-B1DA-EF338C86D5E6}" type="presParOf" srcId="{2B77B469-8B2B-426A-ACAA-3BAF5A19151D}" destId="{1CD1352F-C910-429C-9DB4-74CD8488EA5B}" srcOrd="0" destOrd="0" presId="urn:microsoft.com/office/officeart/2008/layout/CircularPictureCallout"/>
    <dgm:cxn modelId="{C63120BB-1A2B-4F69-862C-63839E5FFBC3}" type="presParOf" srcId="{5B738FA4-6744-400B-8613-A8B682466071}" destId="{9F7D814A-C1FA-4702-92C8-10299EAF78B4}" srcOrd="14" destOrd="0" presId="urn:microsoft.com/office/officeart/2008/layout/CircularPictureCallout"/>
    <dgm:cxn modelId="{05E49844-68F0-4368-83E9-72036879663C}" type="presParOf" srcId="{9F7D814A-C1FA-4702-92C8-10299EAF78B4}" destId="{660C0F8E-D16D-4DE6-8262-70E7EEC705EE}" srcOrd="0" destOrd="0" presId="urn:microsoft.com/office/officeart/2008/layout/CircularPictureCallout"/>
    <dgm:cxn modelId="{B1F105FD-EBC8-4B68-961D-812E4A203305}" type="presParOf" srcId="{5B738FA4-6744-400B-8613-A8B682466071}" destId="{31593E6D-AFCE-4FFC-A0E5-65B587C17B87}" srcOrd="15" destOrd="0" presId="urn:microsoft.com/office/officeart/2008/layout/CircularPictureCallout"/>
    <dgm:cxn modelId="{236E6FF5-3011-4147-9D5C-37E932139EBE}" type="presParOf" srcId="{5B738FA4-6744-400B-8613-A8B682466071}" destId="{602B7480-8497-4D80-8FA5-EEE449B02916}" srcOrd="16" destOrd="0" presId="urn:microsoft.com/office/officeart/2008/layout/CircularPictureCallout"/>
    <dgm:cxn modelId="{72345320-63CC-4218-B227-DB5C812137C4}" type="presParOf" srcId="{602B7480-8497-4D80-8FA5-EEE449B02916}" destId="{411C903D-C0F6-435A-8509-AB1BB12DE9DF}" srcOrd="0" destOrd="0" presId="urn:microsoft.com/office/officeart/2008/layout/CircularPictureCallout"/>
    <dgm:cxn modelId="{2EF398CD-3AA0-4F8A-845B-83B74A05BC75}" type="presParOf" srcId="{5B738FA4-6744-400B-8613-A8B682466071}" destId="{B85BC1E0-C8F2-43B0-9DEB-7C36544F5601}" srcOrd="17" destOrd="0" presId="urn:microsoft.com/office/officeart/2008/layout/CircularPictureCallout"/>
    <dgm:cxn modelId="{EC77EDAF-0CA3-4B76-B7CF-F6A881F2A80D}" type="presParOf" srcId="{B85BC1E0-C8F2-43B0-9DEB-7C36544F5601}" destId="{4983A928-C645-4C95-92A9-768D0C0625C0}" srcOrd="0" destOrd="0" presId="urn:microsoft.com/office/officeart/2008/layout/CircularPictureCallout"/>
    <dgm:cxn modelId="{DC352BF1-00E7-4BC8-B30C-218E1E90284E}" type="presParOf" srcId="{5B738FA4-6744-400B-8613-A8B682466071}" destId="{8A836402-A9E5-4D20-8E11-61866CE1EA96}" srcOrd="18" destOrd="0" presId="urn:microsoft.com/office/officeart/2008/layout/CircularPictureCallout"/>
    <dgm:cxn modelId="{43777EAF-2709-4E39-A4D3-E2E24422EFAE}" type="presParOf" srcId="{5B738FA4-6744-400B-8613-A8B682466071}" destId="{C00CA9C1-1DC4-433A-A91A-071297889970}" srcOrd="19" destOrd="0" presId="urn:microsoft.com/office/officeart/2008/layout/CircularPictureCallout"/>
    <dgm:cxn modelId="{D65CDCA7-AB14-423B-ACFD-25F350A32721}" type="presParOf" srcId="{C00CA9C1-1DC4-433A-A91A-071297889970}" destId="{779375D4-BBE9-4F82-9A93-D931A866A491}" srcOrd="0" destOrd="0" presId="urn:microsoft.com/office/officeart/2008/layout/CircularPictureCallou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18917BB-733A-4F9F-A6A1-BD33CC040283}">
      <dsp:nvSpPr>
        <dsp:cNvPr id="0" name=""/>
        <dsp:cNvSpPr/>
      </dsp:nvSpPr>
      <dsp:spPr>
        <a:xfrm>
          <a:off x="-6964248" y="-1152529"/>
          <a:ext cx="8974419" cy="8974419"/>
        </a:xfrm>
        <a:prstGeom prst="blockArc">
          <a:avLst>
            <a:gd name="adj1" fmla="val 18900000"/>
            <a:gd name="adj2" fmla="val 2700000"/>
            <a:gd name="adj3" fmla="val 241"/>
          </a:avLst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67C7283-F86D-4013-82A7-CF7C0C95C03A}">
      <dsp:nvSpPr>
        <dsp:cNvPr id="0" name=""/>
        <dsp:cNvSpPr/>
      </dsp:nvSpPr>
      <dsp:spPr>
        <a:xfrm>
          <a:off x="2555332" y="527746"/>
          <a:ext cx="6301651" cy="1333872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58761" tIns="45720" rIns="45720" bIns="4572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800" kern="1200" dirty="0"/>
        </a:p>
      </dsp:txBody>
      <dsp:txXfrm>
        <a:off x="2555332" y="527746"/>
        <a:ext cx="6301651" cy="1333872"/>
      </dsp:txXfrm>
    </dsp:sp>
    <dsp:sp modelId="{2421F965-0936-4A65-B89F-C84F6DC06037}">
      <dsp:nvSpPr>
        <dsp:cNvPr id="0" name=""/>
        <dsp:cNvSpPr/>
      </dsp:nvSpPr>
      <dsp:spPr>
        <a:xfrm>
          <a:off x="0" y="17048"/>
          <a:ext cx="2866791" cy="23319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A58123F7-F942-47CE-A37A-A59EF45E5B90}">
      <dsp:nvSpPr>
        <dsp:cNvPr id="0" name=""/>
        <dsp:cNvSpPr/>
      </dsp:nvSpPr>
      <dsp:spPr>
        <a:xfrm>
          <a:off x="2596938" y="2765049"/>
          <a:ext cx="6260045" cy="1333872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58761" tIns="45720" rIns="45720" bIns="4572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-</a:t>
          </a:r>
          <a:endParaRPr lang="ru-RU" sz="1800" kern="1200" dirty="0"/>
        </a:p>
      </dsp:txBody>
      <dsp:txXfrm>
        <a:off x="2596938" y="2765049"/>
        <a:ext cx="6260045" cy="1333872"/>
      </dsp:txXfrm>
    </dsp:sp>
    <dsp:sp modelId="{BB7B9A50-9324-428D-9507-6C601CDC9EEA}">
      <dsp:nvSpPr>
        <dsp:cNvPr id="0" name=""/>
        <dsp:cNvSpPr/>
      </dsp:nvSpPr>
      <dsp:spPr>
        <a:xfrm>
          <a:off x="92084" y="2056722"/>
          <a:ext cx="2742040" cy="24368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E6C60C6-2767-4DAA-BEE3-985CA019083F}">
      <dsp:nvSpPr>
        <dsp:cNvPr id="0" name=""/>
        <dsp:cNvSpPr/>
      </dsp:nvSpPr>
      <dsp:spPr>
        <a:xfrm>
          <a:off x="2337323" y="4699651"/>
          <a:ext cx="6519660" cy="129715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58761" tIns="165100" rIns="165100" bIns="165100" numCol="1" spcCol="1270" anchor="ctr" anchorCtr="0">
          <a:noAutofit/>
        </a:bodyPr>
        <a:lstStyle/>
        <a:p>
          <a:pPr lvl="0" algn="l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6500" kern="1200" dirty="0"/>
        </a:p>
      </dsp:txBody>
      <dsp:txXfrm>
        <a:off x="2337323" y="4699651"/>
        <a:ext cx="6519660" cy="1297150"/>
      </dsp:txXfrm>
    </dsp:sp>
    <dsp:sp modelId="{4695F0D2-80DA-4E84-9266-DA9D29B408A0}">
      <dsp:nvSpPr>
        <dsp:cNvPr id="0" name=""/>
        <dsp:cNvSpPr/>
      </dsp:nvSpPr>
      <dsp:spPr>
        <a:xfrm>
          <a:off x="0" y="4333550"/>
          <a:ext cx="2725233" cy="2318836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3FF34F8-1C66-4CAF-8AE5-0C084B5D3295}">
      <dsp:nvSpPr>
        <dsp:cNvPr id="0" name=""/>
        <dsp:cNvSpPr/>
      </dsp:nvSpPr>
      <dsp:spPr>
        <a:xfrm>
          <a:off x="0" y="0"/>
          <a:ext cx="9721079" cy="205740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247650" rIns="247650" bIns="247650" numCol="1" spcCol="1270" anchor="ctr" anchorCtr="0">
          <a:noAutofit/>
        </a:bodyPr>
        <a:lstStyle/>
        <a:p>
          <a:pPr lvl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6500" b="1" kern="1200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Первые трудности</a:t>
          </a:r>
          <a:endParaRPr lang="ru-RU" sz="6500" b="1" kern="1200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0" y="0"/>
        <a:ext cx="9721079" cy="2057400"/>
      </dsp:txXfrm>
    </dsp:sp>
    <dsp:sp modelId="{7F10753E-6FB0-46A7-AC8C-B05F1DF52977}">
      <dsp:nvSpPr>
        <dsp:cNvPr id="0" name=""/>
        <dsp:cNvSpPr/>
      </dsp:nvSpPr>
      <dsp:spPr>
        <a:xfrm>
          <a:off x="4" y="2045086"/>
          <a:ext cx="2254552" cy="432054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83820" bIns="8382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b="1" kern="1200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Неуспеваемость</a:t>
          </a:r>
          <a:endParaRPr lang="ru-RU" sz="2200" b="1" kern="1200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4" y="2045086"/>
        <a:ext cx="2254552" cy="4320540"/>
      </dsp:txXfrm>
    </dsp:sp>
    <dsp:sp modelId="{EC3C5283-786F-4C7F-B778-8E5D1CFC308F}">
      <dsp:nvSpPr>
        <dsp:cNvPr id="0" name=""/>
        <dsp:cNvSpPr/>
      </dsp:nvSpPr>
      <dsp:spPr>
        <a:xfrm>
          <a:off x="2279043" y="2045086"/>
          <a:ext cx="1751503" cy="432054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83820" bIns="8382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b="1" kern="1200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Негативизм</a:t>
          </a:r>
          <a:endParaRPr lang="ru-RU" sz="2200" b="1" kern="1200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2279043" y="2045086"/>
        <a:ext cx="1751503" cy="4320540"/>
      </dsp:txXfrm>
    </dsp:sp>
    <dsp:sp modelId="{EC99E6C7-6174-4A47-8F05-6EAD4745A4A3}">
      <dsp:nvSpPr>
        <dsp:cNvPr id="0" name=""/>
        <dsp:cNvSpPr/>
      </dsp:nvSpPr>
      <dsp:spPr>
        <a:xfrm>
          <a:off x="3989841" y="2045086"/>
          <a:ext cx="1395089" cy="432054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83820" bIns="8382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b="1" kern="1200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Лень</a:t>
          </a:r>
          <a:endParaRPr lang="ru-RU" sz="2200" b="1" kern="1200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3989841" y="2045086"/>
        <a:ext cx="1395089" cy="4320540"/>
      </dsp:txXfrm>
    </dsp:sp>
    <dsp:sp modelId="{1893721F-589D-4B10-BFB8-17ADA44A2EB5}">
      <dsp:nvSpPr>
        <dsp:cNvPr id="0" name=""/>
        <dsp:cNvSpPr/>
      </dsp:nvSpPr>
      <dsp:spPr>
        <a:xfrm>
          <a:off x="5400607" y="2060856"/>
          <a:ext cx="2563272" cy="432054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Демонстративность</a:t>
          </a:r>
          <a:endParaRPr lang="ru-RU" sz="2000" b="1" kern="1200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5400607" y="2060856"/>
        <a:ext cx="2563272" cy="4320540"/>
      </dsp:txXfrm>
    </dsp:sp>
    <dsp:sp modelId="{59D1F586-19D9-4254-AAE2-305A9BB10572}">
      <dsp:nvSpPr>
        <dsp:cNvPr id="0" name=""/>
        <dsp:cNvSpPr/>
      </dsp:nvSpPr>
      <dsp:spPr>
        <a:xfrm>
          <a:off x="7966997" y="2057400"/>
          <a:ext cx="1751503" cy="432054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3820" tIns="83820" rIns="83820" bIns="8382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b="1" kern="1200" dirty="0" smtClean="0">
              <a:solidFill>
                <a:schemeClr val="accent4">
                  <a:lumMod val="50000"/>
                </a:schemeClr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Нежелание что- то делать</a:t>
          </a:r>
          <a:endParaRPr lang="ru-RU" sz="2200" b="1" kern="1200" dirty="0">
            <a:solidFill>
              <a:schemeClr val="accent4">
                <a:lumMod val="50000"/>
              </a:schemeClr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7966997" y="2057400"/>
        <a:ext cx="1751503" cy="4320540"/>
      </dsp:txXfrm>
    </dsp:sp>
    <dsp:sp modelId="{DD70FB70-CCA2-42CD-8B7F-9264625FAAD5}">
      <dsp:nvSpPr>
        <dsp:cNvPr id="0" name=""/>
        <dsp:cNvSpPr/>
      </dsp:nvSpPr>
      <dsp:spPr>
        <a:xfrm>
          <a:off x="0" y="6377940"/>
          <a:ext cx="9721079" cy="480060"/>
        </a:xfrm>
        <a:prstGeom prst="rect">
          <a:avLst/>
        </a:prstGeom>
        <a:solidFill>
          <a:schemeClr val="accent1">
            <a:lumMod val="60000"/>
            <a:lumOff val="4000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A836402-A9E5-4D20-8E11-61866CE1EA96}">
      <dsp:nvSpPr>
        <dsp:cNvPr id="0" name=""/>
        <dsp:cNvSpPr/>
      </dsp:nvSpPr>
      <dsp:spPr>
        <a:xfrm>
          <a:off x="2903444" y="5386908"/>
          <a:ext cx="4514335" cy="1008112"/>
        </a:xfrm>
        <a:prstGeom prst="line">
          <a:avLst/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flat" dir="t"/>
        </a:scene3d>
        <a:sp3d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1593E6D-AFCE-4FFC-A0E5-65B587C17B87}">
      <dsp:nvSpPr>
        <dsp:cNvPr id="0" name=""/>
        <dsp:cNvSpPr/>
      </dsp:nvSpPr>
      <dsp:spPr>
        <a:xfrm>
          <a:off x="3105345" y="4666828"/>
          <a:ext cx="3581427" cy="432048"/>
        </a:xfrm>
        <a:prstGeom prst="line">
          <a:avLst/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flat" dir="t"/>
        </a:scene3d>
        <a:sp3d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887A8B7-4951-4BFC-ABC7-8C1829E8BB5B}">
      <dsp:nvSpPr>
        <dsp:cNvPr id="0" name=""/>
        <dsp:cNvSpPr/>
      </dsp:nvSpPr>
      <dsp:spPr>
        <a:xfrm>
          <a:off x="2785214" y="3858233"/>
          <a:ext cx="3546824" cy="0"/>
        </a:xfrm>
        <a:prstGeom prst="line">
          <a:avLst/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flat" dir="t"/>
        </a:scene3d>
        <a:sp3d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9A4956B-C547-4942-A1CC-0DF1AFB01DAA}">
      <dsp:nvSpPr>
        <dsp:cNvPr id="0" name=""/>
        <dsp:cNvSpPr/>
      </dsp:nvSpPr>
      <dsp:spPr>
        <a:xfrm>
          <a:off x="2785214" y="2999766"/>
          <a:ext cx="3546824" cy="0"/>
        </a:xfrm>
        <a:prstGeom prst="line">
          <a:avLst/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flat" dir="t"/>
        </a:scene3d>
        <a:sp3d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05C13D2-4101-41EA-B724-E223569D96B3}">
      <dsp:nvSpPr>
        <dsp:cNvPr id="0" name=""/>
        <dsp:cNvSpPr/>
      </dsp:nvSpPr>
      <dsp:spPr>
        <a:xfrm>
          <a:off x="2785214" y="2195518"/>
          <a:ext cx="3907380" cy="0"/>
        </a:xfrm>
        <a:prstGeom prst="line">
          <a:avLst/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flat" dir="t"/>
        </a:scene3d>
        <a:sp3d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2CE2CE8-5273-45F5-A0B0-014657640D92}">
      <dsp:nvSpPr>
        <dsp:cNvPr id="0" name=""/>
        <dsp:cNvSpPr/>
      </dsp:nvSpPr>
      <dsp:spPr>
        <a:xfrm flipV="1">
          <a:off x="3272484" y="695802"/>
          <a:ext cx="3849273" cy="1296144"/>
        </a:xfrm>
        <a:prstGeom prst="line">
          <a:avLst/>
        </a:pr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flat" dir="t"/>
        </a:scene3d>
        <a:sp3d prstMaterial="matte"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8BA4CCA-9322-4195-8DFC-3D8658FFBB04}">
      <dsp:nvSpPr>
        <dsp:cNvPr id="0" name=""/>
        <dsp:cNvSpPr/>
      </dsp:nvSpPr>
      <dsp:spPr>
        <a:xfrm>
          <a:off x="0" y="286174"/>
          <a:ext cx="4553083" cy="5306185"/>
        </a:xfrm>
        <a:prstGeom prst="ellipse">
          <a:avLst/>
        </a:prstGeom>
        <a:solidFill>
          <a:schemeClr val="accent1">
            <a:lumMod val="60000"/>
            <a:lumOff val="4000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F16AA760-CA04-4C44-9268-8434089F1D93}">
      <dsp:nvSpPr>
        <dsp:cNvPr id="0" name=""/>
        <dsp:cNvSpPr/>
      </dsp:nvSpPr>
      <dsp:spPr>
        <a:xfrm>
          <a:off x="1339374" y="3569065"/>
          <a:ext cx="2891678" cy="1491021"/>
        </a:xfrm>
        <a:prstGeom prst="rect">
          <a:avLst/>
        </a:prstGeom>
        <a:noFill/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b" anchorCtr="0">
          <a:noAutofit/>
        </a:bodyPr>
        <a:lstStyle/>
        <a:p>
          <a:pPr lvl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6500" kern="1200"/>
        </a:p>
      </dsp:txBody>
      <dsp:txXfrm>
        <a:off x="1339374" y="3569065"/>
        <a:ext cx="2891678" cy="1491021"/>
      </dsp:txXfrm>
    </dsp:sp>
    <dsp:sp modelId="{663FBE92-1F36-4E1D-8F70-E755B5265BE7}">
      <dsp:nvSpPr>
        <dsp:cNvPr id="0" name=""/>
        <dsp:cNvSpPr/>
      </dsp:nvSpPr>
      <dsp:spPr>
        <a:xfrm>
          <a:off x="6254733" y="116631"/>
          <a:ext cx="1902936" cy="1194471"/>
        </a:xfrm>
        <a:prstGeom prst="ellipse">
          <a:avLst/>
        </a:prstGeom>
        <a:solidFill>
          <a:schemeClr val="tx2">
            <a:lumMod val="60000"/>
            <a:lumOff val="4000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437AC08E-8CA9-492F-A236-0085F60B2C71}">
      <dsp:nvSpPr>
        <dsp:cNvPr id="0" name=""/>
        <dsp:cNvSpPr/>
      </dsp:nvSpPr>
      <dsp:spPr>
        <a:xfrm>
          <a:off x="7693386" y="1169875"/>
          <a:ext cx="186919" cy="67773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0" rIns="182880" bIns="0" numCol="1" spcCol="1270" anchor="ctr" anchorCtr="0">
          <a:noAutofit/>
        </a:bodyPr>
        <a:lstStyle/>
        <a:p>
          <a:pPr lvl="0" algn="l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 dirty="0"/>
        </a:p>
      </dsp:txBody>
      <dsp:txXfrm>
        <a:off x="7693386" y="1169875"/>
        <a:ext cx="186919" cy="677737"/>
      </dsp:txXfrm>
    </dsp:sp>
    <dsp:sp modelId="{43646E56-54F4-4F06-AC6F-C12B41809DF8}">
      <dsp:nvSpPr>
        <dsp:cNvPr id="0" name=""/>
        <dsp:cNvSpPr/>
      </dsp:nvSpPr>
      <dsp:spPr>
        <a:xfrm>
          <a:off x="6250825" y="1267868"/>
          <a:ext cx="1971944" cy="1441946"/>
        </a:xfrm>
        <a:prstGeom prst="ellipse">
          <a:avLst/>
        </a:prstGeom>
        <a:solidFill>
          <a:schemeClr val="accent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990191C9-86E1-4597-B1A3-799700746ADB}">
      <dsp:nvSpPr>
        <dsp:cNvPr id="0" name=""/>
        <dsp:cNvSpPr/>
      </dsp:nvSpPr>
      <dsp:spPr>
        <a:xfrm>
          <a:off x="7031463" y="1856649"/>
          <a:ext cx="253112" cy="67773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050" tIns="0" rIns="19050" bIns="0" numCol="1" spcCol="1270" anchor="ctr" anchorCtr="0">
          <a:noAutofit/>
        </a:bodyPr>
        <a:lstStyle/>
        <a:p>
          <a:pPr lvl="0" algn="l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 dirty="0"/>
        </a:p>
      </dsp:txBody>
      <dsp:txXfrm>
        <a:off x="7031463" y="1856649"/>
        <a:ext cx="253112" cy="677737"/>
      </dsp:txXfrm>
    </dsp:sp>
    <dsp:sp modelId="{52041963-1603-48A0-A443-A8B9FA7CA71B}">
      <dsp:nvSpPr>
        <dsp:cNvPr id="0" name=""/>
        <dsp:cNvSpPr/>
      </dsp:nvSpPr>
      <dsp:spPr>
        <a:xfrm>
          <a:off x="6182726" y="2492896"/>
          <a:ext cx="1896051" cy="1294105"/>
        </a:xfrm>
        <a:prstGeom prst="ellipse">
          <a:avLst/>
        </a:prstGeom>
        <a:solidFill>
          <a:schemeClr val="accent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BE0931BD-19FD-4C02-AEDA-D68628359938}">
      <dsp:nvSpPr>
        <dsp:cNvPr id="0" name=""/>
        <dsp:cNvSpPr/>
      </dsp:nvSpPr>
      <dsp:spPr>
        <a:xfrm>
          <a:off x="6670907" y="2660897"/>
          <a:ext cx="289167" cy="67773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0" rIns="182880" bIns="0" numCol="1" spcCol="1270" anchor="ctr" anchorCtr="0">
          <a:noAutofit/>
        </a:bodyPr>
        <a:lstStyle/>
        <a:p>
          <a:pPr lvl="0" algn="l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6670907" y="2660897"/>
        <a:ext cx="289167" cy="677737"/>
      </dsp:txXfrm>
    </dsp:sp>
    <dsp:sp modelId="{CF93CA7A-AA0B-4307-B279-DEF983624862}">
      <dsp:nvSpPr>
        <dsp:cNvPr id="0" name=""/>
        <dsp:cNvSpPr/>
      </dsp:nvSpPr>
      <dsp:spPr>
        <a:xfrm>
          <a:off x="5958402" y="3406352"/>
          <a:ext cx="2170832" cy="1194471"/>
        </a:xfrm>
        <a:prstGeom prst="ellipse">
          <a:avLst/>
        </a:prstGeom>
        <a:solidFill>
          <a:schemeClr val="accent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1CD1352F-C910-429C-9DB4-74CD8488EA5B}">
      <dsp:nvSpPr>
        <dsp:cNvPr id="0" name=""/>
        <dsp:cNvSpPr/>
      </dsp:nvSpPr>
      <dsp:spPr>
        <a:xfrm>
          <a:off x="6670907" y="3519364"/>
          <a:ext cx="289167" cy="67773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0" rIns="22860" bIns="0" numCol="1" spcCol="1270" anchor="ctr" anchorCtr="0">
          <a:noAutofit/>
        </a:bodyPr>
        <a:lstStyle/>
        <a:p>
          <a:pPr lvl="0" algn="l" defTabSz="266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600" kern="1200"/>
        </a:p>
      </dsp:txBody>
      <dsp:txXfrm>
        <a:off x="6670907" y="3519364"/>
        <a:ext cx="289167" cy="677737"/>
      </dsp:txXfrm>
    </dsp:sp>
    <dsp:sp modelId="{660C0F8E-D16D-4DE6-8262-70E7EEC705EE}">
      <dsp:nvSpPr>
        <dsp:cNvPr id="0" name=""/>
        <dsp:cNvSpPr/>
      </dsp:nvSpPr>
      <dsp:spPr>
        <a:xfrm>
          <a:off x="5806487" y="4510868"/>
          <a:ext cx="2634635" cy="1167083"/>
        </a:xfrm>
        <a:prstGeom prst="ellipse">
          <a:avLst/>
        </a:prstGeom>
        <a:solidFill>
          <a:schemeClr val="accent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411C903D-C0F6-435A-8509-AB1BB12DE9DF}">
      <dsp:nvSpPr>
        <dsp:cNvPr id="0" name=""/>
        <dsp:cNvSpPr/>
      </dsp:nvSpPr>
      <dsp:spPr>
        <a:xfrm>
          <a:off x="7031463" y="4323613"/>
          <a:ext cx="253112" cy="67773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050" tIns="0" rIns="19050" bIns="0" numCol="1" spcCol="1270" anchor="ctr" anchorCtr="0">
          <a:noAutofit/>
        </a:bodyPr>
        <a:lstStyle/>
        <a:p>
          <a:pPr lvl="0" algn="l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7031463" y="4323613"/>
        <a:ext cx="253112" cy="677737"/>
      </dsp:txXfrm>
    </dsp:sp>
    <dsp:sp modelId="{4983A928-C645-4C95-92A9-768D0C0625C0}">
      <dsp:nvSpPr>
        <dsp:cNvPr id="0" name=""/>
        <dsp:cNvSpPr/>
      </dsp:nvSpPr>
      <dsp:spPr>
        <a:xfrm>
          <a:off x="6317485" y="5469912"/>
          <a:ext cx="2346610" cy="1388087"/>
        </a:xfrm>
        <a:prstGeom prst="ellipse">
          <a:avLst/>
        </a:prstGeom>
        <a:solidFill>
          <a:schemeClr val="accent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88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/>
      </dsp:style>
    </dsp:sp>
    <dsp:sp modelId="{779375D4-BBE9-4F82-9A93-D931A866A491}">
      <dsp:nvSpPr>
        <dsp:cNvPr id="0" name=""/>
        <dsp:cNvSpPr/>
      </dsp:nvSpPr>
      <dsp:spPr>
        <a:xfrm>
          <a:off x="7693386" y="5010386"/>
          <a:ext cx="186919" cy="67773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0" rIns="182880" bIns="0" numCol="1" spcCol="1270" anchor="ctr" anchorCtr="0">
          <a:noAutofit/>
        </a:bodyPr>
        <a:lstStyle/>
        <a:p>
          <a:pPr lvl="0" algn="l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7693386" y="5010386"/>
        <a:ext cx="186919" cy="67773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List3">
  <dgm:title val=""/>
  <dgm:desc val=""/>
  <dgm:catLst>
    <dgm:cat type="list" pri="1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5" srcId="0" destId="1" srcOrd="0" destOrd="0"/>
        <dgm:cxn modelId="6" srcId="1" destId="2" srcOrd="0" destOrd="0"/>
        <dgm:cxn modelId="7" srcId="1" destId="3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6" srcId="0" destId="1" srcOrd="0" destOrd="0"/>
        <dgm:cxn modelId="7" srcId="1" destId="2" srcOrd="0" destOrd="0"/>
        <dgm:cxn modelId="8" srcId="1" destId="3" srcOrd="1" destOrd="0"/>
        <dgm:cxn modelId="9" srcId="1" destId="4" srcOrd="2" destOrd="0"/>
        <dgm:cxn modelId="10" srcId="1" destId="5" srcOrd="3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roof" refType="w"/>
      <dgm:constr type="h" for="ch" forName="roof" refType="h" fact="0.3"/>
      <dgm:constr type="primFontSz" for="ch" forName="roof" val="65"/>
      <dgm:constr type="w" for="ch" forName="pillars" refType="w"/>
      <dgm:constr type="h" for="ch" forName="pillars" refType="h" fact="0.63"/>
      <dgm:constr type="t" for="ch" forName="pillars" refType="h" fact="0.3"/>
      <dgm:constr type="primFontSz" for="des" forName="pillar1" val="65"/>
      <dgm:constr type="primFontSz" for="des" forName="pillarX" refType="primFontSz" refFor="des" refForName="pillar1" op="equ"/>
      <dgm:constr type="w" for="ch" forName="base" refType="w"/>
      <dgm:constr type="h" for="ch" forName="base" refType="h" fact="0.07"/>
      <dgm:constr type="t" for="ch" forName="base" refType="h" fact="0.93"/>
    </dgm:constrLst>
    <dgm:ruleLst/>
    <dgm:forEach name="Name0" axis="ch" ptType="node" cnt="1">
      <dgm:layoutNode name="roof" styleLbl="dkBgShp">
        <dgm:alg type="tx"/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pillars" styleLbl="node1">
        <dgm:choose name="Name1">
          <dgm:if name="Name2" func="var" arg="dir" op="equ" val="norm">
            <dgm:alg type="lin">
              <dgm:param type="linDir" val="fromL"/>
            </dgm:alg>
          </dgm:if>
          <dgm:else name="Name3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illar1" refType="w"/>
          <dgm:constr type="h" for="ch" forName="pillar1" refType="h"/>
          <dgm:constr type="w" for="ch" forName="pillarX" refType="w"/>
          <dgm:constr type="h" for="ch" forName="pillarX" refType="h"/>
        </dgm:constrLst>
        <dgm:ruleLst/>
        <dgm:layoutNode name="pillar1" styleLbl="node1">
          <dgm:varLst>
            <dgm:bulletEnabled val="1"/>
          </dgm:varLst>
          <dgm:alg type="tx"/>
          <dgm:shape xmlns:r="http://schemas.openxmlformats.org/officeDocument/2006/relationships" type="rect" r:blip="">
            <dgm:adjLst/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forEach name="Name4" axis="ch" ptType="node" st="2">
          <dgm:layoutNode name="pillarX" styleLbl="node1">
            <dgm:varLst>
              <dgm:bulletEnabled val="1"/>
            </dgm:varLst>
            <dgm:alg type="tx"/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forEach>
      </dgm:layoutNode>
      <dgm:layoutNode name="base" styleLbl="dkBgShp">
        <dgm:alg type="sp"/>
        <dgm:shape xmlns:r="http://schemas.openxmlformats.org/officeDocument/2006/relationships" type="rect" r:blip="">
          <dgm:adjLst/>
        </dgm:shape>
        <dgm:presOf/>
        <dgm:constrLst/>
        <dgm:ruleLst/>
      </dgm:layoutNod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8/layout/CircularPictureCallout">
  <dgm:title val=""/>
  <dgm:desc val=""/>
  <dgm:catLst>
    <dgm:cat type="picture" pri="2000"/>
    <dgm:cat type="pictureconvert" pri="2000"/>
  </dgm:catLst>
  <dgm:sampData>
    <dgm:dataModel>
      <dgm:ptLst>
        <dgm:pt modelId="0" type="doc"/>
        <dgm:pt modelId="1"/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2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axis="ch" ptType="node" func="cnt" op="lte" val="1">
          <dgm:constrLst>
            <dgm:constr type="h" for="ch" forName="picture_1" refType="h"/>
            <dgm:constr type="w" for="ch" forName="picture_1" refType="h" refFor="ch" refForName="picture_1" op="equ"/>
            <dgm:constr type="l" for="ch" forName="picture_1"/>
            <dgm:constr type="t" for="ch" forName="picture_1"/>
            <dgm:constr type="w" for="ch" forName="text_1" refType="w" refFor="ch" refForName="picture_1" fact="0.64"/>
            <dgm:constr type="h" for="ch" forName="text_1" refType="h" refFor="ch" refForName="picture_1" fact="0.33"/>
            <dgm:constr type="l" for="ch" forName="text_1" refType="w" refFor="ch" refForName="picture_1" fact="0.18"/>
            <dgm:constr type="t" for="ch" forName="text_1" refType="h" refFor="ch" refForName="picture_1" fact="0.531"/>
          </dgm:constrLst>
        </dgm:if>
        <dgm:if name="Name4" axis="ch" ptType="node" func="cnt" op="lte" val="2">
          <dgm:choose name="Name5">
            <dgm:if name="Name6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5"/>
                <dgm:constr type="h" for="ch" forName="picture_2" refType="h" refFor="ch" refForName="picture_1" fact="0.5"/>
                <dgm:constr type="l" for="ch" forName="picture_2" refType="w" refFor="ch" refForName="picture_1" fact="1.21"/>
                <dgm:constr type="ctrY" for="ch" forName="picture_2" refType="h" refFor="ch" refForName="picture_1" fact="0.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</dgm:constrLst>
            </dgm:if>
            <dgm:else name="Name7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5"/>
                <dgm:constr type="h" for="ch" forName="picture_2" refType="h" refFor="ch" refForName="picture_1" fact="0.5"/>
                <dgm:constr type="r" for="ch" forName="picture_2" refType="w"/>
                <dgm:constr type="rOff" for="ch" forName="picture_2" refType="w" refFor="ch" refForName="picture_1" fact="-1.21"/>
                <dgm:constr type="ctrY" for="ch" forName="picture_2" refType="h" refFor="ch" refForName="picture_1" fact="0.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</dgm:constrLst>
            </dgm:else>
          </dgm:choose>
        </dgm:if>
        <dgm:if name="Name8" axis="ch" ptType="node" func="cnt" op="lte" val="3">
          <dgm:choose name="Name9">
            <dgm:if name="Name10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75"/>
                <dgm:constr type="h" for="ch" forName="picture_2" refType="h" refFor="ch" refForName="picture_1" fact="0.375"/>
                <dgm:constr type="l" for="ch" forName="picture_2" refType="w" refFor="ch" refForName="picture_1" fact="1.21"/>
                <dgm:constr type="ctrY" for="ch" forName="picture_2" refType="h" refFor="ch" refForName="picture_1" fact="0.187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75"/>
                <dgm:constr type="h" for="ch" forName="picture_3" refType="h" refFor="ch" refForName="picture_1" fact="0.375"/>
                <dgm:constr type="l" for="ch" forName="picture_3" refType="w" refFor="ch" refForName="picture_1" fact="1.21"/>
                <dgm:constr type="ctrY" for="ch" forName="picture_3" refType="h" refFor="ch" refForName="picture_1" fact="0.8125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</dgm:constrLst>
            </dgm:if>
            <dgm:else name="Name11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75"/>
                <dgm:constr type="h" for="ch" forName="picture_2" refType="h" refFor="ch" refForName="picture_1" fact="0.375"/>
                <dgm:constr type="r" for="ch" forName="picture_2" refType="w"/>
                <dgm:constr type="rOff" for="ch" forName="picture_2" refType="w" refFor="ch" refForName="picture_1" fact="-1.21"/>
                <dgm:constr type="ctrY" for="ch" forName="picture_2" refType="h" refFor="ch" refForName="picture_1" fact="0.187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75"/>
                <dgm:constr type="h" for="ch" forName="picture_3" refType="h" refFor="ch" refForName="picture_1" fact="0.375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8125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</dgm:constrLst>
            </dgm:else>
          </dgm:choose>
        </dgm:if>
        <dgm:if name="Name12" axis="ch" ptType="node" func="cnt" op="lte" val="4">
          <dgm:choose name="Name13">
            <dgm:if name="Name14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"/>
                <dgm:constr type="h" for="ch" forName="picture_2" refType="h" refFor="ch" refForName="picture_1" fact="0.3"/>
                <dgm:constr type="l" for="ch" forName="picture_2" refType="w" refFor="ch" refForName="picture_1" fact="1.354"/>
                <dgm:constr type="ctrY" for="ch" forName="picture_2" refType="h" refFor="ch" refForName="picture_1" fact="0.1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"/>
                <dgm:constr type="h" for="ch" forName="picture_3" refType="h" refFor="ch" refForName="picture_1" fact="0.3"/>
                <dgm:constr type="l" for="ch" forName="picture_3" refType="w" refFor="ch" refForName="picture_1" fact="1.21"/>
                <dgm:constr type="ctrY" for="ch" forName="picture_3" refType="h" refFor="ch" refForName="picture_1" fact="0.5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3"/>
                <dgm:constr type="h" for="ch" forName="picture_4" refType="h" refFor="ch" refForName="picture_1" fact="0.3"/>
                <dgm:constr type="l" for="ch" forName="picture_4" refType="w" refFor="ch" refForName="picture_1" fact="1.354"/>
                <dgm:constr type="ctrY" for="ch" forName="picture_4" refType="h" refFor="ch" refForName="picture_1" fact="0.8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</dgm:constrLst>
            </dgm:if>
            <dgm:else name="Name15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"/>
                <dgm:constr type="h" for="ch" forName="picture_2" refType="h" refFor="ch" refForName="picture_1" fact="0.3"/>
                <dgm:constr type="r" for="ch" forName="picture_2" refType="w"/>
                <dgm:constr type="rOff" for="ch" forName="picture_2" refType="w" refFor="ch" refForName="picture_1" fact="-1.354"/>
                <dgm:constr type="ctrY" for="ch" forName="picture_2" refType="h" refFor="ch" refForName="picture_1" fact="0.1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"/>
                <dgm:constr type="h" for="ch" forName="picture_3" refType="h" refFor="ch" refForName="picture_1" fact="0.3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5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3"/>
                <dgm:constr type="h" for="ch" forName="picture_4" refType="h" refFor="ch" refForName="picture_1" fact="0.3"/>
                <dgm:constr type="r" for="ch" forName="picture_4" refType="w"/>
                <dgm:constr type="rOff" for="ch" forName="picture_4" refType="w" refFor="ch" refForName="picture_1" fact="-1.354"/>
                <dgm:constr type="ctrY" for="ch" forName="picture_4" refType="h" refFor="ch" refForName="picture_1" fact="0.8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</dgm:constrLst>
            </dgm:else>
          </dgm:choose>
        </dgm:if>
        <dgm:if name="Name16" axis="ch" ptType="node" func="cnt" op="lte" val="5">
          <dgm:choose name="Name17">
            <dgm:if name="Name18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22"/>
                <dgm:constr type="h" for="ch" forName="picture_2" refType="h" refFor="ch" refForName="picture_1" fact="0.22"/>
                <dgm:constr type="l" for="ch" forName="picture_2" refType="w" refFor="ch" refForName="picture_1" fact="1.375"/>
                <dgm:constr type="ctrY" for="ch" forName="picture_2" refType="h" refFor="ch" refForName="picture_1" fact="0.11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22"/>
                <dgm:constr type="h" for="ch" forName="picture_3" refType="h" refFor="ch" refForName="picture_1" fact="0.22"/>
                <dgm:constr type="l" for="ch" forName="picture_3" refType="w" refFor="ch" refForName="picture_1" fact="1.21"/>
                <dgm:constr type="ctrY" for="ch" forName="picture_3" refType="h" refFor="ch" refForName="picture_1" fact="0.353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22"/>
                <dgm:constr type="h" for="ch" forName="picture_4" refType="h" refFor="ch" refForName="picture_1" fact="0.22"/>
                <dgm:constr type="l" for="ch" forName="picture_4" refType="w" refFor="ch" refForName="picture_1" fact="1.21"/>
                <dgm:constr type="ctrY" for="ch" forName="picture_4" refType="h" refFor="ch" refForName="picture_1" fact="0.647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22"/>
                <dgm:constr type="h" for="ch" forName="picture_5" refType="h" refFor="ch" refForName="picture_1" fact="0.22"/>
                <dgm:constr type="l" for="ch" forName="picture_5" refType="w" refFor="ch" refForName="picture_1" fact="1.375"/>
                <dgm:constr type="ctrY" for="ch" forName="picture_5" refType="h" refFor="ch" refForName="picture_1" fact="0.89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</dgm:constrLst>
            </dgm:if>
            <dgm:else name="Name19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22"/>
                <dgm:constr type="h" for="ch" forName="picture_2" refType="h" refFor="ch" refForName="picture_1" fact="0.22"/>
                <dgm:constr type="r" for="ch" forName="picture_2" refType="w"/>
                <dgm:constr type="rOff" for="ch" forName="picture_2" refType="w" refFor="ch" refForName="picture_1" fact="-1.375"/>
                <dgm:constr type="ctrY" for="ch" forName="picture_2" refType="h" refFor="ch" refForName="picture_1" fact="0.11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22"/>
                <dgm:constr type="h" for="ch" forName="picture_3" refType="h" refFor="ch" refForName="picture_1" fact="0.22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353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22"/>
                <dgm:constr type="h" for="ch" forName="picture_4" refType="h" refFor="ch" refForName="picture_1" fact="0.22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647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22"/>
                <dgm:constr type="h" for="ch" forName="picture_5" refType="h" refFor="ch" refForName="picture_1" fact="0.22"/>
                <dgm:constr type="r" for="ch" forName="picture_5" refType="w"/>
                <dgm:constr type="rOff" for="ch" forName="picture_5" refType="w" refFor="ch" refForName="picture_1" fact="-1.375"/>
                <dgm:constr type="ctrY" for="ch" forName="picture_5" refType="h" refFor="ch" refForName="picture_1" fact="0.89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</dgm:constrLst>
            </dgm:else>
          </dgm:choose>
        </dgm:if>
        <dgm:if name="Name20" axis="ch" ptType="node" func="cnt" op="lte" val="6">
          <dgm:choose name="Name21">
            <dgm:if name="Name22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8"/>
                <dgm:constr type="h" for="ch" forName="picture_2" refType="h" refFor="ch" refForName="picture_1" fact="0.18"/>
                <dgm:constr type="l" for="ch" forName="picture_2" refType="w" refFor="ch" refForName="picture_1" fact="1.4238"/>
                <dgm:constr type="ctrY" for="ch" forName="picture_2" refType="h" refFor="ch" refForName="picture_1" fact="0.09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8"/>
                <dgm:constr type="h" for="ch" forName="picture_3" refType="h" refFor="ch" refForName="picture_1" fact="0.18"/>
                <dgm:constr type="l" for="ch" forName="picture_3" refType="w" refFor="ch" refForName="picture_1" fact="1.2667"/>
                <dgm:constr type="ctrY" for="ch" forName="picture_3" refType="h" refFor="ch" refForName="picture_1" fact="0.261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8"/>
                <dgm:constr type="h" for="ch" forName="picture_4" refType="h" refFor="ch" refForName="picture_1" fact="0.18"/>
                <dgm:constr type="l" for="ch" forName="picture_4" refType="w" refFor="ch" refForName="picture_1" fact="1.21"/>
                <dgm:constr type="ctrY" for="ch" forName="picture_4" refType="h" refFor="ch" refForName="picture_1" fact="0.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8"/>
                <dgm:constr type="h" for="ch" forName="picture_5" refType="h" refFor="ch" refForName="picture_1" fact="0.18"/>
                <dgm:constr type="l" for="ch" forName="picture_5" refType="w" refFor="ch" refForName="picture_1" fact="1.2667"/>
                <dgm:constr type="ctrY" for="ch" forName="picture_5" refType="h" refFor="ch" refForName="picture_1" fact="0.739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8"/>
                <dgm:constr type="h" for="ch" forName="picture_6" refType="h" refFor="ch" refForName="picture_1" fact="0.18"/>
                <dgm:constr type="l" for="ch" forName="picture_6" refType="w" refFor="ch" refForName="picture_1" fact="1.4238"/>
                <dgm:constr type="ctrY" for="ch" forName="picture_6" refType="h" refFor="ch" refForName="picture_1" fact="0.91"/>
                <dgm:constr type="l" for="ch" forName="line_6" refType="ctrX" refFor="ch" refForName="picture_1"/>
                <dgm:constr type="h" for="ch" forName="line_6"/>
                <dgm:constr type="r" for="ch" forName="line_6" refType="ctrX" refFor="ch" refForName="picture_6"/>
                <dgm:constr type="ctrY" for="ch" forName="line_6" refType="ctrY" refFor="ch" refForName="picture_6"/>
                <dgm:constr type="r" for="ch" forName="textparent_6" refType="w"/>
                <dgm:constr type="h" for="ch" forName="textparent_6" refType="h" refFor="ch" refForName="picture_6"/>
                <dgm:constr type="l" for="ch" forName="textparent_6" refType="r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</dgm:constrLst>
            </dgm:if>
            <dgm:else name="Name23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8"/>
                <dgm:constr type="h" for="ch" forName="picture_2" refType="h" refFor="ch" refForName="picture_1" fact="0.18"/>
                <dgm:constr type="r" for="ch" forName="picture_2" refType="w"/>
                <dgm:constr type="rOff" for="ch" forName="picture_2" refType="w" refFor="ch" refForName="picture_1" fact="-1.4238"/>
                <dgm:constr type="ctrY" for="ch" forName="picture_2" refType="h" refFor="ch" refForName="picture_1" fact="0.09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8"/>
                <dgm:constr type="h" for="ch" forName="picture_3" refType="h" refFor="ch" refForName="picture_1" fact="0.18"/>
                <dgm:constr type="r" for="ch" forName="picture_3" refType="w"/>
                <dgm:constr type="rOff" for="ch" forName="picture_3" refType="w" refFor="ch" refForName="picture_1" fact="-1.2667"/>
                <dgm:constr type="ctrY" for="ch" forName="picture_3" refType="h" refFor="ch" refForName="picture_1" fact="0.261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8"/>
                <dgm:constr type="h" for="ch" forName="picture_4" refType="h" refFor="ch" refForName="picture_1" fact="0.18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8"/>
                <dgm:constr type="h" for="ch" forName="picture_5" refType="h" refFor="ch" refForName="picture_1" fact="0.18"/>
                <dgm:constr type="r" for="ch" forName="picture_5" refType="w"/>
                <dgm:constr type="rOff" for="ch" forName="picture_5" refType="w" refFor="ch" refForName="picture_1" fact="-1.2667"/>
                <dgm:constr type="ctrY" for="ch" forName="picture_5" refType="h" refFor="ch" refForName="picture_1" fact="0.739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8"/>
                <dgm:constr type="h" for="ch" forName="picture_6" refType="h" refFor="ch" refForName="picture_1" fact="0.18"/>
                <dgm:constr type="r" for="ch" forName="picture_6" refType="w"/>
                <dgm:constr type="rOff" for="ch" forName="picture_6" refType="w" refFor="ch" refForName="picture_1" fact="-1.4238"/>
                <dgm:constr type="ctrY" for="ch" forName="picture_6" refType="h" refFor="ch" refForName="picture_1" fact="0.91"/>
                <dgm:constr type="r" for="ch" forName="line_6" refType="ctrX" refFor="ch" refForName="picture_1"/>
                <dgm:constr type="h" for="ch" forName="line_6"/>
                <dgm:constr type="l" for="ch" forName="line_6" refType="ctrX" refFor="ch" refForName="picture_6"/>
                <dgm:constr type="ctrY" for="ch" forName="line_6" refType="ctrY" refFor="ch" refForName="picture_6"/>
                <dgm:constr type="l" for="ch" forName="textparent_6"/>
                <dgm:constr type="h" for="ch" forName="textparent_6" refType="h" refFor="ch" refForName="picture_6"/>
                <dgm:constr type="r" for="ch" forName="textparent_6" refType="l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</dgm:constrLst>
            </dgm:else>
          </dgm:choose>
        </dgm:if>
        <dgm:else name="Name24">
          <dgm:choose name="Name25">
            <dgm:if name="Name26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5"/>
                <dgm:constr type="h" for="ch" forName="picture_2" refType="h" refFor="ch" refForName="picture_1" fact="0.15"/>
                <dgm:constr type="l" for="ch" forName="picture_2" refType="w" refFor="ch" refForName="picture_1" fact="1.4363"/>
                <dgm:constr type="ctrY" for="ch" forName="picture_2" refType="h" refFor="ch" refForName="picture_1" fact="0.07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5"/>
                <dgm:constr type="h" for="ch" forName="picture_3" refType="h" refFor="ch" refForName="picture_1" fact="0.15"/>
                <dgm:constr type="l" for="ch" forName="picture_3" refType="w" refFor="ch" refForName="picture_1" fact="1.2898"/>
                <dgm:constr type="ctrY" for="ch" forName="picture_3" refType="h" refFor="ch" refForName="picture_1" fact="0.227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5"/>
                <dgm:constr type="h" for="ch" forName="picture_4" refType="h" refFor="ch" refForName="picture_1" fact="0.15"/>
                <dgm:constr type="l" for="ch" forName="picture_4" refType="w" refFor="ch" refForName="picture_1" fact="1.21"/>
                <dgm:constr type="ctrY" for="ch" forName="picture_4" refType="h" refFor="ch" refForName="picture_1" fact="0.40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5"/>
                <dgm:constr type="h" for="ch" forName="picture_5" refType="h" refFor="ch" refForName="picture_1" fact="0.15"/>
                <dgm:constr type="l" for="ch" forName="picture_5" refType="w" refFor="ch" refForName="picture_1" fact="1.21"/>
                <dgm:constr type="ctrY" for="ch" forName="picture_5" refType="h" refFor="ch" refForName="picture_1" fact="0.595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5"/>
                <dgm:constr type="h" for="ch" forName="picture_6" refType="h" refFor="ch" refForName="picture_1" fact="0.15"/>
                <dgm:constr type="l" for="ch" forName="picture_6" refType="w" refFor="ch" refForName="picture_1" fact="1.2898"/>
                <dgm:constr type="ctrY" for="ch" forName="picture_6" refType="h" refFor="ch" refForName="picture_1" fact="0.773"/>
                <dgm:constr type="l" for="ch" forName="line_6" refType="ctrX" refFor="ch" refForName="picture_1"/>
                <dgm:constr type="h" for="ch" forName="line_6"/>
                <dgm:constr type="r" for="ch" forName="line_6" refType="ctrX" refFor="ch" refForName="picture_6"/>
                <dgm:constr type="ctrY" for="ch" forName="line_6" refType="ctrY" refFor="ch" refForName="picture_6"/>
                <dgm:constr type="r" for="ch" forName="textparent_6" refType="w"/>
                <dgm:constr type="h" for="ch" forName="textparent_6" refType="h" refFor="ch" refForName="picture_6"/>
                <dgm:constr type="l" for="ch" forName="textparent_6" refType="r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  <dgm:constr type="w" for="ch" forName="picture_7" refType="w" refFor="ch" refForName="picture_1" fact="0.15"/>
                <dgm:constr type="h" for="ch" forName="picture_7" refType="h" refFor="ch" refForName="picture_1" fact="0.15"/>
                <dgm:constr type="l" for="ch" forName="picture_7" refType="w" refFor="ch" refForName="picture_1" fact="1.4363"/>
                <dgm:constr type="ctrY" for="ch" forName="picture_7" refType="h" refFor="ch" refForName="picture_1" fact="0.925"/>
                <dgm:constr type="l" for="ch" forName="line_7" refType="ctrX" refFor="ch" refForName="picture_1"/>
                <dgm:constr type="h" for="ch" forName="line_7"/>
                <dgm:constr type="r" for="ch" forName="line_7" refType="ctrX" refFor="ch" refForName="picture_7"/>
                <dgm:constr type="ctrY" for="ch" forName="line_7" refType="ctrY" refFor="ch" refForName="picture_7"/>
                <dgm:constr type="r" for="ch" forName="textparent_7" refType="w"/>
                <dgm:constr type="h" for="ch" forName="textparent_7" refType="h" refFor="ch" refForName="picture_7"/>
                <dgm:constr type="l" for="ch" forName="textparent_7" refType="r" refFor="ch" refForName="picture_7"/>
                <dgm:constr type="ctrY" for="ch" forName="textparent_7" refType="ctrY" refFor="ch" refForName="picture_7"/>
                <dgm:constr type="primFontSz" for="des" forName="text_7" refType="primFontSz" refFor="des" refForName="text_2" op="equ"/>
              </dgm:constrLst>
            </dgm:if>
            <dgm:else name="Name27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5"/>
                <dgm:constr type="h" for="ch" forName="picture_2" refType="h" refFor="ch" refForName="picture_1" fact="0.15"/>
                <dgm:constr type="r" for="ch" forName="picture_2" refType="w"/>
                <dgm:constr type="rOff" for="ch" forName="picture_2" refType="w" refFor="ch" refForName="picture_1" fact="-1.4363"/>
                <dgm:constr type="ctrY" for="ch" forName="picture_2" refType="h" refFor="ch" refForName="picture_1" fact="0.07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5"/>
                <dgm:constr type="h" for="ch" forName="picture_3" refType="h" refFor="ch" refForName="picture_1" fact="0.15"/>
                <dgm:constr type="r" for="ch" forName="picture_3" refType="w"/>
                <dgm:constr type="rOff" for="ch" forName="picture_3" refType="w" refFor="ch" refForName="picture_1" fact="-1.2898"/>
                <dgm:constr type="ctrY" for="ch" forName="picture_3" refType="h" refFor="ch" refForName="picture_1" fact="0.227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5"/>
                <dgm:constr type="h" for="ch" forName="picture_4" refType="h" refFor="ch" refForName="picture_1" fact="0.15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40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5"/>
                <dgm:constr type="h" for="ch" forName="picture_5" refType="h" refFor="ch" refForName="picture_1" fact="0.15"/>
                <dgm:constr type="r" for="ch" forName="picture_5" refType="w"/>
                <dgm:constr type="rOff" for="ch" forName="picture_5" refType="w" refFor="ch" refForName="picture_1" fact="-1.21"/>
                <dgm:constr type="ctrY" for="ch" forName="picture_5" refType="h" refFor="ch" refForName="picture_1" fact="0.595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5"/>
                <dgm:constr type="h" for="ch" forName="picture_6" refType="h" refFor="ch" refForName="picture_1" fact="0.15"/>
                <dgm:constr type="r" for="ch" forName="picture_6" refType="w"/>
                <dgm:constr type="rOff" for="ch" forName="picture_6" refType="w" refFor="ch" refForName="picture_1" fact="-1.2898"/>
                <dgm:constr type="ctrY" for="ch" forName="picture_6" refType="h" refFor="ch" refForName="picture_1" fact="0.773"/>
                <dgm:constr type="r" for="ch" forName="line_6" refType="ctrX" refFor="ch" refForName="picture_1"/>
                <dgm:constr type="h" for="ch" forName="line_6"/>
                <dgm:constr type="l" for="ch" forName="line_6" refType="ctrX" refFor="ch" refForName="picture_6"/>
                <dgm:constr type="ctrY" for="ch" forName="line_6" refType="ctrY" refFor="ch" refForName="picture_6"/>
                <dgm:constr type="l" for="ch" forName="textparent_6"/>
                <dgm:constr type="h" for="ch" forName="textparent_6" refType="h" refFor="ch" refForName="picture_6"/>
                <dgm:constr type="r" for="ch" forName="textparent_6" refType="l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  <dgm:constr type="w" for="ch" forName="picture_7" refType="w" refFor="ch" refForName="picture_1" fact="0.15"/>
                <dgm:constr type="h" for="ch" forName="picture_7" refType="h" refFor="ch" refForName="picture_1" fact="0.15"/>
                <dgm:constr type="r" for="ch" forName="picture_7" refType="w"/>
                <dgm:constr type="rOff" for="ch" forName="picture_7" refType="w" refFor="ch" refForName="picture_1" fact="-1.4363"/>
                <dgm:constr type="ctrY" for="ch" forName="picture_7" refType="h" refFor="ch" refForName="picture_1" fact="0.925"/>
                <dgm:constr type="r" for="ch" forName="line_7" refType="ctrX" refFor="ch" refForName="picture_1"/>
                <dgm:constr type="h" for="ch" forName="line_7"/>
                <dgm:constr type="l" for="ch" forName="line_7" refType="ctrX" refFor="ch" refForName="picture_7"/>
                <dgm:constr type="ctrY" for="ch" forName="line_7" refType="ctrY" refFor="ch" refForName="picture_7"/>
                <dgm:constr type="l" for="ch" forName="textparent_7"/>
                <dgm:constr type="h" for="ch" forName="textparent_7" refType="h" refFor="ch" refForName="picture_7"/>
                <dgm:constr type="r" for="ch" forName="textparent_7" refType="l" refFor="ch" refForName="picture_7"/>
                <dgm:constr type="ctrY" for="ch" forName="textparent_7" refType="ctrY" refFor="ch" refForName="picture_7"/>
                <dgm:constr type="primFontSz" for="des" forName="text_7" refType="primFontSz" refFor="des" refForName="text_2" op="equ"/>
              </dgm:constrLst>
            </dgm:else>
          </dgm:choose>
        </dgm:else>
      </dgm:choose>
      <dgm:forEach name="wrapper" axis="self" ptType="parTrans">
        <dgm:forEach name="wrapper2" axis="self" ptType="sibTrans" st="2">
          <dgm:forEach name="pictureRepeat" axis="self">
            <dgm:layoutNode name="pictureRepeatNode" styleLbl="alignImgPlace1">
              <dgm:alg type="sp"/>
              <dgm:shape xmlns:r="http://schemas.openxmlformats.org/officeDocument/2006/relationships" type="ellipse" r:blip="" blipPhldr="1">
                <dgm:adjLst/>
              </dgm:shape>
              <dgm:presOf axis="self"/>
            </dgm:layoutNode>
          </dgm:forEach>
        </dgm:forEach>
      </dgm:forEach>
      <dgm:forEach name="Name28" axis="ch" ptType="sibTrans" hideLastTrans="0" cnt="1">
        <dgm:layoutNode name="picture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9" ref="pictureRepeat"/>
        </dgm:layoutNode>
      </dgm:forEach>
      <dgm:forEach name="Name30" axis="ch" ptType="node" cnt="1">
        <dgm:layoutNode name="text_1" styleLbl="node1">
          <dgm:varLst>
            <dgm:bulletEnabled val="1"/>
          </dgm:varLst>
          <dgm:alg type="tx">
            <dgm:param type="txAnchorVert" val="b"/>
            <dgm:param type="txAnchorVertCh" val="b"/>
            <dgm:param type="parTxRTLAlign" val="r"/>
            <dgm:param type="shpTxRTLAlignCh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primFontSz" val="65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</dgm:forEach>
      <dgm:forEach name="Name31" axis="ch" ptType="sibTrans" hideLastTrans="0" st="2" cnt="1">
        <dgm:layoutNode name="picture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2" ref="pictureRepeat"/>
        </dgm:layoutNode>
      </dgm:forEach>
      <dgm:forEach name="Name33" axis="ch" ptType="node" st="2" cnt="1">
        <dgm:layoutNode name="line_2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2">
          <dgm:choose name="Name34">
            <dgm:if name="Name35" func="var" arg="dir" op="equ" val="norm">
              <dgm:alg type="lin">
                <dgm:param type="horzAlign" val="l"/>
              </dgm:alg>
            </dgm:if>
            <dgm:else name="Name36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2" refType="w"/>
            <dgm:constr type="h" for="ch" forName="text_2" refType="h"/>
          </dgm:constrLst>
          <dgm:presOf/>
          <dgm:layoutNode name="text_2" styleLbl="revTx">
            <dgm:varLst>
              <dgm:bulletEnabled val="1"/>
            </dgm:varLst>
            <dgm:choose name="Name37">
              <dgm:if name="Name38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39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40" axis="ch" ptType="sibTrans" hideLastTrans="0" st="3" cnt="1">
        <dgm:layoutNode name="picture_3">
          <dgm:alg type="sp"/>
          <dgm:shape xmlns:r="http://schemas.openxmlformats.org/officeDocument/2006/relationships" r:blip="">
            <dgm:adjLst/>
          </dgm:shape>
          <dgm:presOf/>
          <dgm:constrLst/>
          <dgm:forEach name="Name41" ref="pictureRepeat"/>
        </dgm:layoutNode>
      </dgm:forEach>
      <dgm:forEach name="Name42" axis="ch" ptType="node" st="3" cnt="1">
        <dgm:layoutNode name="line_3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3">
          <dgm:choose name="Name43">
            <dgm:if name="Name44" func="var" arg="dir" op="equ" val="norm">
              <dgm:alg type="lin">
                <dgm:param type="horzAlign" val="l"/>
              </dgm:alg>
            </dgm:if>
            <dgm:else name="Name45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3" refType="w"/>
            <dgm:constr type="h" for="ch" forName="text_3" refType="h"/>
          </dgm:constrLst>
          <dgm:presOf/>
          <dgm:layoutNode name="text_3" styleLbl="revTx">
            <dgm:varLst>
              <dgm:bulletEnabled val="1"/>
            </dgm:varLst>
            <dgm:choose name="Name46">
              <dgm:if name="Name47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48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49" axis="ch" ptType="sibTrans" hideLastTrans="0" st="4" cnt="1">
        <dgm:layoutNode name="picture_4">
          <dgm:alg type="sp"/>
          <dgm:shape xmlns:r="http://schemas.openxmlformats.org/officeDocument/2006/relationships" r:blip="">
            <dgm:adjLst/>
          </dgm:shape>
          <dgm:presOf/>
          <dgm:constrLst/>
          <dgm:forEach name="Name50" ref="pictureRepeat"/>
        </dgm:layoutNode>
      </dgm:forEach>
      <dgm:forEach name="Name51" axis="ch" ptType="node" st="4" cnt="1">
        <dgm:layoutNode name="line_4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4">
          <dgm:choose name="Name52">
            <dgm:if name="Name53" func="var" arg="dir" op="equ" val="norm">
              <dgm:alg type="lin">
                <dgm:param type="horzAlign" val="l"/>
              </dgm:alg>
            </dgm:if>
            <dgm:else name="Name54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4" refType="w"/>
            <dgm:constr type="h" for="ch" forName="text_4" refType="h"/>
          </dgm:constrLst>
          <dgm:presOf/>
          <dgm:layoutNode name="text_4" styleLbl="revTx">
            <dgm:varLst>
              <dgm:bulletEnabled val="1"/>
            </dgm:varLst>
            <dgm:choose name="Name55">
              <dgm:if name="Name56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57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58" axis="ch" ptType="sibTrans" hideLastTrans="0" st="5" cnt="1">
        <dgm:layoutNode name="picture_5">
          <dgm:alg type="sp"/>
          <dgm:shape xmlns:r="http://schemas.openxmlformats.org/officeDocument/2006/relationships" r:blip="">
            <dgm:adjLst/>
          </dgm:shape>
          <dgm:presOf/>
          <dgm:constrLst/>
          <dgm:forEach name="Name59" ref="pictureRepeat"/>
        </dgm:layoutNode>
      </dgm:forEach>
      <dgm:forEach name="Name60" axis="ch" ptType="node" st="5" cnt="1">
        <dgm:layoutNode name="line_5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5">
          <dgm:choose name="Name61">
            <dgm:if name="Name62" func="var" arg="dir" op="equ" val="norm">
              <dgm:alg type="lin">
                <dgm:param type="horzAlign" val="l"/>
              </dgm:alg>
            </dgm:if>
            <dgm:else name="Name63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5" refType="w"/>
            <dgm:constr type="h" for="ch" forName="text_5" refType="h"/>
          </dgm:constrLst>
          <dgm:presOf/>
          <dgm:layoutNode name="text_5" styleLbl="revTx">
            <dgm:varLst>
              <dgm:bulletEnabled val="1"/>
            </dgm:varLst>
            <dgm:choose name="Name64">
              <dgm:if name="Name65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66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67" axis="ch" ptType="sibTrans" hideLastTrans="0" st="6" cnt="1">
        <dgm:layoutNode name="picture_6">
          <dgm:alg type="sp"/>
          <dgm:shape xmlns:r="http://schemas.openxmlformats.org/officeDocument/2006/relationships" r:blip="">
            <dgm:adjLst/>
          </dgm:shape>
          <dgm:presOf/>
          <dgm:constrLst/>
          <dgm:forEach name="Name68" ref="pictureRepeat"/>
        </dgm:layoutNode>
      </dgm:forEach>
      <dgm:forEach name="Name69" axis="ch" ptType="node" st="6" cnt="1">
        <dgm:layoutNode name="line_6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6">
          <dgm:choose name="Name70">
            <dgm:if name="Name71" func="var" arg="dir" op="equ" val="norm">
              <dgm:alg type="lin">
                <dgm:param type="horzAlign" val="l"/>
              </dgm:alg>
            </dgm:if>
            <dgm:else name="Name72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6" refType="w"/>
            <dgm:constr type="h" for="ch" forName="text_6" refType="h"/>
          </dgm:constrLst>
          <dgm:presOf/>
          <dgm:layoutNode name="text_6" styleLbl="revTx">
            <dgm:varLst>
              <dgm:bulletEnabled val="1"/>
            </dgm:varLst>
            <dgm:choose name="Name73">
              <dgm:if name="Name74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75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76" axis="ch" ptType="sibTrans" hideLastTrans="0" st="7" cnt="1">
        <dgm:layoutNode name="picture_7">
          <dgm:alg type="sp"/>
          <dgm:shape xmlns:r="http://schemas.openxmlformats.org/officeDocument/2006/relationships" r:blip="">
            <dgm:adjLst/>
          </dgm:shape>
          <dgm:presOf/>
          <dgm:constrLst/>
          <dgm:forEach name="Name77" ref="pictureRepeat"/>
        </dgm:layoutNode>
      </dgm:forEach>
      <dgm:forEach name="Name78" axis="ch" ptType="node" st="7" cnt="1">
        <dgm:layoutNode name="line_7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7">
          <dgm:choose name="Name79">
            <dgm:if name="Name80" func="var" arg="dir" op="equ" val="norm">
              <dgm:alg type="lin">
                <dgm:param type="horzAlign" val="l"/>
              </dgm:alg>
            </dgm:if>
            <dgm:else name="Name81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7" refType="w"/>
            <dgm:constr type="h" for="ch" forName="text_7" refType="h"/>
          </dgm:constrLst>
          <dgm:presOf/>
          <dgm:layoutNode name="text_7" styleLbl="revTx">
            <dgm:varLst>
              <dgm:bulletEnabled val="1"/>
            </dgm:varLst>
            <dgm:choose name="Name82">
              <dgm:if name="Name83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84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34BC5-D2D1-4C24-8134-0B73269A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EBB8E8-B2EB-43CC-AA5A-AE3C622D8CE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DF2-402E-427C-8677-13106357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3B1-A79C-49D6-892E-D095EE23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2B-10A8-49F3-92B5-97DB66E3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45F-F1A5-4B90-8D44-6EE335E1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538B-FF54-484F-BD54-D57E4C02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148C-66A1-4915-9E87-7664FF65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BACB-AF48-429E-B75A-162A164F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C332-95C0-4725-B9FD-9952435A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F59-AF6E-4BC2-AD20-58B6BDD1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C7E-89CB-4550-BB27-42E68F10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3A4C-0EFF-43FC-9D9D-527CDE1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3D0-42F6-4AD4-9C7A-035B8F0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A20-8935-4D46-A936-815CC5F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3043-74FB-4B5C-B529-52B4F5B4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269E-37CA-488F-87BE-3CC4150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B2DE-7F3C-4E9B-937F-BDAC884B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4E0-CD26-4854-BEE8-69E6EADD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916-0CCD-4923-BCB6-1FCDEEE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448-BD93-4049-9936-501B5E3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EFB-3E8F-47F9-8EB9-26EEE0B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0E2-8C03-4970-A74F-84D7C6F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102-7DB1-4F99-B5D5-C60CF1F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8B9-23BE-458D-88FF-B8EE088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700-98C9-4FC0-9F16-F5671E5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88C68-1357-41D1-9E64-FCC3353984D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061AB0-17D1-48D5-9CEC-0F8B84B535E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<Relationship Id="rId7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hyperlink" Target="http://pozdravka.com/photo/prazdniki/den_znanij/98" TargetMode="External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2" descr="девочка в форме2.bmp"/>
          <p:cNvPicPr/>
          <p:nvPr/>
        </p:nvPicPr>
        <p:blipFill>
          <a:blip r:embed="rId1"/>
          <a:stretch/>
        </p:blipFill>
        <p:spPr>
          <a:xfrm>
            <a:off x="0" y="2925000"/>
            <a:ext cx="2627280" cy="3932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мальчик в форме1.bmp"/>
          <p:cNvPicPr/>
          <p:nvPr/>
        </p:nvPicPr>
        <p:blipFill>
          <a:blip r:embed="rId2"/>
          <a:stretch/>
        </p:blipFill>
        <p:spPr>
          <a:xfrm>
            <a:off x="2364840" y="3069000"/>
            <a:ext cx="2278800" cy="3788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755640" y="836640"/>
            <a:ext cx="705636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coolSlant" w="82550" h="38100"/>
            </a:sp3d>
          </a:bodyPr>
          <a:p>
            <a:pPr algn="ctr">
              <a:lnSpc>
                <a:spcPct val="8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ru-RU" sz="5400" spc="-1" strike="noStrike">
                <a:solidFill>
                  <a:schemeClr val="accent4">
                    <a:lumMod val="75000"/>
                  </a:schemeClr>
                </a:solidFill>
                <a:latin typeface="Bookman Old Style"/>
              </a:rPr>
              <a:t>Готовность к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4433400" y="5805360"/>
            <a:ext cx="460296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аврилова Евгения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дагог-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кв. категории</a:t>
            </a:r>
            <a:r>
              <a:rPr b="1" lang="ru-RU" sz="1800" spc="-1" strike="noStrike">
                <a:solidFill>
                  <a:srgbClr val="0070c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906615416"/>
              </p:ext>
            </p:extLst>
          </p:nvPr>
        </p:nvGraphicFramePr>
        <p:xfrm>
          <a:off x="0" y="0"/>
          <a:ext cx="90360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6" name="TextBox 4"/>
          <p:cNvSpPr/>
          <p:nvPr/>
        </p:nvSpPr>
        <p:spPr>
          <a:xfrm>
            <a:off x="323640" y="1989000"/>
            <a:ext cx="36720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262626"/>
                </a:solidFill>
                <a:latin typeface="Bookman Old Style"/>
              </a:rPr>
              <a:t>Новые навыки и у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300360" y="363600"/>
            <a:ext cx="180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извольное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300360" y="1649880"/>
            <a:ext cx="180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ческая 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300360" y="2698560"/>
            <a:ext cx="180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ражание взросл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378120" y="3604680"/>
            <a:ext cx="1573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декватная само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79600" y="4653000"/>
            <a:ext cx="2441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ес к но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им пробл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6378120" y="5939640"/>
            <a:ext cx="2336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467640" y="980640"/>
            <a:ext cx="8280720" cy="4111560"/>
          </a:xfrm>
          <a:prstGeom prst="rect">
            <a:avLst/>
          </a:prstGeom>
          <a:noFill/>
          <a:ln w="0">
            <a:noFill/>
          </a:ln>
          <a:effectLst>
            <a:glow rad="101520">
              <a:srgbClr val="267de6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10243e"/>
                </a:solidFill>
                <a:latin typeface="Calibri"/>
              </a:rPr>
              <a:t>Система взаимоотношений ребенка в семье в период адаптац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-1144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оветы папе и мам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640" y="1052640"/>
            <a:ext cx="871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имайте реальные достижения (не сравнивайте  с другими! Тройка тоже оценка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петируйте (обсуждение и проигрывание школьных ситуаций дома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 (дети тоже устают от родител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итивная оценка (не делайте акцент на ошибках, отмечайте удачную работу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желательный тон (приказной тон настраивает ребенка против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ий подход (ребенку важна самостоятельность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ейное единство (совместная деятельность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7640" y="0"/>
            <a:ext cx="4536000" cy="836280"/>
          </a:xfrm>
          <a:prstGeom prst="rect">
            <a:avLst/>
          </a:prstGeom>
          <a:noFill/>
          <a:ln w="0">
            <a:noFill/>
          </a:ln>
          <a:effectLst>
            <a:outerShdw dist="28080" dir="5400000" blurRad="44280" rotWithShape="0">
              <a:srgbClr val="000000">
                <a:alpha val="32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Book Antiqua"/>
              </a:rPr>
              <a:t>Важно знать!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640" y="908640"/>
            <a:ext cx="871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я режима дн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интереса к учению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а в возможности ребенк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важение взглядов и интересов ребенк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ожелательность и положительная атмосфера в семь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тие мотивации к обучению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ощь и участие в выполнении заданий школ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ра в ограничениях и наказаниях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хвала и поощрен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аимосвязь с классным руководителе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9"/>
          <p:cNvGrpSpPr/>
          <p:nvPr/>
        </p:nvGrpSpPr>
        <p:grpSpPr>
          <a:xfrm>
            <a:off x="0" y="6165000"/>
            <a:ext cx="9127800" cy="576000"/>
            <a:chOff x="0" y="6165000"/>
            <a:chExt cx="9127800" cy="576000"/>
          </a:xfrm>
        </p:grpSpPr>
        <p:pic>
          <p:nvPicPr>
            <p:cNvPr id="119" name="Picture 7" descr="j0088542"/>
            <p:cNvPicPr/>
            <p:nvPr/>
          </p:nvPicPr>
          <p:blipFill>
            <a:blip r:embed="rId1"/>
            <a:stretch/>
          </p:blipFill>
          <p:spPr>
            <a:xfrm>
              <a:off x="0" y="6165000"/>
              <a:ext cx="45604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j0088542"/>
            <p:cNvPicPr/>
            <p:nvPr/>
          </p:nvPicPr>
          <p:blipFill>
            <a:blip r:embed="rId2"/>
            <a:stretch/>
          </p:blipFill>
          <p:spPr>
            <a:xfrm>
              <a:off x="4567320" y="6165000"/>
              <a:ext cx="456048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0"/>
          <p:cNvGrpSpPr/>
          <p:nvPr/>
        </p:nvGrpSpPr>
        <p:grpSpPr>
          <a:xfrm>
            <a:off x="15840" y="116640"/>
            <a:ext cx="9127800" cy="576000"/>
            <a:chOff x="15840" y="116640"/>
            <a:chExt cx="9127800" cy="576000"/>
          </a:xfrm>
        </p:grpSpPr>
        <p:pic>
          <p:nvPicPr>
            <p:cNvPr id="122" name="Picture 11" descr="j0088542"/>
            <p:cNvPicPr/>
            <p:nvPr/>
          </p:nvPicPr>
          <p:blipFill>
            <a:blip r:embed="rId3"/>
            <a:stretch/>
          </p:blipFill>
          <p:spPr>
            <a:xfrm>
              <a:off x="15840" y="116640"/>
              <a:ext cx="45604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2" descr="j0088542"/>
            <p:cNvPicPr/>
            <p:nvPr/>
          </p:nvPicPr>
          <p:blipFill>
            <a:blip r:embed="rId4"/>
            <a:stretch/>
          </p:blipFill>
          <p:spPr>
            <a:xfrm>
              <a:off x="4583160" y="116640"/>
              <a:ext cx="456048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13" descr="учитель"/>
          <p:cNvPicPr/>
          <p:nvPr/>
        </p:nvPicPr>
        <p:blipFill>
          <a:blip r:embed="rId5"/>
          <a:srcRect l="4139" t="711" r="35660" b="2548"/>
          <a:stretch/>
        </p:blipFill>
        <p:spPr>
          <a:xfrm>
            <a:off x="6372360" y="1412640"/>
            <a:ext cx="2350080" cy="5184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124640"/>
            <a:ext cx="446400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ea0000"/>
                </a:solidFill>
                <a:latin typeface="Calibri"/>
              </a:rPr>
              <a:t>Заголовок слайд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11" descr="девочка в форме1.bmp"/>
          <p:cNvPicPr/>
          <p:nvPr/>
        </p:nvPicPr>
        <p:blipFill>
          <a:blip r:embed="rId6"/>
          <a:stretch/>
        </p:blipFill>
        <p:spPr>
          <a:xfrm>
            <a:off x="3427920" y="3573000"/>
            <a:ext cx="1987200" cy="2996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девочка в форме2.bmp"/>
          <p:cNvPicPr/>
          <p:nvPr/>
        </p:nvPicPr>
        <p:blipFill>
          <a:blip r:embed="rId7"/>
          <a:stretch/>
        </p:blipFill>
        <p:spPr>
          <a:xfrm>
            <a:off x="1771920" y="3501000"/>
            <a:ext cx="1899360" cy="306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3" descr="мальчик в форме1.bmp"/>
          <p:cNvPicPr/>
          <p:nvPr/>
        </p:nvPicPr>
        <p:blipFill>
          <a:blip r:embed="rId8"/>
          <a:stretch/>
        </p:blipFill>
        <p:spPr>
          <a:xfrm>
            <a:off x="5084280" y="3501000"/>
            <a:ext cx="1935720" cy="3140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4" descr="мальчик в форме2.bmp"/>
          <p:cNvPicPr/>
          <p:nvPr/>
        </p:nvPicPr>
        <p:blipFill>
          <a:blip r:embed="rId9"/>
          <a:srcRect l="7019" t="0" r="22540" b="0"/>
          <a:stretch/>
        </p:blipFill>
        <p:spPr>
          <a:xfrm>
            <a:off x="179640" y="3501000"/>
            <a:ext cx="1743840" cy="3140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pozdravka.com/_ph/98/672203180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5840" y="0"/>
            <a:ext cx="912780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Title 1"/>
          <p:cNvSpPr/>
          <p:nvPr/>
        </p:nvSpPr>
        <p:spPr>
          <a:xfrm>
            <a:off x="3427920" y="4869000"/>
            <a:ext cx="54288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спехов Вам в воспитании Ваших дет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51640" y="548640"/>
            <a:ext cx="8521920" cy="59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 подготовке ребенка к школе важно формировать  не столько знания, скольк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ческую готовность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дущего первоклассника к наступлению нового этапа в его жизни -  школьного де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 родителей также требуется определенная психологическая готовность помочь ребенку вступить в новый ми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5:prstTrans prst="fallOver"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5640" y="908640"/>
            <a:ext cx="802620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ческой готовность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школьному обучению понимается уровен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сихического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ка, необходимый и достаточный для успешного освоения школьной учебной программы в условиях обучения в коллективе сверст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И.В. Дубров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"/>
          <p:cNvSpPr/>
          <p:nvPr/>
        </p:nvSpPr>
        <p:spPr>
          <a:xfrm>
            <a:off x="179640" y="836640"/>
            <a:ext cx="8712720" cy="4782240"/>
          </a:xfrm>
          <a:prstGeom prst="rect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76200">
            <a:solidFill>
              <a:srgbClr val="98b855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уровня  психологической готовности ребенка к обучению в школе 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успешность школьного обучения на начальном этап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тношение ребенка к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заимоотношения ребенк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6567395"/>
              </p:ext>
            </p:extLst>
          </p:nvPr>
        </p:nvGraphicFramePr>
        <p:xfrm>
          <a:off x="107640" y="188640"/>
          <a:ext cx="8856720" cy="6669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95" name="TextBox 4"/>
          <p:cNvSpPr/>
          <p:nvPr/>
        </p:nvSpPr>
        <p:spPr>
          <a:xfrm>
            <a:off x="0" y="908640"/>
            <a:ext cx="2915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ллектуальная   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7640" y="3069000"/>
            <a:ext cx="201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чно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33440" y="5055840"/>
            <a:ext cx="20502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сихол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943360" y="649800"/>
            <a:ext cx="604836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чь (словарный запа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ые познавательные процессы (внимание память, мышл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ранственная ориент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3215880" y="2953800"/>
            <a:ext cx="501624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позиции «Я школьник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моциональная устойч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ес к 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бная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870640" y="4862160"/>
            <a:ext cx="5976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ение выстраивать взаимоотношение со сверстниками и взросл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ральная гото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ые коммуникативные качеств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cf.ppt-online.org/files/slide/q/QNCI2JvBZh5dEoHRgn0YfOeV6GKkp4cs8TF7D1/slide-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10600" y="116640"/>
            <a:ext cx="5122440" cy="863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Фактор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640" y="1124640"/>
            <a:ext cx="8928720" cy="56163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чность педагог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ллектив одноклассников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вый режим дн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граничение двигательной активност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вые обязанности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414070858"/>
              </p:ext>
            </p:extLst>
          </p:nvPr>
        </p:nvGraphicFramePr>
        <p:xfrm>
          <a:off x="-324720" y="0"/>
          <a:ext cx="972072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107640" y="865440"/>
            <a:ext cx="8928720" cy="80449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chemeClr val="dk1"/>
                </a:solidFill>
                <a:latin typeface="Century"/>
              </a:rPr>
              <a:t>непослушание, игнорирование просьб родителе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chemeClr val="dk1"/>
                </a:solidFill>
                <a:latin typeface="Century"/>
              </a:rPr>
              <a:t>частая смена настроения, каприз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chemeClr val="dk1"/>
                </a:solidFill>
                <a:latin typeface="Century"/>
              </a:rPr>
              <a:t>упрямство, отрицание очевидного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chemeClr val="dk1"/>
                </a:solidFill>
                <a:latin typeface="Century"/>
              </a:rPr>
              <a:t>повышенная тревож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chemeClr val="dk1"/>
                </a:solidFill>
                <a:latin typeface="Century"/>
              </a:rPr>
              <a:t>болезненная реакция на критик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600" spc="-1" strike="noStrike">
                <a:solidFill>
                  <a:schemeClr val="dk1"/>
                </a:solidFill>
                <a:latin typeface="Century"/>
              </a:rPr>
              <a:t>желание привлечь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2195640" y="0"/>
            <a:ext cx="4176000" cy="7599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 u="sng">
                <a:solidFill>
                  <a:schemeClr val="dk1"/>
                </a:solidFill>
                <a:uFillTx/>
                <a:latin typeface="Book Antiqua"/>
              </a:rPr>
              <a:t>Вы заметите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  <Words>395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21:28:22Z</dcterms:created>
  <dc:creator>Лариса</dc:creator>
  <dc:description/>
  <dc:language>en-US</dc:language>
  <cp:lastModifiedBy>Пользователь Windows</cp:lastModifiedBy>
  <dcterms:modified xsi:type="dcterms:W3CDTF">2018-01-26T10:32:04Z</dcterms:modified>
  <cp:revision>68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