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83138"/>
        <c:axId val="28189445"/>
      </c:barChart>
      <c:catAx>
        <c:axId val="36583138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89445"/>
        <c:crosses val="autoZero"/>
        <c:auto val="1"/>
        <c:lblAlgn val="ctr"/>
        <c:lblOffset val="100"/>
        <c:noMultiLvlLbl val="0"/>
      </c:catAx>
      <c:valAx>
        <c:axId val="28189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83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180-0247-45F4-A42C-3253B4D7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3AD-A1BB-489E-A810-F2E99F2A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AF0-2497-4272-9875-CD9DDD86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F33-D825-4651-A512-826D288B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3D0-7908-43DF-95D6-8E0361A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32D-D871-4260-B28F-8B9C843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006-9204-4F16-B2DA-DB6F6DC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2F7-6805-4797-ADCF-1FD7FD19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B76-BD93-4C54-9623-5E4EED5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854-9B07-4E3F-A24C-E4887E2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B4E-6F85-41AC-B83B-ED6C1A6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96F-E32C-4604-8A9C-0AAA8511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2BF0-8794-4F32-8BE0-C939161FEB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09160"/>
            <a:ext cx="906948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ПК</a:t>
            </a:r>
            <a:br>
              <a:rPr sz="1800"/>
            </a:b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ДЕЯТЕЛЬНОСТЬ КЛАССНОГО РУКОВОДИТЕЛЯ </a:t>
            </a:r>
            <a:br>
              <a:rPr sz="2600"/>
            </a:b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ПО ПРОФИЛАКТИКЕ БЕЗНАДЗОРНОСТИ</a:t>
            </a:r>
            <a:br>
              <a:rPr sz="2600"/>
            </a:b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 И ПРАВОНАРУШЕНИЙ НЕСОВЕРШЕННОЛЕТ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6520" y="1800360"/>
            <a:ext cx="906912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4000" y="6264360"/>
            <a:ext cx="6983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СОШ №12 ГИАГИ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ВТОВА И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1008072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10223640" cy="752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3280" y="1768320"/>
          <a:ext cx="9069480" cy="4988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08360" y="4103640"/>
            <a:ext cx="439272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80" y="-87480"/>
            <a:ext cx="10078920" cy="77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632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-864000"/>
            <a:ext cx="964728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ИР СТАНЕТ ЛУЧШЕ НА НАШЕЙ ПЛАНЕТЕ, ЕСЛИ СЧАСТЛИВЫ БУДУТ ВСЕ ДЕ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1944720" y="7241760"/>
            <a:ext cx="15508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8-01-31T17:56:20Z</dcterms:modified>
  <cp:revision>6</cp:revision>
  <dc:subject/>
  <dc:title/>
</cp:coreProperties>
</file>