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9EA-C426-4690-82D0-C740BF5D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12A-332A-41EF-B0E0-D5958F2D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089-53DE-407C-A58C-2D449CF3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630-CC9C-4FCD-B7DA-FAAE26B0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BD99-7AE9-4A26-AAD2-2609C6AD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F34F-8C23-4873-98DC-A7FBA992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94AE-798C-4086-840E-EA84DC1F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5F8C-59A9-41F5-93F0-BE1CA59C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23C1-4D6D-4429-A175-12965FD2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0ACB-B9B4-4031-93DE-815FFAF8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A2A5-FD9D-4C15-9EE6-D5C9A89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039-33F1-436B-A356-E9AE2FBD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BDFD-54D2-44EA-8853-E66C0C7E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3273-0FFF-4094-B9E5-42ADE71B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4D15-E6B4-4E6D-8331-F85158A8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5EA-73B8-4502-B550-B285FA1B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6A9A-EA11-452F-B8E9-1F08DE24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CEEC3-778B-42F7-B39C-6C4D44CA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5E49-53F9-4E82-B74E-BD71A26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A2F6-87D7-4E11-9592-006F7433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50F1-E5E6-40DF-ADCA-0832F49B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00E8-5BBA-49D9-B40F-E62E0369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C1C-31B6-403F-9121-0B4D84E7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DBA6-A2FE-41E3-BBDD-EDF4ABE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1FEE-12AE-4E25-BA09-D11D0411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98D1-D8CF-4B0F-9391-C65739D8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8088-2489-4681-A7D0-6CD633C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1162-2E6E-4740-8C75-C97E3FB8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4170-2A8E-4281-92EB-EC407BDB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6320-E22A-4A50-8607-BBE20DB6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9907-5C15-46D6-8BD7-D563D5E5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6DEB-92ED-465E-84F7-DDF27AEE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6A4C-0050-4CC3-A7B5-9A78B9F6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D69-DAC7-4D0D-90A3-A13F34D5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7724-75A4-45BE-92E3-4E716BAF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D2D58-8FE8-4734-8B98-FC67407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E6A1-C3A1-4524-8F45-6CD681D5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75C98-9E39-4056-8A23-D5B8A01D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CA9F-043E-423F-9A5D-4EDAC68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FA09-2A93-436F-BD54-3CDC4ED1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C038-B6E1-4CF0-94DC-F9E55028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3392-E11C-4B71-B588-0D6EDBF9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AC18-6784-40D1-BEC9-DB7D78C0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7BD-A10F-4DE8-B0E4-A108F782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18A-511D-452D-A155-F7DA2516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FA2-1735-4CA5-A7FD-5248CAEC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26B-B469-41F5-8F87-AE5D33DF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E74-DD51-424A-A14D-1EE07CE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1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5F25-3E22-49C9-A80A-2197DFFEA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383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424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465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7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506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54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588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629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45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89F-472A-4C76-BC7D-9A2253E77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89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130F-998D-46BD-9AD3-2AD23B718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133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00AF-BCA8-4E85-9859-D3EF9928E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17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218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259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300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e86"/>
            </a:gs>
            <a:gs pos="100000">
              <a:srgbClr val="ffebdb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Прямоугольник 11"/>
          <p:cNvGrpSpPr/>
          <p:nvPr/>
        </p:nvGrpSpPr>
        <p:grpSpPr>
          <a:xfrm>
            <a:off x="158760" y="171360"/>
            <a:ext cx="8826480" cy="6515280"/>
            <a:chOff x="158760" y="171360"/>
            <a:chExt cx="8826480" cy="6515280"/>
          </a:xfrm>
        </p:grpSpPr>
        <p:pic>
          <p:nvPicPr>
            <p:cNvPr id="342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58760" y="171360"/>
              <a:ext cx="882648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Рисунок 12" descr="70ed2b2bea45.png"/>
          <p:cNvPicPr/>
          <p:nvPr/>
        </p:nvPicPr>
        <p:blipFill>
          <a:blip r:embed="rId3"/>
          <a:stretch/>
        </p:blipFill>
        <p:spPr>
          <a:xfrm>
            <a:off x="7093080" y="5489640"/>
            <a:ext cx="1850760" cy="13683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Единственное и множественное число имён существитель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611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Box 1"/>
          <p:cNvSpPr/>
          <p:nvPr/>
        </p:nvSpPr>
        <p:spPr>
          <a:xfrm>
            <a:off x="479520" y="1125360"/>
            <a:ext cx="7336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Monotype Corsiva"/>
              </a:rPr>
              <a:t>Работа по учебни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Box 1"/>
          <p:cNvSpPr/>
          <p:nvPr/>
        </p:nvSpPr>
        <p:spPr>
          <a:xfrm>
            <a:off x="1332000" y="404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Arial"/>
              </a:rPr>
              <a:t>Закреп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" descr=""/>
          <p:cNvPicPr/>
          <p:nvPr/>
        </p:nvPicPr>
        <p:blipFill>
          <a:blip r:embed="rId1"/>
          <a:stretch/>
        </p:blipFill>
        <p:spPr>
          <a:xfrm>
            <a:off x="2879640" y="1684440"/>
            <a:ext cx="33829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304560" y="285840"/>
            <a:ext cx="79408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йди существительные которые употребляются тольк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форме множествен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285840" y="1268280"/>
            <a:ext cx="1427040" cy="23529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"/>
          <p:cNvPicPr/>
          <p:nvPr/>
        </p:nvPicPr>
        <p:blipFill>
          <a:blip r:embed="rId2"/>
          <a:stretch/>
        </p:blipFill>
        <p:spPr>
          <a:xfrm>
            <a:off x="1908000" y="1452600"/>
            <a:ext cx="2951280" cy="2217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" descr=""/>
          <p:cNvPicPr/>
          <p:nvPr/>
        </p:nvPicPr>
        <p:blipFill>
          <a:blip r:embed="rId3"/>
          <a:stretch/>
        </p:blipFill>
        <p:spPr>
          <a:xfrm>
            <a:off x="5411880" y="1773360"/>
            <a:ext cx="2849400" cy="13428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" descr="http://www.pynet.su/_nw/31/s55505334.jpg"/>
          <p:cNvPicPr/>
          <p:nvPr/>
        </p:nvPicPr>
        <p:blipFill>
          <a:blip r:embed="rId4"/>
          <a:srcRect l="0" t="4997" r="0" b="16664"/>
          <a:stretch/>
        </p:blipFill>
        <p:spPr>
          <a:xfrm>
            <a:off x="568440" y="4440240"/>
            <a:ext cx="1915920" cy="15001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" descr="D:\клипарты\мебель\38e776db76c3.png"/>
          <p:cNvPicPr/>
          <p:nvPr/>
        </p:nvPicPr>
        <p:blipFill>
          <a:blip r:embed="rId5"/>
          <a:stretch/>
        </p:blipFill>
        <p:spPr>
          <a:xfrm>
            <a:off x="3251160" y="3413160"/>
            <a:ext cx="1982880" cy="2960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" descr="http://pbs.twimg.com/media/A8NtnFDCAAEsWtf.jpg:large"/>
          <p:cNvPicPr/>
          <p:nvPr/>
        </p:nvPicPr>
        <p:blipFill>
          <a:blip r:embed="rId6"/>
          <a:stretch/>
        </p:blipFill>
        <p:spPr>
          <a:xfrm>
            <a:off x="5380200" y="3621240"/>
            <a:ext cx="2414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2"/>
          <p:cNvSpPr/>
          <p:nvPr/>
        </p:nvSpPr>
        <p:spPr>
          <a:xfrm>
            <a:off x="1692360" y="177336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7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3"/>
          <p:cNvSpPr/>
          <p:nvPr/>
        </p:nvSpPr>
        <p:spPr>
          <a:xfrm>
            <a:off x="468360" y="527040"/>
            <a:ext cx="828036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делай фонетический разбор слов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Прямоугольник 4" descr=""/>
          <p:cNvPicPr/>
          <p:nvPr/>
        </p:nvPicPr>
        <p:blipFill>
          <a:blip r:embed="rId1"/>
          <a:stretch/>
        </p:blipFill>
        <p:spPr>
          <a:xfrm>
            <a:off x="1798560" y="950760"/>
            <a:ext cx="4754520" cy="1567080"/>
          </a:xfrm>
          <a:prstGeom prst="rect">
            <a:avLst/>
          </a:prstGeom>
          <a:ln w="0">
            <a:noFill/>
          </a:ln>
        </p:spPr>
      </p:pic>
      <p:sp>
        <p:nvSpPr>
          <p:cNvPr id="673" name="Прямоугольник 5"/>
          <p:cNvSpPr/>
          <p:nvPr/>
        </p:nvSpPr>
        <p:spPr>
          <a:xfrm>
            <a:off x="295200" y="24987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м у р а в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й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3 слога, 7 звуков, 7 бук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6"/>
          <p:cNvSpPr/>
          <p:nvPr/>
        </p:nvSpPr>
        <p:spPr>
          <a:xfrm>
            <a:off x="295200" y="3017880"/>
            <a:ext cx="884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[ м ] – согласный, звонкий, твёрды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7"/>
          <p:cNvSpPr/>
          <p:nvPr/>
        </p:nvSpPr>
        <p:spPr>
          <a:xfrm>
            <a:off x="302400" y="35416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[ у ] – гласный, безударны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295200" y="397512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[ р ] – согласный, звонкий, твёрды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0"/>
          <p:cNvSpPr/>
          <p:nvPr/>
        </p:nvSpPr>
        <p:spPr>
          <a:xfrm>
            <a:off x="295200" y="44766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[ а ] – гласный, безударны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1"/>
          <p:cNvSpPr/>
          <p:nvPr/>
        </p:nvSpPr>
        <p:spPr>
          <a:xfrm>
            <a:off x="279360" y="4941720"/>
            <a:ext cx="67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[в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] – согласный, звонкий, мягк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"/>
          <p:cNvSpPr/>
          <p:nvPr/>
        </p:nvSpPr>
        <p:spPr>
          <a:xfrm>
            <a:off x="295200" y="5454720"/>
            <a:ext cx="69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[й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] – согласный, звонкий, мягк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3"/>
          <p:cNvSpPr/>
          <p:nvPr/>
        </p:nvSpPr>
        <p:spPr>
          <a:xfrm>
            <a:off x="301680" y="5978520"/>
            <a:ext cx="61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[ и ] – гласный, удар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314280" y="333360"/>
            <a:ext cx="8856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Arial"/>
              </a:rPr>
              <a:t>Без топора по дрова не ходя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Arial"/>
              </a:rPr>
              <a:t>Крепкую дружбу и топором не разрубиш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5"/>
          <p:cNvSpPr/>
          <p:nvPr/>
        </p:nvSpPr>
        <p:spPr>
          <a:xfrm>
            <a:off x="1547640" y="5229360"/>
            <a:ext cx="51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т</a:t>
            </a:r>
            <a:r>
              <a:rPr b="1" i="1" lang="ru-RU" sz="6000" spc="-1" strike="noStrike" u="sng">
                <a:solidFill>
                  <a:srgbClr val="c00000"/>
                </a:solidFill>
                <a:uFillTx/>
                <a:latin typeface="Arial"/>
              </a:rPr>
              <a:t>о</a:t>
            </a:r>
            <a:r>
              <a:rPr b="1" i="1" lang="ru-RU" sz="6000" spc="-1" strike="noStrike">
                <a:solidFill>
                  <a:srgbClr val="000099"/>
                </a:solidFill>
                <a:latin typeface="Arial"/>
              </a:rPr>
              <a:t>п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6"/>
          <p:cNvSpPr/>
          <p:nvPr/>
        </p:nvSpPr>
        <p:spPr>
          <a:xfrm flipH="1">
            <a:off x="4775040" y="5240160"/>
            <a:ext cx="144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99"/>
                </a:solidFill>
                <a:latin typeface="Monotype Corsiva"/>
              </a:rPr>
              <a:t>Новый материа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2" descr="&amp;Gcy;&amp;iecy;&amp;ocy;&amp;gcy;&amp;rcy;&amp;acy;&amp;fcy;&amp;icy;&amp;yacy; 8 &amp;kcy;&amp;lcy;&amp;acy;&amp;scy;&amp;scy; &amp;rcy;&amp;acy;&amp;kcy;&amp;ocy;&amp;vcy;&amp;scy;&amp;kcy;&amp;acy;&amp;yacy; &amp;ucy;&amp;chcy;&amp;iecy;&amp;bcy;&amp;ncy;&amp;icy;&amp;kcy; - &amp;Scy;&amp;acy;&amp;mcy;&amp;ycy;&amp;iecy; &amp;ncy;&amp;ocy;&amp;vcy;&amp;ycy;&amp;iecy; &amp;ucy;&amp;chcy;&amp;iecy;&amp;bcy;&amp;ncy;&amp;icy;&amp;kcy;&amp;icy;"/>
          <p:cNvPicPr/>
          <p:nvPr/>
        </p:nvPicPr>
        <p:blipFill>
          <a:blip r:embed="rId1"/>
          <a:stretch/>
        </p:blipFill>
        <p:spPr>
          <a:xfrm>
            <a:off x="2843280" y="2276640"/>
            <a:ext cx="30178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4"/>
          <p:cNvSpPr/>
          <p:nvPr/>
        </p:nvSpPr>
        <p:spPr>
          <a:xfrm>
            <a:off x="620280" y="534960"/>
            <a:ext cx="79225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читай имена существительные. Попробуй образ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т них форму единствен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>
            <a:off x="463320" y="1571760"/>
            <a:ext cx="8434800" cy="253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Calibri"/>
              </a:rPr>
              <a:t>Ножницы, клещи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Calibri"/>
              </a:rPr>
              <a:t>коньки, брюк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http://chelkon.ru/wp-content/uploads/2011/11/13915a3cae0b7428434c3103f61744f4.jpg"/>
          <p:cNvPicPr/>
          <p:nvPr/>
        </p:nvPicPr>
        <p:blipFill>
          <a:blip r:embed="rId1"/>
          <a:stretch/>
        </p:blipFill>
        <p:spPr>
          <a:xfrm>
            <a:off x="900000" y="443700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" descr="http://i.crazys.info/files/i/2011.10.25/konek_fitness.jpg"/>
          <p:cNvPicPr/>
          <p:nvPr/>
        </p:nvPicPr>
        <p:blipFill>
          <a:blip r:embed="rId2"/>
          <a:stretch/>
        </p:blipFill>
        <p:spPr>
          <a:xfrm>
            <a:off x="5148360" y="4248000"/>
            <a:ext cx="19159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>
            <a:off x="532800" y="773280"/>
            <a:ext cx="79225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читай имена существительные. Попробуй образ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т них форму множествен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500040" y="2492280"/>
            <a:ext cx="7988400" cy="253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Calibri"/>
              </a:rPr>
              <a:t>Сахар, грусть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Calibri"/>
              </a:rPr>
              <a:t>соль, молоко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724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>
            <a:off x="726840" y="285840"/>
            <a:ext cx="7834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Употребляются только в единственном чи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2"/>
          <p:cNvSpPr/>
          <p:nvPr/>
        </p:nvSpPr>
        <p:spPr>
          <a:xfrm>
            <a:off x="428760" y="1000080"/>
            <a:ext cx="8429400" cy="545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Названия продуктов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молоко, масло, кефир, мясо, сахар, соль, сметана, картофель, л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овокупность предметов: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обувь, одежда, посуда, меб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Некоторые действия: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охота, борьба, пла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тмосферные проявления: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град, воздух, наводнение, мет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Чувства: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сила, боль, здоровье, любовь, гн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лова иностранного происхождения: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метро, радио, кино, паль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Box 1"/>
          <p:cNvSpPr/>
          <p:nvPr/>
        </p:nvSpPr>
        <p:spPr>
          <a:xfrm>
            <a:off x="390600" y="547560"/>
            <a:ext cx="8378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Употребляются только во множественном чи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353880" y="2060640"/>
            <a:ext cx="8445600" cy="301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Грабли, очки, брюки, сани, штаны, часы, весы, деньги, духи, консервы, сутки, ножницы, чернила, качел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User</cp:lastModifiedBy>
  <dcterms:modified xsi:type="dcterms:W3CDTF">2017-01-24T19:33:44Z</dcterms:modified>
  <cp:revision>58</cp:revision>
  <dc:subject/>
  <dc:title>Слайд 1</dc:title>
</cp:coreProperties>
</file>