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C434-9467-41ED-B7B2-246D745CB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7808-F04C-43F2-8403-D2D065C0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3775-7389-44F4-8F48-A65591C26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DD2A-5070-4764-8463-22F0D4092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AA65-817B-4D28-A782-D8DA2BEB4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754F-EDD6-4D50-BDA7-146EF395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CB17-45A2-4829-816F-BC85C965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B3CB-E9FE-4942-9053-024D55DB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81E8-6A5A-456D-8DA9-75AD2512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7925-D1D8-4BD1-B2F2-9ECD3246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957D-9815-4650-9A1C-EFFB235B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32E9-DD8F-4972-9E83-9E8B7191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6039-9394-416F-82E5-8A2CD703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115B-A061-46EE-9582-822FF580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1D57-745D-44CB-A695-5F1F6F1A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1BDF-EAAC-4933-97D9-4446BAF5D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4627-C0FC-4149-B7CD-E8270D545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53815-FC4E-4150-AB19-857FC621B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677DF-EBE1-4C5A-8C91-81B12993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BAFB5-4ABB-407B-939B-17BC36B4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090E9-2C62-43EF-BA1C-781EF111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3DB3F-C3CF-453E-8F5F-90FE22BD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9F5E-BEC8-492C-AA53-F74FA18B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9FF82-017E-4AA3-895F-C89A3FAC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05B09-51C6-4338-8D8A-0A8C4BD8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99BA9-9A42-4A46-B92F-8B787CC6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709CC-2DCF-4A39-9C71-E703C460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B70DB-2537-4045-B690-D30E644C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48038-54F7-46ED-BA38-3AC339693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ABAB3-4043-4886-A1DC-02D4495EE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76608-FDFE-4EB7-9D66-3CFD2C973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EAF02-0C51-4D8C-A89A-DE146D3F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BA636-7F88-499B-B100-EADFE267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7145-815E-43B1-8CEE-42BF7FEB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3BC05-560B-4191-8A1C-8C410A23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A7D2A-21DD-49EE-99BE-935EFB34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B1E58-361F-4C0B-B8C9-8B681C3E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A5CD9-52BA-4156-9DF7-27BD70A3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4A519-7D35-4C9B-8089-A7A2D1FD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2F261-3BCB-4FF0-BD43-5B3AC4AB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859AE-15F6-4173-9B30-104282BC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997FB-5B4E-4133-8717-20B2F3CE4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49B94-5092-4269-92B2-3F2C81504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E053C-7DB5-4600-B6B6-D3E4B8C90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0779-07B8-4296-9C8D-88AF420A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191CA-953E-418E-927D-B8EE8F90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E2FDC-C67E-47D3-94A6-A2BCA3D8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A31F0-7B09-49D7-928D-9600EFAE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DF94D-8F28-4575-BCCB-853E0976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915BE-FB10-494E-B214-386C8844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7FF0C-D697-466B-BF17-30191DDE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AE1FD-76B4-45B5-830F-8F5F9E60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5DEAA-B29B-43FD-9FF0-54353318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84F6C-9225-4251-B01D-311FE1FE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A404C-3C65-4D43-BEEB-ED104FF92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2E2C-AA10-4E15-BD53-F108B7A0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09DB4-254D-45AE-9E49-4FA43986E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A407-6A6B-4BBC-AC3E-011C33D7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4A7A-335C-45DB-97F7-7B160C9F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2736-356E-4B96-AE61-3E21BD18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E7AC-AF18-4AD9-B7D7-557894F21425}" type="slidenum">
              <a:rPr b="0" lang="ru-RU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E9C3-CBE3-4669-8789-645112C28CF1}" type="slidenum">
              <a:rPr b="0" lang="ru-RU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0776-07A8-49E5-9A5D-EA4AB5FDBA6F}" type="slidenum">
              <a:rPr b="0" lang="ru-RU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EE3A-92C1-4702-8220-0BD98D649A2B}" type="slidenum">
              <a:rPr b="0" lang="ru-RU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B661-F447-4E76-A62C-1746C5E75A9D}" type="slidenum">
              <a:rPr b="0" lang="ru-RU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transantique.ru/articles/view/id/521" TargetMode="External"/><Relationship Id="rId2" Type="http://schemas.openxmlformats.org/officeDocument/2006/relationships/hyperlink" Target="http://sna-kantata.ru/istoriya-detskoy-kolyibeli-chudo-iz-glubinyi-vekov/" TargetMode="External"/><Relationship Id="rId3" Type="http://schemas.openxmlformats.org/officeDocument/2006/relationships/hyperlink" Target="http://sna-kantata.ru/istoriya-detskoy-kolyibeli-chudo-iz-glubinyi-vekov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5" descr="bestgif"/>
          <p:cNvPicPr/>
          <p:nvPr/>
        </p:nvPicPr>
        <p:blipFill>
          <a:blip r:embed="rId1"/>
          <a:stretch/>
        </p:blipFill>
        <p:spPr>
          <a:xfrm>
            <a:off x="1258920" y="1557360"/>
            <a:ext cx="6624720" cy="50464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Verdana"/>
              </a:rPr>
              <a:t>ПРОЕКТ</a:t>
            </a:r>
            <a:br>
              <a:rPr sz="3200"/>
            </a:br>
            <a:br>
              <a:rPr sz="3200"/>
            </a:br>
            <a:r>
              <a:rPr b="1" i="1" lang="ru-RU" sz="4400" spc="-1" strike="noStrike" u="sng">
                <a:solidFill>
                  <a:srgbClr val="ff0066"/>
                </a:solidFill>
                <a:uFillTx/>
                <a:latin typeface="Verdana"/>
              </a:rPr>
              <a:t>КОЛЫБЕЛЬ  </a:t>
            </a:r>
            <a:endParaRPr b="1" lang="en-US" sz="44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22" name="TextBox 1"/>
          <p:cNvSpPr/>
          <p:nvPr/>
        </p:nvSpPr>
        <p:spPr>
          <a:xfrm>
            <a:off x="4643280" y="4724280"/>
            <a:ext cx="414360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полнила ученица 2 «г»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У «СОШ р.п. Озинк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ибут Кар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уководитель Ионина В.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680" y="500040"/>
            <a:ext cx="8115120" cy="25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 историей колыбели мы знакомились на уроке литературного чтения и дома с моими родными. А мой дедушка, видя моё увлечение, сделал мне подарок -  колыбель для моих кукол. Теперь рада и я и мои куклы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Современные колыбельки отличаются, от тех которые использовались в старину они удобные, красивые,  уютные!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ы думаем, что колыбели всех времен – это чудо из глубины веков, созданное с любовью для самых  сладких снов младенца.</a:t>
            </a:r>
            <a:br>
              <a:rPr sz="3200"/>
            </a:br>
            <a:endParaRPr b="1" lang="en-US" sz="1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5003640" y="1484280"/>
            <a:ext cx="374508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" descr=""/>
          <p:cNvPicPr/>
          <p:nvPr/>
        </p:nvPicPr>
        <p:blipFill>
          <a:blip r:embed="rId1"/>
          <a:stretch/>
        </p:blipFill>
        <p:spPr>
          <a:xfrm>
            <a:off x="1857240" y="2857680"/>
            <a:ext cx="58579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e49"/>
                </a:solidFill>
                <a:latin typeface="Verdana"/>
              </a:rPr>
              <a:t>Спасибо за внимание!</a:t>
            </a:r>
            <a:endParaRPr b="1" lang="en-US" sz="45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25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терне-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611c"/>
                </a:solidFill>
                <a:uFillTx/>
                <a:latin typeface="Verdana"/>
                <a:hlinkClick r:id="rId1"/>
              </a:rPr>
              <a:t>http://www.transantique.ru/articles/view/id/52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611c"/>
                </a:solidFill>
                <a:uFillTx/>
                <a:latin typeface="Verdana"/>
                <a:hlinkClick r:id="rId2"/>
              </a:rPr>
              <a:t>http://sna-kantata.ru/istoriya-detskoy-kolyibeli-chudo-iz-glubinyi-vekov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611c"/>
                </a:solidFill>
                <a:uFillTx/>
                <a:latin typeface="Verdana"/>
                <a:hlinkClick r:id="rId3"/>
              </a:rPr>
              <a:t>http://sna-kantata.ru/istoriya-detskoy-kolyibeli-chudo-iz-glubinyi-vekov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258400" cy="57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Цель: Изучить историю детской колыбел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дачи: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.Выяснить происхождение слов «колыбель», «люлька», «зыбка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.Узнать, какие виды колыбелей изготавливались в старин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.Изучить традиции, связанные с детской колыбелью, которые соблюдались в старин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4.Выявить, какую роль играла колыбель в жизни деревенской женщины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етоды исследования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.Изучение информации интернета 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.Посещения детской библиотек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. Беседа со взрослы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4.Чтение познавательной литератур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ипотеза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сегда ли были колыбели, такими как сейчас? </a:t>
            </a:r>
            <a:br>
              <a:rPr sz="1800"/>
            </a:br>
            <a:endParaRPr b="1" lang="en-US" sz="1800" spc="-1" strike="noStrike">
              <a:solidFill>
                <a:srgbClr val="ff8e4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71680" y="285480"/>
            <a:ext cx="8286480" cy="6072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е девочки любят играть в «Дочки - матери». Своих кукол мы катаем в колясках, укачиваем в колыбелях и мне стало интересно, как раньше мамы укачивали своих малышей? Из чего изготавливали колыбели? Всегда ли были колыбели, такими как сейчас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ы решили раскрыть все эти тайны и провести исследовательскую работу изучить историю детской колыбел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е девочки любят играть в «Дочки - матери». Своих кукол мы катаем в колясках, укачиваем в колыбелях и мне стало интересно, как раньше мамы укачивали своих малышей? Из чего изготавливали колыбели? Всегда ли были колыбели, такими как сейчас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ы решили раскрыть все эти тайны и провести исследовательскую работу изучить историю детской колыбел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680" y="642600"/>
            <a:ext cx="785808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лыбель мастерили в виде деревянного ящика, иногда колыбель представляла собой пяльцы, обшитые холстом и привешенные за углы на веревках, были плетеные колыбели из лозы, дранки, соломы или в форме прямоугольной деревянной рамы, обтянутой тканью.</a:t>
            </a:r>
            <a:endParaRPr b="1" lang="en-US" sz="2000" spc="-1" strike="noStrike">
              <a:solidFill>
                <a:srgbClr val="ff8e49"/>
              </a:solidFill>
              <a:latin typeface="Verdana"/>
            </a:endParaRPr>
          </a:p>
        </p:txBody>
      </p:sp>
      <p:pic>
        <p:nvPicPr>
          <p:cNvPr id="226" name="Picture" descr=""/>
          <p:cNvPicPr/>
          <p:nvPr/>
        </p:nvPicPr>
        <p:blipFill>
          <a:blip r:embed="rId1"/>
          <a:stretch/>
        </p:blipFill>
        <p:spPr>
          <a:xfrm>
            <a:off x="1000080" y="3571920"/>
            <a:ext cx="3214800" cy="2143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" descr=""/>
          <p:cNvPicPr/>
          <p:nvPr/>
        </p:nvPicPr>
        <p:blipFill>
          <a:blip r:embed="rId2"/>
          <a:stretch/>
        </p:blipFill>
        <p:spPr>
          <a:xfrm>
            <a:off x="5143680" y="3643200"/>
            <a:ext cx="30715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8400" y="642600"/>
            <a:ext cx="8329320" cy="30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старину  в каждой семье имелась своя счастливая люлька,  изготавливалась  она с  любовью и добрым сердцем, и передавалась она от поколения к поколению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бирался материал для будущей зыбки из прочного дерева, она могла прослужить 200 лет.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К зыбке крепились различные яркие вещички — разноцветные лоскуточки ткани, расписные ложечки. Внутрь помещали маленькие иконки и кресты.  Колыбель подвешивали к потолку, потому что у  потолка скапливался самый теплый воздух – это обеспечивало обогрев малышу</a:t>
            </a:r>
            <a:endParaRPr b="1" lang="en-US" sz="1800" spc="-1" strike="noStrike">
              <a:solidFill>
                <a:srgbClr val="ff8e49"/>
              </a:solidFill>
              <a:latin typeface="Verdana"/>
            </a:endParaRPr>
          </a:p>
        </p:txBody>
      </p:sp>
      <p:pic>
        <p:nvPicPr>
          <p:cNvPr id="229" name="Picture" descr=""/>
          <p:cNvPicPr/>
          <p:nvPr/>
        </p:nvPicPr>
        <p:blipFill>
          <a:blip r:embed="rId1"/>
          <a:stretch/>
        </p:blipFill>
        <p:spPr>
          <a:xfrm>
            <a:off x="3071880" y="3857760"/>
            <a:ext cx="292896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" descr=""/>
          <p:cNvPicPr/>
          <p:nvPr/>
        </p:nvPicPr>
        <p:blipFill>
          <a:blip r:embed="rId1"/>
          <a:stretch/>
        </p:blipFill>
        <p:spPr>
          <a:xfrm>
            <a:off x="1071720" y="642960"/>
            <a:ext cx="2000160" cy="2214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" descr=""/>
          <p:cNvPicPr/>
          <p:nvPr/>
        </p:nvPicPr>
        <p:blipFill>
          <a:blip r:embed="rId2"/>
          <a:stretch/>
        </p:blipFill>
        <p:spPr>
          <a:xfrm>
            <a:off x="5357880" y="642960"/>
            <a:ext cx="1785960" cy="22147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3286080"/>
            <a:ext cx="82152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нимаясь исследованием, я узнала, что богатые семьи для  укачивания своего дитяти нанимали нянек из бедных крестьян. Это  были девочки семи – восьми лет, среди которых попадались «славные пестуньи» — талантливые нянечки, умеющие быстро успокоить ребенка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убаюкивании использовали колыбельные песни, байки, приговорк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ff8e4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2643120"/>
            <a:ext cx="8183520" cy="33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ного лет спустя стали использоваться больше кроватки-качалки  «ваньки-встаньки»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акая колыбелька качалась из стороны в сторону от легкого прикосновения, ее лишь стоило немного отклонить</a:t>
            </a:r>
            <a:endParaRPr b="1" lang="en-US" sz="3200" spc="-1" strike="noStrike">
              <a:solidFill>
                <a:srgbClr val="ff8e49"/>
              </a:solidFill>
              <a:latin typeface="Verdana"/>
            </a:endParaRPr>
          </a:p>
        </p:txBody>
      </p:sp>
      <p:pic>
        <p:nvPicPr>
          <p:cNvPr id="234" name="Picture" descr=""/>
          <p:cNvPicPr/>
          <p:nvPr/>
        </p:nvPicPr>
        <p:blipFill>
          <a:blip r:embed="rId1"/>
          <a:stretch/>
        </p:blipFill>
        <p:spPr>
          <a:xfrm>
            <a:off x="3714840" y="571680"/>
            <a:ext cx="328608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42600" y="500040"/>
            <a:ext cx="7429320" cy="300024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 зыбками связано много поверий и обрядов: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тобы защитить  ребенка от злых духов, под люльку клали разные колющие предметы: ножи, ножницы или гребен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чать пустую зыбку, строго-настрого запрещалось, считалось, что ребеночек в ней не сможет спокойно спать. Эта примета сохранилась до наших  дне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Picture" descr=""/>
          <p:cNvPicPr/>
          <p:nvPr/>
        </p:nvPicPr>
        <p:blipFill>
          <a:blip r:embed="rId1"/>
          <a:stretch/>
        </p:blipFill>
        <p:spPr>
          <a:xfrm>
            <a:off x="571680" y="4357800"/>
            <a:ext cx="3767040" cy="20714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" descr=""/>
          <p:cNvPicPr/>
          <p:nvPr/>
        </p:nvPicPr>
        <p:blipFill>
          <a:blip r:embed="rId2"/>
          <a:stretch/>
        </p:blipFill>
        <p:spPr>
          <a:xfrm>
            <a:off x="5929200" y="4214880"/>
            <a:ext cx="275760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7200" y="35676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 русского народа была вера в то, что младенец, смеющийся во сне, видит райские благоухающие и волшебные сады. Поэтому колыбели старались украсить царскими птичками, причудливыми цветами и деревцами. В изголовье рисовали лучистое красно солнышко, в ногах — ясный месяц и звезды.             Если младенец благополучно вырастал из колыбельки, то она считалась счастливой и хранилась для следующих дето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Picture 10" descr="http://drevodelatel.ru/uploads/old/articles/2/74769780.jpg"/>
          <p:cNvPicPr/>
          <p:nvPr/>
        </p:nvPicPr>
        <p:blipFill>
          <a:blip r:embed="rId1"/>
          <a:stretch/>
        </p:blipFill>
        <p:spPr>
          <a:xfrm>
            <a:off x="2070000" y="3143160"/>
            <a:ext cx="50500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10:29:25Z</dcterms:created>
  <dc:creator>Татьяна</dc:creator>
  <dc:description/>
  <dc:language>en-US</dc:language>
  <cp:lastModifiedBy>user</cp:lastModifiedBy>
  <dcterms:modified xsi:type="dcterms:W3CDTF">2016-04-27T10:31:59Z</dcterms:modified>
  <cp:revision>20</cp:revision>
  <dc:subject/>
  <dc:title>ПРОЕКТ  КОЛЫБЕЛЬНЫЕ  ПЕСНИ</dc:title>
</cp:coreProperties>
</file>